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167D-DDDA-4199-81A9-07453BF6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B66B-6930-477A-81F8-AF4F096D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3B49-DAAC-492F-9443-41C8785B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E735-A078-4A1C-8393-1BD4B42A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4310-84C6-42EB-A58A-97222C7D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0588-1608-48F6-9CB0-470CD10B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602-8E73-4289-8E95-54D9AC46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37DD-58DB-4FAE-A5F1-DF93C12B8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B55-906F-4124-8B7F-8390FA66B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4CA-A1AB-40FA-B85A-F25F62C8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E3E8-2E5C-4BA3-9ED3-22D6B781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D04A-05C9-46E0-990C-6884ECF4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E2E3-D98B-4C7F-873C-B0A93319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8B65-085B-4745-A4CB-FE553899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45DC-6083-4286-AB76-B52DDF23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D37-DE43-47BB-911B-19E61DD7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B78A-5DDB-4C26-9793-696AD55D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432F-D501-4E0E-8655-05FC894F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8C7-1484-44B6-9B03-F24AB760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325-2F02-4A56-8DFA-EBF44461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75F-76D4-49E5-8957-9444E9D2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E92-A8C2-43E9-A523-07E3CA74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A2D-64D2-4D9A-B3BA-239DA05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558-6DAA-449B-991B-7E76C83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9F4-2E0C-4FE2-934D-F0FC148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992B-3BF5-4520-81BA-D4521661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32F-AB94-46A7-87A2-AFF5F70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D7E-F785-4407-9FC4-6DAD16C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977-A5B5-417B-84D4-37908EC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C4F-9E1D-4382-ACFA-4B6B9DB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6625-2DD7-48BC-BF8A-2CC1FDE56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4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1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77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77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3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5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kids_talking_on_porch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soccer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ogbone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3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Diagram 5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55" name="_s1028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9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0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1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4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5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5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mworsham</cp:lastModifiedBy>
  <dcterms:modified xsi:type="dcterms:W3CDTF">2010-02-07T20:55:22Z</dcterms:modified>
  <cp:revision>10</cp:revision>
  <dc:subject/>
  <dc:title>Slide 1</dc:title>
</cp:coreProperties>
</file>