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CCD6-4FC5-4A9F-892C-2E76D8FB6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106A-A15E-4893-A7D8-BE406EDC9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364A-2C9B-489C-A410-D2A3A1BF7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B957-024B-4B2C-80B1-CBF30F00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1BDE-30DC-4854-A676-121E5E9E5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BBA4-DBFD-4C99-8B94-895368C5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4242-96E5-4C0E-B03C-EAE688CDF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23FF-59A7-421F-9BFC-C696F0DA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8659-D732-4C9E-8093-71A46EF80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1C1-93E5-4537-BEE0-A340B79BC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BD2-64F1-47CA-BFB4-DCC7275D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5B6-12A6-46EB-A9DB-F0C00F2B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0BF-38DA-4F2E-A02E-BE84FCAE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6B6-E71B-4F00-B6D8-8EADF62B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761-BFED-41AC-B9C4-35B2096F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E51-18EE-4D66-AF1B-83AD2731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B81-D539-4512-A2FA-C98E984C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714-C72C-4D24-BB34-6DEB1D62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452-19D8-46D2-857B-0A5CAD6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684-FABA-4A86-AEC3-7A076BC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572-F103-49D0-BF01-2CCE323F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11E-D337-48D7-8686-C80C7A5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43EE-A211-46C7-8A4C-824A09FD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5335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i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anuary 30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9 Day 4 and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905200" y="22860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286000"/>
            <a:ext cx="83818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parrot squawked out m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changed the /m/ into an /ch/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cognize and read contractions ‘ve and ‘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0"/>
            <a:ext cx="815328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contractions are a shorter way to say two words.  The apostrophe in a contraction stands for the missing letters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590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59092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are the contractions in the following sentences and what do they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’ve sung this song bef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We’re going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2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0"/>
            <a:ext cx="861084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e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on the green tea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a new soccer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the ball!  Kick it to 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kicking the ball we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use /e/ e, ee, ea and other known letter-sounds to spell and 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2120" y="1676520"/>
            <a:ext cx="79246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0"/>
            <a:ext cx="83059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t’s read the sentences with our spelling words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with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 c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t your shoes on y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e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m sat down in he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does this word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a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ea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won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turtle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low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s travel on the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o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to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u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g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v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7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809880" y="5486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403848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4952880" y="54864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503316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428652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bjective: To express personal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920"/>
            <a:ext cx="8153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657600" y="12952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988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191120" y="327672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191120" y="4267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75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75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0880"/>
            <a:ext cx="830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669960"/>
            <a:ext cx="2667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914400"/>
            <a:ext cx="2286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2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7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77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8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0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1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7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cognize cause and effect while listening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447920"/>
            <a:ext cx="8001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457200"/>
            <a:ext cx="8686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t’s reread a story we are familiar with.  We will read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ear Wants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 we read let’s see if we can find the cause and effect of this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Remember that what happens in a story is the effect and why it happens is the ca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What happens again and again in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What is the setting of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was the effect of the story (what happened in the story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cause the bear to get stu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9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Arial"/>
              </a:rPr>
              <a:t>Cause and Effe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ffect – wha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ause – why i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hicken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corn hit Chicken Litt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ttle Rabbit’s T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pple hit Little Rabb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r Wants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ar ate too mu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ear got stuc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l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09720" y="1523880"/>
            <a:ext cx="3429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believe everything you hear, even very silly things, you are gulli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ccffff"/>
              </a:gs>
              <a:gs pos="100000">
                <a:srgbClr val="3f939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ull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858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ull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lieved the boy could f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1657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62520" y="1447920"/>
            <a:ext cx="1523880" cy="1066680"/>
          </a:xfrm>
          <a:prstGeom prst="wedgeEllipseCallout">
            <a:avLst>
              <a:gd name="adj1" fmla="val -44476"/>
              <a:gd name="adj2" fmla="val 6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752480"/>
            <a:ext cx="1523880" cy="1067040"/>
          </a:xfrm>
          <a:prstGeom prst="wedgeEllipseCallout">
            <a:avLst>
              <a:gd name="adj1" fmla="val 70731"/>
              <a:gd name="adj2" fmla="val 29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f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you think that you are very gullible to believe something I say, then point to me and say, “You’re so gullibl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sun i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uncle has a pet dinosa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t might rain tomor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grandma’s cat can t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891540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What fruits grow on tre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ich are your favo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n my signal, turn and talk to your partner to complete this 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______________grow on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My favorite fruit is a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5c97b"/>
              </a:gs>
              <a:gs pos="100000">
                <a:srgbClr val="66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ast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 things hastily, you are doing them in a big hurry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572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r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st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et the soccer ball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200664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will describe some situations.  If it is a situation in which you should move hastily then you should run in place and say, “Move hastily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dog is chasing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am picking some flo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’m outside and it’s starting to pour down 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ome one yells, “Fire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5486400" y="1981080"/>
            <a:ext cx="34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unreasonable, you would do things that don’t make s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894d2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ason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6094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be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so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b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4343400" cy="29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87631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will say some things.  If you think that they are unreasonable, then you should shake your head and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t’s so unreasonabl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ild a house all by my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do my homework when I ge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’m going to take my dog for a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y every toy in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1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3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Which request is courte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y I please watch something e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op being unreasonab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Which person does something devi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ike gives his little sister a hu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Amy hides in back of the couch to scare her 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522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What moves rapidly or hasti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soap bubbles float to the gr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blue race car is in the le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Which person is more gull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ry thinks the moon is made of chee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John thinks that water helps plants gr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8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identify and use describing words that tell about color, size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1447920"/>
            <a:ext cx="7848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scrib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724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describing words tell about a thing.  They could tell about the shape, size, and color of a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0"/>
            <a:ext cx="84582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t’s see if we can pick out the describing words in the following sentences.  Some of them may not have any describing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iny brown bird sits in it’s little brown n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ot is a big black 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ring me the red b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us the tallest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cat jumped on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tiny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77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1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3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5" dur="77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48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8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0"/>
            <a:ext cx="8839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Objective: To select a focu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descriptive word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sensory details i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523880"/>
            <a:ext cx="8610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riting a descriptiv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ry about a th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8600"/>
            <a:ext cx="80010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les come in different colors – red, green, and yellow.  Which kind is your favori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n my signal, turn and talk to your partner and fill in this 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 like _______________apples the best because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030680" y="780480"/>
            <a:ext cx="7311240" cy="4993920"/>
            <a:chOff x="1030680" y="780480"/>
            <a:chExt cx="7311240" cy="4993920"/>
          </a:xfrm>
        </p:grpSpPr>
        <p:sp>
          <p:nvSpPr>
            <p:cNvPr id="173" name="_s64526"/>
            <p:cNvSpPr/>
            <p:nvPr/>
          </p:nvSpPr>
          <p:spPr>
            <a:xfrm flipH="1">
              <a:off x="28584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4525"/>
            <p:cNvSpPr/>
            <p:nvPr/>
          </p:nvSpPr>
          <p:spPr>
            <a:xfrm>
              <a:off x="10306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4524"/>
            <p:cNvSpPr/>
            <p:nvPr/>
          </p:nvSpPr>
          <p:spPr>
            <a:xfrm>
              <a:off x="4686120" y="390132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64523"/>
            <p:cNvSpPr/>
            <p:nvPr/>
          </p:nvSpPr>
          <p:spPr>
            <a:xfrm>
              <a:off x="3772080" y="4525560"/>
              <a:ext cx="1827360" cy="124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ack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oo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4522"/>
            <p:cNvSpPr/>
            <p:nvPr/>
          </p:nvSpPr>
          <p:spPr>
            <a:xfrm>
              <a:off x="55998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4521"/>
            <p:cNvSpPr/>
            <p:nvPr/>
          </p:nvSpPr>
          <p:spPr>
            <a:xfrm>
              <a:off x="6513840" y="2652840"/>
              <a:ext cx="182808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quar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64520"/>
            <p:cNvSpPr/>
            <p:nvPr/>
          </p:nvSpPr>
          <p:spPr>
            <a:xfrm flipV="1">
              <a:off x="4686120" y="202824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4519"/>
            <p:cNvSpPr/>
            <p:nvPr/>
          </p:nvSpPr>
          <p:spPr>
            <a:xfrm>
              <a:off x="3772080" y="78048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d brick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4518"/>
            <p:cNvSpPr/>
            <p:nvPr/>
          </p:nvSpPr>
          <p:spPr>
            <a:xfrm>
              <a:off x="37720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tall bri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saw a red brick building downtown.  It has big black doors in the front.  It has lots of little square windows.  Many windows have flower boxes with lots of red flowers. I really like the huge flagpole out fr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respond to a poem through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914400"/>
            <a:ext cx="8305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 are going to read a poem today call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wo Little Apples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I want you to listen as I read it once.  Then you will read it along with me and do what the poem says.  On the third time we read it, I would like for you to turn to your partner and act out the poem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hanging on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smiling a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hook that tree as hard as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wn came the apples. Mm! Mm!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Do these motions with the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1 – hold your arms out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2 – Form smiles with your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3 – Pretend to shake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4 – Fall to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4920" y="380880"/>
            <a:ext cx="8686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 – To read 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14400"/>
            <a:ext cx="8686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r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4479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Phone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Substit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838080"/>
            <a:ext cx="186372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7315200" y="3962520"/>
            <a:ext cx="1676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ubstitute phonemes to say new w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6" descr="C:\Users\Janice\AppData\Local\Microsoft\Windows\Temporary Internet Files\Content.IE5\2HQSZRSD\MCj04281070000[1].wmf"/>
          <p:cNvPicPr/>
          <p:nvPr/>
        </p:nvPicPr>
        <p:blipFill>
          <a:blip r:embed="rId1"/>
          <a:stretch/>
        </p:blipFill>
        <p:spPr>
          <a:xfrm>
            <a:off x="0" y="152280"/>
            <a:ext cx="2200320" cy="1959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2590920" y="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0" y="23623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parrot squawked out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changed the /b/ into an /f/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48:33Z</dcterms:created>
  <dc:creator>Valued Gateway Client</dc:creator>
  <dc:description/>
  <dc:language>en-US</dc:language>
  <cp:lastModifiedBy> </cp:lastModifiedBy>
  <dcterms:modified xsi:type="dcterms:W3CDTF">2009-01-30T04:05:48Z</dcterms:modified>
  <cp:revision>8</cp:revision>
  <dc:subject/>
  <dc:title>Slide 1</dc:title>
</cp:coreProperties>
</file>