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0A32-CA54-4DD6-AB01-335EA42F3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2F8C-6825-46E2-AF93-569D62100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C6B4-BF77-4D30-B144-DB128CEC8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A3DC-4932-46CC-8FEF-B1105D6FE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A319-7A3F-4094-A350-AC4CE1DEC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313F-3D16-4908-8EEC-5A03FBFC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4CB-BADF-4AAE-B56F-BAE28EFB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501-D009-4CB5-A211-9B0B37B7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2DA3-7733-4706-A805-C7FF651F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D885-49AA-4F2C-A3D0-0EEEDECD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1773-BED7-4887-9753-FC7DC1BF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4936-A15C-45FA-8A08-23FC9721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24E2-E99E-4ED3-BF16-7449EC24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5F57-E49A-4F7C-B1EA-68B3E907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E063-0D43-4920-9905-518C6D61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EA15-E697-46A6-9898-C63AE995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D8AA-8CEF-44CD-B8C4-20679506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FD6D-3268-4CC6-88FF-E0F268B3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EBC4-A24B-49EF-897B-F161EBEE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92CB-4CB6-41A7-A00D-A2A32C73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18DC-6F52-425B-B452-1A216D71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5E3F-FA36-4FE9-A9FF-513A38EB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3EDB-273B-428B-99A6-47130313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ED0D-F69B-4965-B41C-81A53D4F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F00-FEB9-42BD-9E66-984C2EC7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055-B238-4526-BF41-0F970E26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A21-C871-4944-9247-A93B3619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61F9-C56E-4915-BC52-1C7FC71A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800-FC8F-4F7E-9979-5271E048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ABCB-82C3-40F1-8E12-6712B2F0A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E62C-322D-445C-97F6-6E387CE76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533520" y="533520"/>
            <a:ext cx="8229600" cy="60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rida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9, Day 5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3049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bjective: To use /e/ e, ee, ea and other known letter-sounds to spell and write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762120" y="1371600"/>
            <a:ext cx="784836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0" y="4057560"/>
            <a:ext cx="9372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ime for our spelling test.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9000" y="1371600"/>
            <a:ext cx="838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/e/ and other known letter-sound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657600" y="1295280"/>
            <a:ext cx="1600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809880" y="236232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3733920" y="327672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3124080" y="327672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3581280" y="42670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3962520" y="42670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75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75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7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7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can bow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are on a tea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ould you like to come to see 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It’s just down the roa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You can come with m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Can Dan meet with 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Our coach can teach u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read fluently with appropriate phrasing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533520" y="380880"/>
            <a:ext cx="8305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alibri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066680" y="669960"/>
            <a:ext cx="26672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de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do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hur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mot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shou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s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to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705720" y="20574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486400" y="914400"/>
            <a:ext cx="22860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wo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b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n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wh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c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e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7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4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4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6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0" y="372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Objective: To recognize cause and effect while listening to a 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685800" y="1447920"/>
            <a:ext cx="80010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use and Eff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80"/>
                </a:solidFill>
                <a:latin typeface="Calibri"/>
              </a:rPr>
              <a:t>Cause and Effec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IT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ffect – what happen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ause – why it happen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hicken Lit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 acorn hit Chicken Littl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e thought the sky was fallin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ittle Rabbit’s T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 apple hit Little Rabbi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e thought the sky was fallin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ear Wants M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ear ate too muc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ear got stuc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0" y="0"/>
            <a:ext cx="9144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libri"/>
              </a:rPr>
              <a:t>Which request is courte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May I please watch something els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top being unreasonable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Calibri"/>
              </a:rPr>
              <a:t>Which person does something devi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alibri"/>
              </a:rPr>
              <a:t>Mike gives his little sister a hu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alibri"/>
              </a:rPr>
              <a:t>Amy hides in back of the couch to scare her da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9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0" y="15228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33"/>
                </a:solidFill>
                <a:latin typeface="Calibri"/>
              </a:rPr>
              <a:t>What moves rapidly or hastil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he soap bubbles float to the groun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he blue race car is in the lead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80"/>
                </a:solidFill>
                <a:latin typeface="Calibri"/>
              </a:rPr>
              <a:t>Which person is more gullib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Mary thinks the moon is made of chee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John thinks that water helps plants gro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5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7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80880" y="228600"/>
            <a:ext cx="800100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pples come in different colors – red, green, and yellow.  Which kind is your favorit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libri"/>
              </a:rPr>
              <a:t>On my signal, turn and talk to your partner and fill in this ste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alibri"/>
              </a:rPr>
              <a:t>I like _______________apples the best because ______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04920" y="0"/>
            <a:ext cx="85341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wo Little Ap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wo little apples hanging on a tre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wo little apples smiling at 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 shook that tree as hard as I cou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own came the apples. Mm! Mm! Goo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alibri"/>
              </a:rPr>
              <a:t>Do these motions with the po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alibri"/>
              </a:rPr>
              <a:t>Line 1 – hold your arms out stra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alibri"/>
              </a:rPr>
              <a:t>Line 2 – Form smiles with your h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alibri"/>
              </a:rPr>
              <a:t>Line 3 – Pretend to shake a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alibri"/>
              </a:rPr>
              <a:t>Line 4 – Fall to the 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304920" y="380880"/>
            <a:ext cx="8686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80880" y="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libri"/>
              </a:rPr>
              <a:t>Objective – To read high-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28600" y="914400"/>
            <a:ext cx="38862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ur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o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495680" y="1371600"/>
            <a:ext cx="3886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ke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fa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04920" y="4572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bjective: To substitute phonemes to say new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286000" y="144792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010b0"/>
                </a:solidFill>
                <a:uFillTx/>
                <a:latin typeface="Calibri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010b0"/>
                </a:solidFill>
                <a:uFillTx/>
                <a:latin typeface="Calibri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0b0"/>
                </a:solidFill>
                <a:latin typeface="Calibri"/>
              </a:rPr>
              <a:t>Phone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0b0"/>
                </a:solidFill>
                <a:latin typeface="Calibri"/>
              </a:rPr>
              <a:t>Substitu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5" descr="C:\Users\Janice\AppData\Local\Microsoft\Windows\Temporary Internet Files\Content.IE5\N13ABA2C\MCj04298090000[1].wmf"/>
          <p:cNvPicPr/>
          <p:nvPr/>
        </p:nvPicPr>
        <p:blipFill>
          <a:blip r:embed="rId1"/>
          <a:stretch/>
        </p:blipFill>
        <p:spPr>
          <a:xfrm>
            <a:off x="457200" y="838080"/>
            <a:ext cx="1863720" cy="2667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5" descr="C:\Users\Janice\AppData\Local\Microsoft\Windows\Temporary Internet Files\Content.IE5\N13ABA2C\MCj04298090000[1].wmf"/>
          <p:cNvPicPr/>
          <p:nvPr/>
        </p:nvPicPr>
        <p:blipFill>
          <a:blip r:embed="rId2"/>
          <a:stretch/>
        </p:blipFill>
        <p:spPr>
          <a:xfrm>
            <a:off x="7315200" y="3962520"/>
            <a:ext cx="1676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2905200" y="228600"/>
            <a:ext cx="33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Tune:  The Farmer in the D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57200" y="2286000"/>
            <a:ext cx="83818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The parrot squawked out ma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Oh, what a noisy bird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He changed the /m/ into an /ch/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d this is what he heard: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5" descr="C:\Users\Janice\AppData\Local\Microsoft\Windows\Temporary Internet Files\Content.IE5\N13ABA2C\MCj04298090000[1].wmf"/>
          <p:cNvPicPr/>
          <p:nvPr/>
        </p:nvPicPr>
        <p:blipFill>
          <a:blip r:embed="rId1"/>
          <a:stretch/>
        </p:blipFill>
        <p:spPr>
          <a:xfrm>
            <a:off x="457200" y="228600"/>
            <a:ext cx="1863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80880" y="38088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alibri"/>
              </a:rPr>
              <a:t>Objective: To recognize and read contractions ‘ve and ‘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685800" y="1447920"/>
            <a:ext cx="7772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ac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28600" y="0"/>
            <a:ext cx="8153280" cy="39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Remember that contractions are a shorter way to say two words.  The apostrophe in a contraction stands for the missing letters.  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57200" y="2590920"/>
            <a:ext cx="297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e’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e’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’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You’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You’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y’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343400" y="2590920"/>
            <a:ext cx="28954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We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We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I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You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You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hey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4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52280" y="0"/>
            <a:ext cx="861084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We’re</a:t>
            </a:r>
            <a:r>
              <a:rPr b="1" lang="en-US" sz="5400" spc="-1" strike="noStrike">
                <a:solidFill>
                  <a:srgbClr val="33cc33"/>
                </a:solidFill>
                <a:latin typeface="Calibri"/>
              </a:rPr>
              <a:t> on the green tea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I’ve</a:t>
            </a:r>
            <a:r>
              <a:rPr b="1" lang="en-US" sz="5400" spc="-1" strike="noStrike">
                <a:solidFill>
                  <a:srgbClr val="33cc33"/>
                </a:solidFill>
                <a:latin typeface="Calibri"/>
              </a:rPr>
              <a:t> got a new soccer ba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You’ve</a:t>
            </a:r>
            <a:r>
              <a:rPr b="1" lang="en-US" sz="5400" spc="-1" strike="noStrike">
                <a:solidFill>
                  <a:srgbClr val="33cc33"/>
                </a:solidFill>
                <a:latin typeface="Calibri"/>
              </a:rPr>
              <a:t> got the ball!  Kick it to m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You’re</a:t>
            </a:r>
            <a:r>
              <a:rPr b="1" lang="en-US" sz="5400" spc="-1" strike="noStrike">
                <a:solidFill>
                  <a:srgbClr val="33cc33"/>
                </a:solidFill>
                <a:latin typeface="Calibri"/>
              </a:rPr>
              <a:t> kicking the ball we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20:41:09Z</dcterms:created>
  <dc:creator>mworsham</dc:creator>
  <dc:description/>
  <dc:language>en-US</dc:language>
  <cp:lastModifiedBy>mworsham</cp:lastModifiedBy>
  <dcterms:modified xsi:type="dcterms:W3CDTF">2010-02-07T20:55:15Z</dcterms:modified>
  <cp:revision>1</cp:revision>
  <dc:subject/>
  <dc:title>Slide 1</dc:title>
</cp:coreProperties>
</file>