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4A9B-A5A9-4FAF-9179-FFE37A160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40A-32AF-4318-B82E-A334F1BA9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76DC-EFD6-4CFD-80AE-E2AA9AA23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2D0-E857-4C70-B31D-8FB685260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B562-A7A8-46FF-A64E-6836CDB8B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A42-29CF-401A-B659-51877B9E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B37-DCB0-481A-AD3D-B29239FB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F4F-B558-43B1-A6EF-880E6FD7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451-CC01-4C77-80E1-66E5BFFB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309D-5846-47E9-94C3-02C0CCA6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2EA0-D2C2-4936-B02E-1B7BA98D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1AF-AA12-4530-9CA7-462DA3E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190C-B90E-4411-9087-B4781743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F51A-0A00-4E72-9F74-AEB8795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3911-98C8-4622-8D08-690FC904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EFC-35D2-4749-ADD0-19F2088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A9F-59EE-42C7-ACB6-890F4B37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9272-8864-4F82-92A9-A485329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8F1A-040D-4077-B112-FA685EB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DA5-976D-4452-85C6-E0E5799B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96AE-9127-4D80-BE55-C1276CD6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D71D-076C-461E-9354-9478C6B2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C81-96F5-4308-87B6-8ACE297C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B28-7D8F-4D96-90B7-5A5B2C2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801-D57B-4E5E-B7E9-9A4AD333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2B0-B40E-415D-8CD5-36FDC2C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298-71F7-4E43-BE35-3D5304B5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A83-7138-47F4-ACA8-A9C69752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738-8AA1-49CE-8AF5-1C58EA1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9663-EA5F-4975-8901-A9AF35EC3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5C35-5997-454E-A346-74474DA48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5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3049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762120" y="1371600"/>
            <a:ext cx="78483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4057560"/>
            <a:ext cx="937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ime for our spelling test.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9000" y="137160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7339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12408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581280" y="4267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39625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3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Calibri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Calibri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15228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Calibri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Calibri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libri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5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y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52280" y="0"/>
            <a:ext cx="86108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6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0:41:09Z</dcterms:created>
  <dc:creator>mworsham</dc:creator>
  <dc:description/>
  <dc:language>en-US</dc:language>
  <cp:lastModifiedBy>mworsham</cp:lastModifiedBy>
  <dcterms:modified xsi:type="dcterms:W3CDTF">2010-02-07T20:55:15Z</dcterms:modified>
  <cp:revision>1</cp:revision>
  <dc:subject/>
  <dc:title>Slide 1</dc:title>
</cp:coreProperties>
</file>