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98F-84C3-489D-9738-7FFE8E46B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F08-46FC-412E-88F4-B07E141F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2E1-728D-4E5D-95D8-C22AB189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D4A-E5EA-4158-9E8A-6CE075BC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BBF-CA6D-43C3-B96F-34934981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8398-D725-4045-A344-B85DABEA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92E-96F7-41AB-A31C-EF29DA7D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A4D-6BF3-4510-9892-7A6A9DDC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332-8E97-40EA-AE97-01BD78D6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650F-0C2C-47E6-85CB-72ACEE59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1D5-2F5F-4631-9439-9A96DA1D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F36-7A87-43BC-9BC0-EB5F7B30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339A-F3D5-4F6E-B7A7-FB7C2AACD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049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ptember 1, 2009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sson 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 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ord Buil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286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3716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371600" y="34290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28600" y="34290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914400" y="457200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533520" y="4572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495288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47242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548640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8"/>
          <p:cNvSpPr/>
          <p:nvPr/>
        </p:nvSpPr>
        <p:spPr>
          <a:xfrm>
            <a:off x="5334120" y="2514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914400" y="1219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762120" y="3429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137160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4"/>
          <p:cNvSpPr/>
          <p:nvPr/>
        </p:nvSpPr>
        <p:spPr>
          <a:xfrm>
            <a:off x="8380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5"/>
          <p:cNvSpPr/>
          <p:nvPr/>
        </p:nvSpPr>
        <p:spPr>
          <a:xfrm>
            <a:off x="1523880" y="1219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304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 the words i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295280"/>
            <a:ext cx="8305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in m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g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se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n m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o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m t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838080"/>
            <a:ext cx="8610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853416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to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review robust vocabulary through discussin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838080"/>
            <a:ext cx="8610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bust Vocabul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3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ea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0880"/>
            <a:ext cx="86108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escape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to escape means to get away from someone or someth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304920"/>
            <a:ext cx="876312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(Choral response) – If you were in a very noisy place, would you want to esc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Turn and Talk) – There are some chores we do not like to do.  We would like to escape from having to do them.  What chores would you like to escap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80880"/>
            <a:ext cx="8610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Arial"/>
              </a:rPr>
              <a:t>frigh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If you feel fright, you are sca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0"/>
            <a:ext cx="868680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(Choral Response) – Some wild animals are scary.  If you were in the jungle and you saw a tiger, would you run away in fright? Yes or 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Turn and Talk) – What other wild animals would give you a fr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Turn and Talk) – Pretend that you are going to a costume party and you want to give everyone a fright.  What kind of costume would you w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533520"/>
            <a:ext cx="82296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Arial"/>
              </a:rPr>
              <a:t>near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If something is nearby, it is close to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808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8088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Turn and Talk) – What are some places that are far away from our school? What are some places that are near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(Choral Response) – If you heard thunder, what do you think is near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99072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22860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understand word order in declarative sentences; to understand basic rules of capitalization and punctuation; to arrange words into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emember that a sentence has to be in a certain order to make sense.  Let’s look at these sentences to see if we can put them in ord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has The cat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ke I c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me l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van the dad s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r has a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like c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a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dad sits in the 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5" dur="2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104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frog can hop. What other animals can move in other wa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_______ can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listen and respond to a poem; to recognize rhyme and rhythm in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9072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e are going to read a poem today called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Can You?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  As we read through the poem, I want you to listen and see if you hear any words that rhyme.  I will read the poem the first time and then you will read with me on the second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hop like a rab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leap like a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swim like a f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run like a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fly like a bi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climb like a 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sit still as a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s still 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457200"/>
            <a:ext cx="8382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d Wall Wo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371600"/>
            <a:ext cx="8458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e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segment syllables i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143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member that a syllable is part of a word.  We are going to look at some words today and talk about syllables.  We are going to say the word, tell how many syllables we hear, and say the syllab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ncake – 2 – pan…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ble – 2 – mar…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ter – 2 – win…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til – 2 – un…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– 2 – birth…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ebra – 2 – ze…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le – 2 – pur…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get – 2 – for…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ntastic – 3 – fan…tas…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cember – 3 – De…cem…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s: To build and read spelling words; to spell two and three letter short vowel words an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609480"/>
            <a:ext cx="8610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lling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14300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" dur="2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3:06:32Z</dcterms:created>
  <dc:creator>Valued Gateway Client</dc:creator>
  <dc:description/>
  <dc:language>en-US</dc:language>
  <cp:lastModifiedBy>Valued Gateway Client</cp:lastModifiedBy>
  <dcterms:modified xsi:type="dcterms:W3CDTF">2009-08-29T02:25:26Z</dcterms:modified>
  <cp:revision>2</cp:revision>
  <dc:subject/>
  <dc:title>Slide 1</dc:title>
</cp:coreProperties>
</file>