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0EB0-887E-4845-BA70-3B435212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5E63-AC5F-4E4A-B7D9-35994B49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9894-D7F5-4E18-B8C7-AD623F80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B6FC-19BE-4014-B9C5-1BD8956D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7F5-680F-41B5-9BBA-5B84C014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62C-F7D5-427C-96AB-170EC53F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B0E-D45A-4AA8-B50D-608D3CDF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0DAF-CD85-47AA-9895-D2106132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5C40-002E-409B-95DE-3BC29F6F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48C6-3660-4958-89F9-283C0B65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7C2-091A-4504-B456-F0A4965D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1187-5457-470A-8DAC-118A1600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5946-D2CA-40D3-9201-745C3D076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304920"/>
            <a:ext cx="8229600" cy="601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ptember 1, 2009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sson 2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ay 2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23880" y="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Word Build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28600" y="121932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1371600" y="251460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304920" y="2514600"/>
            <a:ext cx="990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1371600" y="342900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228600" y="34290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914400" y="4572000"/>
            <a:ext cx="457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533520" y="4572000"/>
            <a:ext cx="1066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0" y="4572000"/>
            <a:ext cx="99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4343400" y="16002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9"/>
          <p:cNvSpPr/>
          <p:nvPr/>
        </p:nvSpPr>
        <p:spPr>
          <a:xfrm>
            <a:off x="4952880" y="16002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2"/>
          <p:cNvSpPr/>
          <p:nvPr/>
        </p:nvSpPr>
        <p:spPr>
          <a:xfrm>
            <a:off x="4191120" y="2514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3"/>
          <p:cNvSpPr/>
          <p:nvPr/>
        </p:nvSpPr>
        <p:spPr>
          <a:xfrm>
            <a:off x="4724280" y="2514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4"/>
          <p:cNvSpPr/>
          <p:nvPr/>
        </p:nvSpPr>
        <p:spPr>
          <a:xfrm>
            <a:off x="548640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8"/>
          <p:cNvSpPr/>
          <p:nvPr/>
        </p:nvSpPr>
        <p:spPr>
          <a:xfrm>
            <a:off x="5334120" y="25146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5"/>
          <p:cNvSpPr/>
          <p:nvPr/>
        </p:nvSpPr>
        <p:spPr>
          <a:xfrm>
            <a:off x="914400" y="12193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9"/>
          <p:cNvSpPr/>
          <p:nvPr/>
        </p:nvSpPr>
        <p:spPr>
          <a:xfrm>
            <a:off x="762120" y="34290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0"/>
          <p:cNvSpPr/>
          <p:nvPr/>
        </p:nvSpPr>
        <p:spPr>
          <a:xfrm>
            <a:off x="1371600" y="4572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4"/>
          <p:cNvSpPr/>
          <p:nvPr/>
        </p:nvSpPr>
        <p:spPr>
          <a:xfrm>
            <a:off x="838080" y="25146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5"/>
          <p:cNvSpPr/>
          <p:nvPr/>
        </p:nvSpPr>
        <p:spPr>
          <a:xfrm>
            <a:off x="1523880" y="12193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280" y="304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ad the words i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295280"/>
            <a:ext cx="83055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d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t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in my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g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n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see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p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a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t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on my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t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a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d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oo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t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am ta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3049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920" y="838080"/>
            <a:ext cx="8610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igh Frequency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600200"/>
            <a:ext cx="853416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n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to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3049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Objective: To review robust vocabulary through discussing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920" y="838080"/>
            <a:ext cx="8610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obust Vocabular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523880"/>
            <a:ext cx="8001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e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near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26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380880"/>
            <a:ext cx="861084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00"/>
                </a:solidFill>
                <a:latin typeface="Arial"/>
              </a:rPr>
              <a:t>escape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to escape means to get away from someone or someth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304920"/>
            <a:ext cx="8763120" cy="72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(Choral response) – If you were in a very noisy place, would you want to esc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(Turn and Talk) – There are some chores we do not like to do.  We would like to escape from having to do them.  What chores would you like to escap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380880"/>
            <a:ext cx="86104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Arial"/>
              </a:rPr>
              <a:t>frigh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If you feel fright, you are scar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80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0"/>
            <a:ext cx="868680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(Choral Response) – Some wild animals are scary.  If you were in the jungle and you saw a tiger, would you run away in fright? Yes or n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Turn and Talk) – What other wild animals would give you a fr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Turn and Talk) – Pretend that you are going to a costume party and you want to give everyone a fright.  What kind of costume would you w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5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533520"/>
            <a:ext cx="82296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Arial"/>
              </a:rPr>
              <a:t>nearb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If something is nearby, it is close to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380880"/>
            <a:ext cx="86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38088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380880"/>
            <a:ext cx="87631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Turn and Talk) – What are some places that are far away from our school? What are some places that are nearb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(Choral Response) – If you heard thunder, what do you think is nearb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304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: To respond appropriately to or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990720"/>
            <a:ext cx="77724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es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f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22860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bjective: To understand word order in declarative sentences; to understand basic rules of capitalization and punctuation; to arrange words into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37160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emember that a sentence has to be in a certain order to make sense.  Let’s look at these sentences to see if we can put them in ord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0"/>
            <a:ext cx="86868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has The cat b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ike I c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t me l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van the dad s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bear has a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 like c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ook at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 dad sits in the v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4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4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228600"/>
            <a:ext cx="861048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 frog can hop. What other animals can move in other way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On my signal, you will turn and talk with your partner to complete the following 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_______ can 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228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bjective: To listen and respond to a poem; to recognize rhyme and rhythm in a po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90720"/>
            <a:ext cx="8686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We are going to read a poem today called </a:t>
            </a:r>
            <a:r>
              <a:rPr b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Can You?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.  As we read through the poem, I want you to listen and see if you hear any words that rhyme.  I will read the poem the first time and then you will read with me on the second ti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860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hop like a rabb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leap like a fr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swim like a f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run like a d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fly like a bi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climb like a c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n you sit still as a m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s still as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457200"/>
            <a:ext cx="8382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Word Wall Wor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371600"/>
            <a:ext cx="84582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let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3049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Objective: To segment syllables i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143000"/>
            <a:ext cx="8610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Remember that a syllable is part of a word.  We are going to look at some words today and talk about syllables.  We are going to say the word, tell how many syllables we hear, and say the syllab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304920"/>
            <a:ext cx="86104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ncake – 2 – pan…c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rble – 2 – mar…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inter – 2 – win…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ntil – 2 – un…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rthday – 2 – birth…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ebra – 2 – ze…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urple – 2 – pur…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get – 2 – for…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ntastic – 3 – fan…tas…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cember – 3 – De…cem…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bjectives: To build and read spelling words; to spell two and three letter short vowel words an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600" y="609480"/>
            <a:ext cx="86104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elling Wor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143000"/>
            <a:ext cx="853416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03:06:32Z</dcterms:created>
  <dc:creator>Valued Gateway Client</dc:creator>
  <dc:description/>
  <dc:language>en-US</dc:language>
  <cp:lastModifiedBy>Valued Gateway Client</cp:lastModifiedBy>
  <dcterms:modified xsi:type="dcterms:W3CDTF">2009-08-29T02:25:26Z</dcterms:modified>
  <cp:revision>2</cp:revision>
  <dc:subject/>
  <dc:title>Slide 1</dc:title>
</cp:coreProperties>
</file>