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B0EE-B717-4A5E-8D3F-B245857B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D51F-7FA5-4849-AC81-8B2C174D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F900-D789-430C-B907-11C7ABA2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4859-8A27-46EF-B5ED-A85727157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2ECC-3A05-4ADF-AB9E-1E7D29BE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6B36-A20F-4F21-8950-224FBC17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2BDB-60CE-47FB-84F5-C6992069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79DA-E115-4EE0-B3E7-BEBFFDC2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65AE-AB1B-4F22-ABC6-DBFCCD64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89DD-9020-4A31-BFE1-00918C94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5244-D240-4BA7-986D-7123793B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4527-9AF3-44D5-82AC-AA87F6C0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A9E7-469B-4E1F-9EC3-D41AFE76A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380880"/>
            <a:ext cx="838224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eptember 2, 2009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sson 2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ay 3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04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Objective: To use /a/ a and other known letter-sounds to read words; to read words with double consonants and final consonants blends; to recognize spelling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8600" y="1295280"/>
            <a:ext cx="8763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Build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20574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20574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6668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2666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26668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3352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9880" y="3352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33526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39625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39625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39625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5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70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0"/>
            <a:ext cx="8458200" cy="75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My cats like to na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A cat naps in a ba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Cats nap in my cap and in my ha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Look what I have in my ha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Tap, tap, ta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The cats ran fas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8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8600" y="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Objective: To recognize spelling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80880" y="457200"/>
            <a:ext cx="8458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ell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143000"/>
            <a:ext cx="80773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s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b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b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9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77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3" dur="77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5" dur="77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7" dur="77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280" y="3049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04920" y="762120"/>
            <a:ext cx="8610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igh Frequency Word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981080"/>
            <a:ext cx="80773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304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Objective: To use prior knowledge and selection information to make predi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09480" y="1066680"/>
            <a:ext cx="80010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Predi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3962520"/>
            <a:ext cx="8382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Remember when we make predictions we try to determine what comes next in a story. We can look at the title, words and illustrations to help us with making our predictions.  You can also make predictions about a story by using what you know from real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8600" y="30492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Objective: To develop robust vocabulary to describe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0880" y="838080"/>
            <a:ext cx="8458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obust Vocabular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600200"/>
            <a:ext cx="807696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c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3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920" y="533520"/>
            <a:ext cx="8381880" cy="56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ff"/>
                </a:solidFill>
                <a:latin typeface="Arial"/>
              </a:rPr>
              <a:t>cr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5050"/>
                </a:solidFill>
                <a:latin typeface="Arial"/>
              </a:rPr>
              <a:t>When you cram many things into something, you fill it with too much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380880"/>
            <a:ext cx="9144000" cy="9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cc33"/>
                </a:solidFill>
                <a:latin typeface="Arial"/>
              </a:rPr>
              <a:t>(Choral Response) –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cc33"/>
                </a:solidFill>
                <a:latin typeface="Arial"/>
              </a:rPr>
              <a:t>What might happen if you cram things into a backpack – will it be too heavy or too nois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533520"/>
            <a:ext cx="853416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5050"/>
                </a:solidFill>
                <a:latin typeface="Arial"/>
              </a:rPr>
              <a:t>sol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If you have a solution to a problem, you know how to fix it.  You have an answe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228600"/>
            <a:ext cx="8229600" cy="62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Arial"/>
              </a:rPr>
              <a:t>(Choral response) -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Arial"/>
              </a:rPr>
              <a:t>What would be a good solution if you forgot your pencil – to go home to get it or to borrow one from a friend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35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30492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jective: To participate in a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838080"/>
            <a:ext cx="8229600" cy="563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Questio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f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a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457200"/>
            <a:ext cx="845820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ff"/>
                </a:solidFill>
                <a:latin typeface="Arial"/>
              </a:rPr>
              <a:t>strateg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33"/>
                </a:solidFill>
                <a:latin typeface="Arial"/>
              </a:rPr>
              <a:t>If you have a strategy for something, you have a pla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457200"/>
            <a:ext cx="883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304920"/>
            <a:ext cx="8610840" cy="56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fff"/>
                </a:solidFill>
                <a:latin typeface="Arial"/>
              </a:rPr>
              <a:t>(Choral Response) –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fff"/>
                </a:solidFill>
                <a:latin typeface="Arial"/>
              </a:rPr>
              <a:t>What strategy will keep you healthy – eating good food or not sleeping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62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3049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Objective: To identify and use correct word order; to use knowledge of the basic rules of capitalization and punc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990720"/>
            <a:ext cx="8458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33"/>
                </a:solidFill>
                <a:latin typeface="Arial"/>
              </a:rPr>
              <a:t>Remember that for a sentence to make sense the words have to be in the correct order.  Let’s see if we can put the following sentences in the right order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" y="152280"/>
            <a:ext cx="876312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the Grand Canyon visited 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I visited the Grand Cany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went to the zoo w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We went to the z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panda bears saw w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We saw panda b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the beach to I w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I went to the b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saw fish aquarium at the 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I saw fish at the aquari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605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0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4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4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9" dur="20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0"/>
            <a:ext cx="8534160" cy="68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How are people and animals a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On my signal, you will turn and talk with your partner to complete the following sent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an _________ like a __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2860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22860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Objective: To participate in a rhyme; to innovate on a rhy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685800"/>
            <a:ext cx="8458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33"/>
                </a:solidFill>
                <a:latin typeface="Arial"/>
              </a:rPr>
              <a:t>Today we are going to look at the poem </a:t>
            </a:r>
            <a:r>
              <a:rPr b="1" lang="en-US" sz="5400" spc="-1" strike="noStrike" u="sng">
                <a:solidFill>
                  <a:srgbClr val="66ff33"/>
                </a:solidFill>
                <a:uFillTx/>
                <a:latin typeface="Arial"/>
              </a:rPr>
              <a:t>Can You?.</a:t>
            </a:r>
            <a:r>
              <a:rPr b="1" lang="en-US" sz="5400" spc="-1" strike="noStrike">
                <a:solidFill>
                  <a:srgbClr val="66ff33"/>
                </a:solidFill>
                <a:latin typeface="Arial"/>
              </a:rPr>
              <a:t> We will read the poem one time with the questions.  We will read the poem again and answer the question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52280"/>
            <a:ext cx="8610480" cy="65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an 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an you hop like a rabb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an you leap like a fro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an you swim like a f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an you run like a do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an you fly like a bi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an you climb like a c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an you sit still as a mo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s still as t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2280"/>
            <a:ext cx="84582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I can hop like a rabb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I can leap like a fr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I can swim like a f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I can run like a d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I can fly like a bi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I can climb like a c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I can sit still as a m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Just like th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380880"/>
            <a:ext cx="8763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990720"/>
            <a:ext cx="761976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8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8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Objective: To blend onsets and rimes to form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066680"/>
            <a:ext cx="86104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Arial"/>
              </a:rPr>
              <a:t>Today you are going to help me say some words.  I will sound out the word first.  You will help me sound out the word on the second time and then you will tell me the wo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0"/>
            <a:ext cx="84582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b…ug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b…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bu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b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w…in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r…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win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m…il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l…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mil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h…op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f…an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ho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f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s…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s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…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d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9T03:11:43Z</dcterms:created>
  <dc:creator>Valued Gateway Client</dc:creator>
  <dc:description/>
  <dc:language>en-US</dc:language>
  <cp:lastModifiedBy>Valued Gateway Client</cp:lastModifiedBy>
  <dcterms:modified xsi:type="dcterms:W3CDTF">2009-08-29T16:50:30Z</dcterms:modified>
  <cp:revision>2</cp:revision>
  <dc:subject/>
  <dc:title>Slide 1</dc:title>
</cp:coreProperties>
</file>