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09E-42C2-4F14-9B76-58372DD5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1E4E-6208-4A69-B144-E084A10D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2EE1-8B1B-4AEC-8914-EC1F09B9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AF2D-6837-4EC9-BC24-181C2BA3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68EA-062A-42E1-A4B7-30754308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4020-403D-4530-8E7E-2B328871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473E-8211-4229-BA90-A054E3B9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2DED-981A-4FC1-8DE5-573869F3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7B96-8B1A-4443-86B2-903ACE9B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AC60-AE6E-4219-9371-A240CE5A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1F6E-4827-4DA4-84BA-4D5978A8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3B1-525D-4657-B8DE-7B606837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63F9-1B69-46FA-9A83-B05047ECE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380880"/>
            <a:ext cx="838224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eptember 2, 2009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son 2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y 3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04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bjective: To use /a/ a and other known letter-sounds to read words; to read words with double consonants and final consonants blends; to recognize spelling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" y="1295280"/>
            <a:ext cx="8763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Build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2057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20574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20574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666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666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2666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3352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3352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33526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3962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3962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39625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07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0"/>
            <a:ext cx="8458200" cy="75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My cats like to na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A cat naps in a ba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Cats nap in my cap and in my h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Look what I have in my ha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Tap, tap, ta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The cats ran fa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Objective: To recognize spelling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880" y="457200"/>
            <a:ext cx="8458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pelling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143000"/>
            <a:ext cx="80773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s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b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9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3049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920" y="762120"/>
            <a:ext cx="8610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igh Frequency Word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981080"/>
            <a:ext cx="80773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Objective: To use prior knowledge and selection information to make pred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480" y="1066680"/>
            <a:ext cx="80010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redi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962520"/>
            <a:ext cx="8382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Remember when we make predictions we try to determine what comes next in a story. We can look at the title, words and illustrations to help us with making our predictions.  You can also make predictions about a story by using what you know from re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" y="30492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Objective: To develop robust vocabulary to describe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838080"/>
            <a:ext cx="8458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bust Vocabular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600200"/>
            <a:ext cx="80769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c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533520"/>
            <a:ext cx="838188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ff"/>
                </a:solidFill>
                <a:latin typeface="Arial"/>
              </a:rPr>
              <a:t>cra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When you cram many things into something, you fill it with too much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80880"/>
            <a:ext cx="9144000" cy="9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33"/>
                </a:solidFill>
                <a:latin typeface="Arial"/>
              </a:rPr>
              <a:t>(Choral Response) –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33"/>
                </a:solidFill>
                <a:latin typeface="Arial"/>
              </a:rPr>
              <a:t>What might happen if you cram things into a backpack – will it be too heavy or too nois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533520"/>
            <a:ext cx="853416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5050"/>
                </a:solidFill>
                <a:latin typeface="Arial"/>
              </a:rPr>
              <a:t>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If you have a solution to a problem, you know how to fix it.  You have an answ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228600"/>
            <a:ext cx="822960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"/>
              </a:rPr>
              <a:t>(Choral response) -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ff"/>
                </a:solidFill>
                <a:latin typeface="Arial"/>
              </a:rPr>
              <a:t>What would be a good solution if you forgot your pencil – to go home to get it or to borrow one from a frien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6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30492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jective: To participate in a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838080"/>
            <a:ext cx="8229600" cy="563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es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f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457200"/>
            <a:ext cx="84582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Arial"/>
              </a:rPr>
              <a:t>strate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ff33"/>
                </a:solidFill>
                <a:latin typeface="Arial"/>
              </a:rPr>
              <a:t>If you have a strategy for something, you have a pla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4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4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70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457200"/>
            <a:ext cx="883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304920"/>
            <a:ext cx="861084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ff"/>
                </a:solidFill>
                <a:latin typeface="Arial"/>
              </a:rPr>
              <a:t>(Choral Response) –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ff"/>
                </a:solidFill>
                <a:latin typeface="Arial"/>
              </a:rPr>
              <a:t>What strategy will keep you healthy – eating good food or not sleeping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304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Objective: To identify and use correct word order; to use knowledge of the basic rules of capitalization and punc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990720"/>
            <a:ext cx="8458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cc33"/>
                </a:solidFill>
                <a:latin typeface="Arial"/>
              </a:rPr>
              <a:t>Remember that for a sentence to make sense the words have to be in the correct order.  Let’s see if we can put the following sentences in the right order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8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152280"/>
            <a:ext cx="876312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the Grand Canyon visited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I visited the Grand Cany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went to the zoo w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We went to the z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panda bears saw w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We saw panda b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the beach to I w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I went to the b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saw fish aquarium at the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I saw fish at the aqua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8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7" dur="2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0"/>
            <a:ext cx="8534160" cy="68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How are people and animals a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On my signal, you will turn and talk with your partner to complete the following sent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n _________ like a 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286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22860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bjective: To participate in a rhyme; to innovate on a rhy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685800"/>
            <a:ext cx="8458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33"/>
                </a:solidFill>
                <a:latin typeface="Arial"/>
              </a:rPr>
              <a:t>Today we are going to look at the poem </a:t>
            </a:r>
            <a:r>
              <a:rPr b="1" lang="en-US" sz="5400" spc="-1" strike="noStrike" u="sng">
                <a:solidFill>
                  <a:srgbClr val="66ff33"/>
                </a:solidFill>
                <a:uFillTx/>
                <a:latin typeface="Arial"/>
              </a:rPr>
              <a:t>Can You?.</a:t>
            </a:r>
            <a:r>
              <a:rPr b="1" lang="en-US" sz="5400" spc="-1" strike="noStrike">
                <a:solidFill>
                  <a:srgbClr val="66ff33"/>
                </a:solidFill>
                <a:latin typeface="Arial"/>
              </a:rPr>
              <a:t> We will read the poem one time with the questions.  We will read the poem again and answer the question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2280"/>
            <a:ext cx="861048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 you hop like a rabb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 you leap like a fr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 you swim like a f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 you run like a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 you fly like a bi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 you climb like a c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 you sit still as a m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s still as t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84582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 can hop like a rabb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 can leap like a fr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 can swim like a f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 can run like a d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 can fly like a b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 can climb like a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I can sit still as a m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Just like th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Objective: To read high frequenc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380880"/>
            <a:ext cx="8763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d Wall Wor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990720"/>
            <a:ext cx="761976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2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Objective: To blend onsets and rimes to form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066680"/>
            <a:ext cx="8610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Arial"/>
              </a:rPr>
              <a:t>Today you are going to help me say some words.  I will sound out the word first.  You will help me sound out the word on the second time and then you will tell me the wo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0"/>
            <a:ext cx="84582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…ug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…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bu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w…in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…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win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m…i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l…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mi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h…op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f…an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h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f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s…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s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…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0" dur="20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03:11:43Z</dcterms:created>
  <dc:creator>Valued Gateway Client</dc:creator>
  <dc:description/>
  <dc:language>en-US</dc:language>
  <cp:lastModifiedBy>Valued Gateway Client</cp:lastModifiedBy>
  <dcterms:modified xsi:type="dcterms:W3CDTF">2009-08-29T16:50:30Z</dcterms:modified>
  <cp:revision>2</cp:revision>
  <dc:subject/>
  <dc:title>Slide 1</dc:title>
</cp:coreProperties>
</file>