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E3F9-866E-4865-9362-BCE4BF9BC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0DB7-4758-4FE4-9A70-F3227CB73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F639-FEC4-4BAB-88CC-395FE2130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844D-D384-41D3-9EC8-4134781E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B728-86C6-4BC6-B9B1-CDD1139D8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7A24-35A3-40D7-BB7D-969463CF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D815-F595-4653-B39F-654E2303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5942-8DCE-4E2C-AD59-A5051304D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52D5-49E9-430B-9F81-01E702999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270A-0967-4477-9B99-4577845E9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E163-FDCD-4848-8D94-01654A29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7C6C-CBE4-4060-A010-3F190323C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DDCF-6EBA-4DA9-821A-41FA3A0E2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7214-7057-484F-8A56-17085CD5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0E5-13DD-42FB-A920-60119B92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020D-32CA-4827-B12C-B71B144FF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5507-2DF2-45BC-BBBE-054A288C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3E5A-48EF-4A3D-982D-88F0E106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05BE-6072-4E97-BFE1-41085F73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65FC-14D8-491F-AF58-F3359EB1B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E1CB-FD77-4F15-B2F4-CEAFFB5DB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7D0-40D4-46E0-93D3-7312BCCF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0F9-A350-4A2E-8AE3-703D04DF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116-251E-4D6B-8141-2ABB5EFF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1D2-234B-4C30-8879-F750E222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0B7-E6DE-4EB8-9384-338FFAA3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D5C-2219-4A1B-947A-61BB75F1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248-4C80-4B7F-A7D6-CB2525A4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425-4472-4A5C-9B81-F25B5F06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B1D-5BE3-4413-ACA5-DECC73A0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487-E78A-4D4D-BE81-F228611D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E0F-6DBF-4759-8C86-E6B7EE2C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C3C-520E-4BF9-91F1-4E35E245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EE64-6C42-4170-A192-6A3BAC76A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Kids play all da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Kids in Spain play ta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mmariz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Gam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quipm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- A phrase is a group of two or more words that can be read together in a sentenc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685800" y="1752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Kids Play”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The Parts of the House Ar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6" descr="house_off"/>
          <p:cNvPicPr/>
          <p:nvPr/>
        </p:nvPicPr>
        <p:blipFill>
          <a:blip r:embed="rId1"/>
          <a:stretch/>
        </p:blipFill>
        <p:spPr>
          <a:xfrm>
            <a:off x="2362320" y="2209680"/>
            <a:ext cx="43624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m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grumbling, you are complaining or letting others know you are unhappy about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umb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we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umbling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6" descr="DSC00688"/>
          <p:cNvPicPr/>
          <p:nvPr/>
        </p:nvPicPr>
        <p:blipFill>
          <a:blip r:embed="rId1"/>
          <a:stretch/>
        </p:blipFill>
        <p:spPr>
          <a:xfrm>
            <a:off x="1066680" y="1523880"/>
            <a:ext cx="3191040" cy="4257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grum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les of the house starte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umbl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ring the argu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tart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grumbl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it starts raining just as I’m going to go outsi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uld you star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umbl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you were given a rock for your birthday or if you were given a to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id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I chided you, I corrected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28600" y="6019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not wearing a helmet while skateboar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5" descr="istockphoto_741346-sad-little-boy-sitting-on-his-skateboard"/>
          <p:cNvPicPr/>
          <p:nvPr/>
        </p:nvPicPr>
        <p:blipFill>
          <a:blip r:embed="rId1"/>
          <a:stretch/>
        </p:blipFill>
        <p:spPr>
          <a:xfrm>
            <a:off x="1066680" y="1752480"/>
            <a:ext cx="32227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hi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chid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ther parts of the house for saying they were th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friend for burning the cook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being on time or for being 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do you shop for f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 you buy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My family shops at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e buy ________  at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realized something, you suddenly underst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 knew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liz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762120" y="62485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my shoes were on backw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3" descr="shoes_on_backwards"/>
          <p:cNvPicPr/>
          <p:nvPr/>
        </p:nvPicPr>
        <p:blipFill>
          <a:blip r:embed="rId1"/>
          <a:stretch/>
        </p:blipFill>
        <p:spPr>
          <a:xfrm>
            <a:off x="152280" y="1962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ts of the house stopped arguing when 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they were all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had left my lunch at home when I couldn’t find my lunch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more likely that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had brown hair or that you could whist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tell them what you say if you were grumbling about the we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tell them what you would say if chided your dog for ba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tell them what you have realized about being in first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152280" y="1523880"/>
            <a:ext cx="8991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orning, every member of the large family was sitting around the ta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ouse heard all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u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guing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0"/>
          <p:cNvSpPr/>
          <p:nvPr/>
        </p:nvSpPr>
        <p:spPr>
          <a:xfrm>
            <a:off x="7238880" y="0"/>
            <a:ext cx="1905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2" descr="la39"/>
          <p:cNvPicPr/>
          <p:nvPr/>
        </p:nvPicPr>
        <p:blipFill>
          <a:blip r:embed="rId1"/>
          <a:stretch/>
        </p:blipFill>
        <p:spPr>
          <a:xfrm>
            <a:off x="1676520" y="0"/>
            <a:ext cx="55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8001000" y="0"/>
            <a:ext cx="1143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" descr="la40"/>
          <p:cNvPicPr/>
          <p:nvPr/>
        </p:nvPicPr>
        <p:blipFill>
          <a:blip r:embed="rId1"/>
          <a:stretch/>
        </p:blipFill>
        <p:spPr>
          <a:xfrm>
            <a:off x="1862280" y="0"/>
            <a:ext cx="54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d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ictate a Describing Sent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ur classroom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g and sun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th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web of something that you would like to describ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6019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2057040" y="5029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457200" y="586728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867280" y="57150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Market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FarmersMarketVeggies"/>
          <p:cNvPicPr/>
          <p:nvPr/>
        </p:nvPicPr>
        <p:blipFill>
          <a:blip r:embed="rId1"/>
          <a:stretch/>
        </p:blipFill>
        <p:spPr>
          <a:xfrm>
            <a:off x="990720" y="167652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ld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ubstitute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MPj04228180000[1]"/>
          <p:cNvPicPr/>
          <p:nvPr/>
        </p:nvPicPr>
        <p:blipFill>
          <a:blip r:embed="rId1"/>
          <a:stretch/>
        </p:blipFill>
        <p:spPr>
          <a:xfrm>
            <a:off x="4724280" y="990720"/>
            <a:ext cx="374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a/ ai, 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a/ sound, make an a with you fingers.  When I say a word that does not have /a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a/ sound in the middle, make an /a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5"/>
          <p:cNvSpPr txBox="1"/>
          <p:nvPr/>
        </p:nvSpPr>
        <p:spPr>
          <a:xfrm>
            <a:off x="533520" y="1600200"/>
            <a:ext cx="40384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57200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657600" y="327672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35268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49568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3505320" y="4267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396252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4114800" y="3124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43434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3962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4038480" y="48006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46483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3809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3657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419112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4800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27:51Z</dcterms:modified>
  <cp:revision>134</cp:revision>
  <dc:subject/>
  <dc:title>Slide 1</dc:title>
</cp:coreProperties>
</file>