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8A8D-AA4A-4ECD-8932-CC752205F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0795-E020-4F9F-BF13-1EC3F406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88A-A3CC-4F72-8469-349E7187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B314-7B1D-4E95-8B1B-B3E6E7397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2690-58E1-4E12-8DAD-FF1C59731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933A-61BB-4F40-A1BD-3F789F56A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C5DD-7622-465D-AE13-BA40C159A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2A31-ED19-47C5-890A-694DDAB5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1D3E-1D01-4AE0-97CD-698083F2A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CA01-9F65-4CCD-99F7-E0863D8BD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204C-2D99-48DE-B719-C7249F6F8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3068-9DBC-44A3-BBE8-2453FABF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357C-CBF9-4FB1-852F-B30786CB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01F0-91B0-4ECC-A566-ADBEEB03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9540-1601-4785-87EB-8732A0CC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8699-B8AD-4F99-A31C-56F70557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E6A4-2701-45B9-854A-20327E961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7A0A-8B65-4C5D-8B1E-C5AFEC8B8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4220-E7DC-4945-9A26-347AB1A0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308F-962B-44B7-A046-34BD5CB2E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949D-00E0-4A5E-9329-DDA651DF5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539-4A8C-4959-BCA4-498CB4F7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B09-BFD6-4650-935F-22D13DB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7D65-2E54-454F-B125-B44FD6B7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9A5-AE0F-4286-9517-5CD5B5F5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200-F00D-458A-882C-525B5530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5652-C67D-49B7-9ACD-32CA8FD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584-DE60-4C24-8984-FCB604FC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3F6-C7B7-45CF-8986-4DF1F63D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BCC-B91A-435B-8FC9-5A23FB9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5BD-FCD5-4E3D-93F8-574B502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93F-2448-48F9-B12F-A7F2D8F8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13F-B44B-4757-9444-8EA0024E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E0A5-88FE-4472-9B86-968B2AFF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Kids play all da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Kids in Spain play ta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mmariz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Gam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quip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- A phrase is a group of two or more words that can be read together in a sentenc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685800" y="1752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Kids Play”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The Parts of the House Ar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6" descr="house_off"/>
          <p:cNvPicPr/>
          <p:nvPr/>
        </p:nvPicPr>
        <p:blipFill>
          <a:blip r:embed="rId1"/>
          <a:stretch/>
        </p:blipFill>
        <p:spPr>
          <a:xfrm>
            <a:off x="2362320" y="2209680"/>
            <a:ext cx="4362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grumbling, you are complaining or letting others know you are unhappy about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umb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w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umblin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6" descr="DSC00688"/>
          <p:cNvPicPr/>
          <p:nvPr/>
        </p:nvPicPr>
        <p:blipFill>
          <a:blip r:embed="rId1"/>
          <a:stretch/>
        </p:blipFill>
        <p:spPr>
          <a:xfrm>
            <a:off x="1066680" y="1523880"/>
            <a:ext cx="319104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les of the house starte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umbl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ring the argu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tar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grumbl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it starts raining just as I’m going to go outsi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you star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umbl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you were given a rock for your birthday or if you were given a to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id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I chided you, I corrected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28600" y="6019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not wearing a helmet while skateboar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5" descr="istockphoto_741346-sad-little-boy-sitting-on-his-skateboard"/>
          <p:cNvPicPr/>
          <p:nvPr/>
        </p:nvPicPr>
        <p:blipFill>
          <a:blip r:embed="rId1"/>
          <a:stretch/>
        </p:blipFill>
        <p:spPr>
          <a:xfrm>
            <a:off x="1066680" y="1752480"/>
            <a:ext cx="32227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h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chid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ther parts of the house for saying they were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friend for burning the cook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eing on time or for being 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do you shop for f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 you buy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My family shops at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e buy ________  at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realized something, you suddenly underst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knew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liz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762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y shoes were on backw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3" descr="shoes_on_backwards"/>
          <p:cNvPicPr/>
          <p:nvPr/>
        </p:nvPicPr>
        <p:blipFill>
          <a:blip r:embed="rId1"/>
          <a:stretch/>
        </p:blipFill>
        <p:spPr>
          <a:xfrm>
            <a:off x="152280" y="1962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s of the house stopped arguing when 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hey were all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had left my lunch at home when I couldn’t find my lunch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more likely that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had brown hair or that you could whist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tell them what you say if you were grumbling about the we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tell them what you would say if chided your dog for ba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tell them what you have realized about being in first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152280" y="1523880"/>
            <a:ext cx="8991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orning, every member of the large family was sitting around the ta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ouse heard all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u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guing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0"/>
          <p:cNvSpPr/>
          <p:nvPr/>
        </p:nvSpPr>
        <p:spPr>
          <a:xfrm>
            <a:off x="7238880" y="0"/>
            <a:ext cx="1905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2" descr="la39"/>
          <p:cNvPicPr/>
          <p:nvPr/>
        </p:nvPicPr>
        <p:blipFill>
          <a:blip r:embed="rId1"/>
          <a:stretch/>
        </p:blipFill>
        <p:spPr>
          <a:xfrm>
            <a:off x="1676520" y="0"/>
            <a:ext cx="55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8001000" y="0"/>
            <a:ext cx="1143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la40"/>
          <p:cNvPicPr/>
          <p:nvPr/>
        </p:nvPicPr>
        <p:blipFill>
          <a:blip r:embed="rId1"/>
          <a:stretch/>
        </p:blipFill>
        <p:spPr>
          <a:xfrm>
            <a:off x="1862280" y="0"/>
            <a:ext cx="54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d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ctate a Describing Sent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ur classroom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g and sun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th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web of something that you would like to describ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6019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205704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457200" y="586728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867280" y="57150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Market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FarmersMarketVeggies"/>
          <p:cNvPicPr/>
          <p:nvPr/>
        </p:nvPicPr>
        <p:blipFill>
          <a:blip r:embed="rId1"/>
          <a:stretch/>
        </p:blipFill>
        <p:spPr>
          <a:xfrm>
            <a:off x="990720" y="167652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ld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ubstitute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MPj04228180000[1]"/>
          <p:cNvPicPr/>
          <p:nvPr/>
        </p:nvPicPr>
        <p:blipFill>
          <a:blip r:embed="rId1"/>
          <a:stretch/>
        </p:blipFill>
        <p:spPr>
          <a:xfrm>
            <a:off x="4724280" y="990720"/>
            <a:ext cx="374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a/ ai, 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a/ sound, make an a with you fingers.  When I say a word that does not have /a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a/ sound in the middle, make an /a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533520" y="1600200"/>
            <a:ext cx="4038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57200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657600" y="32767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35268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49568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3505320" y="4267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39625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4114800" y="3124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43434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3962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40384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46483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3809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3657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419112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800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27:51Z</dcterms:modified>
  <cp:revision>134</cp:revision>
  <dc:subject/>
  <dc:title>Slide 1</dc:title>
</cp:coreProperties>
</file>