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059A-1BFF-4D24-A814-E0FA34EAD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F24F-CB7C-4FB8-AEE1-5B01D97C7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0C97-A4D7-4E22-818A-45001730B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19F9-38C9-4E0D-B44B-9E2AACEA7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DC65-1F78-4B60-8368-E77AB91FA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B230-6AEA-4AAA-AB4B-D1ECDF723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55FA-6557-44EF-AAB4-08D3978BA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23CA-F35A-449A-9E2C-18357BFD5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9889-4177-4C8B-BBAE-9DA2AC191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46AF-BAB6-41F9-AF45-5AD76A75B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E4B7-274E-4371-8C2C-B4E99921C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368E-E20A-411E-92B6-1B446C282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96D1-E461-4DBD-9120-A02C0CD3F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972E-60DC-4639-BAA4-11A8D56A6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5026-D7D0-4935-BC37-86FF44E79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3E9F-37EF-4D53-AB39-E2C298E56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A270-2775-4E55-8E2A-8841054F8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6B3A-1CBD-43DE-8A52-4D4CC69AA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24F8-5A1A-42B0-89F1-224DC6187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5126-B8E5-4D99-BDE8-F976E0786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95C7-61E8-4205-9097-A98A83ECC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3CE5-59E0-4B1A-B592-387274BD9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4A1B-4A82-4F29-BC1B-DE0009D11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0F60-E60B-439D-A29A-5F196519F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AA3A-6B92-4EB4-8A4B-E11C16D56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5487-2482-463A-9E4D-B3F6590A1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3D4B-EFC1-46F3-891A-0609C6B3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6743-E667-4A5F-AB72-5C63A488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4C42-5118-4825-9B65-1457821E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28C5-B860-4B8A-93B3-BF0B5792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515A-B032-4A12-883C-7F736BA1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B932-E7B1-49B8-8F8C-0A47B6ED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6903-3B97-4931-AB8E-87AA2732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A2BA-BC7A-4880-8BA9-D1D2471D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B30D-353D-41B1-9D7E-4A9A8521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A736-A83E-4E7C-B1D2-42465EA5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40AE-E71A-4098-9E8D-A9A7EE52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58F7-F491-4992-9515-5B7800237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20, Day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Cause and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2520" y="685800"/>
            <a:ext cx="40388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o find cause and effect, ask two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What happened? 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The boy is cry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Why did it happen?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The boy dropped his ice cream on the ro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he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cause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is the boy dropping his ice cr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he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effect 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is that he is cry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Content Placeholder 5" descr="windy day.bmp"/>
          <p:cNvPicPr/>
          <p:nvPr/>
        </p:nvPicPr>
        <p:blipFill>
          <a:blip r:embed="rId1"/>
          <a:stretch/>
        </p:blipFill>
        <p:spPr>
          <a:xfrm>
            <a:off x="2819520" y="3200400"/>
            <a:ext cx="2176200" cy="29019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151920" y="0"/>
            <a:ext cx="225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To recogn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e-and-effect in a t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632520" y="609480"/>
            <a:ext cx="40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gs happen in a story for a rea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ppens is called </a:t>
            </a: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eff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Why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ppens is called </a:t>
            </a: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cau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cry.jpg"/>
          <p:cNvPicPr/>
          <p:nvPr/>
        </p:nvPicPr>
        <p:blipFill>
          <a:blip r:embed="rId2"/>
          <a:stretch/>
        </p:blipFill>
        <p:spPr>
          <a:xfrm>
            <a:off x="533520" y="1523880"/>
            <a:ext cx="329220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133720"/>
            <a:ext cx="525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haroni"/>
                <a:ea typeface="Aharoni"/>
              </a:rPr>
              <a:t>Cause and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o find cause and effect, ask two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What happened? 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Little Rabbit  thinks the sky is fa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Why did it happen?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An apple hit him on the h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he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cause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is the apple hitting him on the h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he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effect 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is that he thinks the sky is fa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Content Placeholder 5" descr="windy day.bmp"/>
          <p:cNvPicPr/>
          <p:nvPr/>
        </p:nvPicPr>
        <p:blipFill>
          <a:blip r:embed="rId1"/>
          <a:stretch/>
        </p:blipFill>
        <p:spPr>
          <a:xfrm>
            <a:off x="609480" y="2971800"/>
            <a:ext cx="4038840" cy="305424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151920" y="0"/>
            <a:ext cx="225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To recogn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e-and-effect in a t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551520" y="762120"/>
            <a:ext cx="42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we notice cause and effec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ory it helps us understand the s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.  Do you remember the caus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 for Little Rabbit’s Ta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6840" y="-360"/>
            <a:ext cx="3429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s to Kn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Frequenc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c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w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h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f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739400" y="152280"/>
            <a:ext cx="257508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s to Kn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clot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cam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Arc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snowsh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97a0"/>
                </a:solidFill>
                <a:latin typeface="Andalus"/>
                <a:ea typeface="Andalus"/>
              </a:rPr>
              <a:t>Nonfiction selections tell facts about real things in the world.  They often have photos of real people and pl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2362320"/>
          <a:ext cx="8229600" cy="3927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haroni"/>
                          <a:ea typeface="Aharoni"/>
                        </a:rPr>
                        <a:t>Cloth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haroni"/>
                          <a:ea typeface="Aharoni"/>
                        </a:rPr>
                        <a:t>Climat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haroni"/>
                          <a:ea typeface="Aharoni"/>
                        </a:rPr>
                        <a:t>Hom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2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18" name="TextBox 4"/>
          <p:cNvSpPr/>
          <p:nvPr/>
        </p:nvSpPr>
        <p:spPr>
          <a:xfrm>
            <a:off x="2890080" y="1219320"/>
            <a:ext cx="36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0a0"/>
                </a:solidFill>
                <a:latin typeface="Aharoni"/>
                <a:ea typeface="Aharoni"/>
              </a:rPr>
              <a:t>Ways People L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haroni"/>
                <a:ea typeface="Aharoni"/>
              </a:rPr>
              <a:t>by Emily N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Straight Arrow Connector 8"/>
          <p:cNvCxnSpPr/>
          <p:nvPr/>
        </p:nvCxnSpPr>
        <p:spPr>
          <a:xfrm>
            <a:off x="5486400" y="2666520"/>
            <a:ext cx="381600" cy="252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120" name="Straight Arrow Connector 6"/>
          <p:cNvCxnSpPr/>
          <p:nvPr/>
        </p:nvCxnSpPr>
        <p:spPr>
          <a:xfrm flipH="1" flipV="1">
            <a:off x="3292200" y="2667960"/>
            <a:ext cx="365760" cy="1080"/>
          </a:xfrm>
          <a:prstGeom prst="straightConnector1">
            <a:avLst/>
          </a:prstGeom>
          <a:ln w="31680">
            <a:solidFill>
              <a:srgbClr val="0e1e2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umb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iz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252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are grumbling, you are complaining or letting others know you are unhappy about someth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grumbling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457200" y="57913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irls we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umbling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6" descr="DSC00688"/>
          <p:cNvPicPr/>
          <p:nvPr/>
        </p:nvPicPr>
        <p:blipFill>
          <a:blip r:embed="rId1"/>
          <a:stretch/>
        </p:blipFill>
        <p:spPr>
          <a:xfrm>
            <a:off x="1066680" y="1523880"/>
            <a:ext cx="3191040" cy="4257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6019920" y="0"/>
            <a:ext cx="3124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705600" y="762120"/>
            <a:ext cx="68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On my signal, answer this question in one vo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with “yes” or “n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You just won a prize. Would you start grumbl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952200" y="3581280"/>
            <a:ext cx="728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On my signal, answer this question in one vo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with “loudly” or “softly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If you are grumbling about something, do you spe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loudly or soft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5"/>
          <p:cNvSpPr/>
          <p:nvPr/>
        </p:nvSpPr>
        <p:spPr>
          <a:xfrm>
            <a:off x="990720" y="3200400"/>
            <a:ext cx="722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hid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I chided you, I corrected you.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2"/>
          <p:cNvSpPr/>
          <p:nvPr/>
        </p:nvSpPr>
        <p:spPr>
          <a:xfrm>
            <a:off x="228600" y="60199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ild w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i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not wearing a helmet while skateboar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5" descr="istockphoto_741346-sad-little-boy-sitting-on-his-skateboard"/>
          <p:cNvPicPr/>
          <p:nvPr/>
        </p:nvPicPr>
        <p:blipFill>
          <a:blip r:embed="rId1"/>
          <a:stretch/>
        </p:blipFill>
        <p:spPr>
          <a:xfrm>
            <a:off x="1066680" y="1752480"/>
            <a:ext cx="322272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6019920" y="0"/>
            <a:ext cx="3124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720360" y="762120"/>
            <a:ext cx="8127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If you would chide someone who did these things, sh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your finger.  If you would </a:t>
            </a:r>
            <a:r>
              <a:rPr b="0" lang="en-US" sz="2400" spc="-1" strike="noStrike" u="sng">
                <a:solidFill>
                  <a:srgbClr val="7030a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 chide someone who did th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things, do </a:t>
            </a:r>
            <a:r>
              <a:rPr b="0" lang="en-US" sz="2400" spc="-1" strike="noStrike" u="sng">
                <a:solidFill>
                  <a:srgbClr val="7030a0"/>
                </a:solidFill>
                <a:uFillTx/>
                <a:latin typeface="Arial"/>
              </a:rPr>
              <a:t>nothing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eat your snack without per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say mean things to your fri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pour all your crayons on the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buy you an ice c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help you become a better r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fingerwag.jpg"/>
          <p:cNvPicPr/>
          <p:nvPr/>
        </p:nvPicPr>
        <p:blipFill>
          <a:blip r:embed="rId1"/>
          <a:stretch/>
        </p:blipFill>
        <p:spPr>
          <a:xfrm>
            <a:off x="6172200" y="2514600"/>
            <a:ext cx="2413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5867280" y="1981080"/>
            <a:ext cx="3033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realized something, you suddenly understo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r knew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realiz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762120" y="624852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liz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my shoes were on backw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3" descr="shoes_on_backwards"/>
          <p:cNvPicPr/>
          <p:nvPr/>
        </p:nvPicPr>
        <p:blipFill>
          <a:blip r:embed="rId1"/>
          <a:stretch/>
        </p:blipFill>
        <p:spPr>
          <a:xfrm>
            <a:off x="152280" y="196200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things do children like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like to ________ because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6019920" y="0"/>
            <a:ext cx="3124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724320" y="762120"/>
            <a:ext cx="849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haroni"/>
                <a:ea typeface="Aharoni"/>
              </a:rPr>
              <a:t>On my signal, turn and talk to your partner to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haroni"/>
                <a:ea typeface="Aharoni"/>
              </a:rPr>
              <a:t>something you realized after reading “Ways People Live.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haroni"/>
                <a:ea typeface="Aharoni"/>
              </a:rPr>
              <a:t>Be prepared to complete this 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haroni"/>
                <a:ea typeface="Aharoni"/>
              </a:rPr>
              <a:t>When I read “Ways People Live,” I realized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haroni"/>
                <a:ea typeface="Aharoni"/>
              </a:rPr>
              <a:t>___________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and use describing words that tell about taste, smell, sound, and fe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152280" y="1523880"/>
            <a:ext cx="8991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haroni"/>
                <a:ea typeface="Aharoni"/>
              </a:rPr>
              <a:t>Safe at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haroni"/>
                <a:ea typeface="Aharoni"/>
              </a:rPr>
              <a:t>There’s a growling noise outside like a b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haroni"/>
                <a:ea typeface="Aharoni"/>
              </a:rPr>
              <a:t>There’s a musty smell like wet leaves in the 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haroni"/>
                <a:ea typeface="Aharoni"/>
              </a:rPr>
              <a:t>But inside my house, I feel cozy and wa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haroni"/>
                <a:ea typeface="Aharoni"/>
              </a:rPr>
              <a:t>I’m safe and I’m dry here away from the st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066680" y="8380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6bcf"/>
                </a:solidFill>
                <a:latin typeface="Aharoni"/>
                <a:ea typeface="Aharoni"/>
              </a:rPr>
              <a:t>Can you find the describing words in this po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7620120" y="0"/>
            <a:ext cx="1523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write using describing words can tell about taste, smell, sound, and fe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228600" y="304920"/>
            <a:ext cx="8077320" cy="54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scription of a P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names th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ells what you can see, taste, smell, hear, and fe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elps readers feel as if they are in th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Which sentence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makes you feel like you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were ther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he birds flew over our bo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216d"/>
                </a:solidFill>
                <a:latin typeface="Arial"/>
              </a:rPr>
              <a:t>Our little sailboat rocked with excitement wh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216d"/>
                </a:solidFill>
                <a:latin typeface="Arial"/>
              </a:rPr>
              <a:t>the large screeching eagles swooped low over 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216d"/>
                </a:solidFill>
                <a:latin typeface="Arial"/>
              </a:rPr>
              <a:t>head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7086600" y="22860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can tell about taste, smell, sound, and fee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1219320" y="541008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haroni"/>
                <a:ea typeface="Aharoni"/>
              </a:rPr>
              <a:t>You can use descriptive words to make your writing more interesting to a rea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ve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new descriptive web or use yesterday’s web to work on your sentence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858000" y="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can tell about taste, smell, sound, and fee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6"/>
          <p:cNvSpPr/>
          <p:nvPr/>
        </p:nvSpPr>
        <p:spPr>
          <a:xfrm>
            <a:off x="2895480" y="3429000"/>
            <a:ext cx="3276720" cy="19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5791320" y="502920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 flipV="1">
            <a:off x="6019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9"/>
          <p:cNvSpPr/>
          <p:nvPr/>
        </p:nvSpPr>
        <p:spPr>
          <a:xfrm flipH="1">
            <a:off x="2057040" y="502920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0"/>
          <p:cNvSpPr/>
          <p:nvPr/>
        </p:nvSpPr>
        <p:spPr>
          <a:xfrm flipH="1" flipV="1">
            <a:off x="2209320" y="320040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1"/>
          <p:cNvSpPr/>
          <p:nvPr/>
        </p:nvSpPr>
        <p:spPr>
          <a:xfrm>
            <a:off x="457200" y="5867280"/>
            <a:ext cx="18288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"/>
          <p:cNvSpPr/>
          <p:nvPr/>
        </p:nvSpPr>
        <p:spPr>
          <a:xfrm>
            <a:off x="1066680" y="2438280"/>
            <a:ext cx="175284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3"/>
          <p:cNvSpPr/>
          <p:nvPr/>
        </p:nvSpPr>
        <p:spPr>
          <a:xfrm>
            <a:off x="6629400" y="2133720"/>
            <a:ext cx="182880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4"/>
          <p:cNvSpPr/>
          <p:nvPr/>
        </p:nvSpPr>
        <p:spPr>
          <a:xfrm>
            <a:off x="5867280" y="5715000"/>
            <a:ext cx="18288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7" descr="FarmersMarketVeggies"/>
          <p:cNvPicPr/>
          <p:nvPr/>
        </p:nvPicPr>
        <p:blipFill>
          <a:blip r:embed="rId1"/>
          <a:stretch/>
        </p:blipFill>
        <p:spPr>
          <a:xfrm>
            <a:off x="2209680" y="1523880"/>
            <a:ext cx="5000760" cy="5000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listen for a purpo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209680" y="228600"/>
            <a:ext cx="480060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Read Alou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So Many Children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248400" y="5867280"/>
            <a:ext cx="35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ok of Rhymes and Poem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 3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haroni"/>
                <a:ea typeface="Aharoni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hu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d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told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ould</a:t>
            </a:r>
            <a:r>
              <a:rPr b="1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o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ca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10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lete phonemes to make new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240" y="8380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5" descr="C:\Users\Janice\AppData\Local\Microsoft\Windows\Temporary Internet Files\Content.IE5\N13ABA2C\MCj04298090000[1].wmf"/>
          <p:cNvPicPr/>
          <p:nvPr/>
        </p:nvPicPr>
        <p:blipFill>
          <a:blip r:embed="rId1"/>
          <a:stretch/>
        </p:blipFill>
        <p:spPr>
          <a:xfrm>
            <a:off x="457200" y="228600"/>
            <a:ext cx="18637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6" descr="C:\Users\Janice\AppData\Local\Microsoft\Windows\Temporary Internet Files\Content.IE5\N13ABA2C\MCj04298090000[1].wmf"/>
          <p:cNvPicPr/>
          <p:nvPr/>
        </p:nvPicPr>
        <p:blipFill>
          <a:blip r:embed="rId2"/>
          <a:stretch/>
        </p:blipFill>
        <p:spPr>
          <a:xfrm>
            <a:off x="6095880" y="2057400"/>
            <a:ext cx="186372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352320" y="1371600"/>
            <a:ext cx="838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a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657600" y="1371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3809880" y="2362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3352680" y="2362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4572000" y="1371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3657600" y="327672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6"/>
          <p:cNvSpPr/>
          <p:nvPr/>
        </p:nvSpPr>
        <p:spPr>
          <a:xfrm>
            <a:off x="3352680" y="327672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7"/>
          <p:cNvSpPr/>
          <p:nvPr/>
        </p:nvSpPr>
        <p:spPr>
          <a:xfrm>
            <a:off x="4419720" y="2362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3"/>
          <p:cNvSpPr/>
          <p:nvPr/>
        </p:nvSpPr>
        <p:spPr>
          <a:xfrm>
            <a:off x="4495680" y="32767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7"/>
          <p:cNvSpPr/>
          <p:nvPr/>
        </p:nvSpPr>
        <p:spPr>
          <a:xfrm>
            <a:off x="3505320" y="4267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1"/>
          <p:cNvSpPr/>
          <p:nvPr/>
        </p:nvSpPr>
        <p:spPr>
          <a:xfrm>
            <a:off x="3962520" y="42670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a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809880" y="12952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3657600" y="2209680"/>
            <a:ext cx="914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4267080" y="1295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2"/>
          <p:cNvSpPr/>
          <p:nvPr/>
        </p:nvSpPr>
        <p:spPr>
          <a:xfrm>
            <a:off x="4191120" y="2209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3"/>
          <p:cNvSpPr/>
          <p:nvPr/>
        </p:nvSpPr>
        <p:spPr>
          <a:xfrm>
            <a:off x="3657600" y="3124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4"/>
          <p:cNvSpPr/>
          <p:nvPr/>
        </p:nvSpPr>
        <p:spPr>
          <a:xfrm>
            <a:off x="4114800" y="31240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5"/>
          <p:cNvSpPr/>
          <p:nvPr/>
        </p:nvSpPr>
        <p:spPr>
          <a:xfrm>
            <a:off x="4343400" y="3124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6"/>
          <p:cNvSpPr/>
          <p:nvPr/>
        </p:nvSpPr>
        <p:spPr>
          <a:xfrm>
            <a:off x="3505320" y="4038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7"/>
          <p:cNvSpPr/>
          <p:nvPr/>
        </p:nvSpPr>
        <p:spPr>
          <a:xfrm>
            <a:off x="3962520" y="4038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8"/>
          <p:cNvSpPr/>
          <p:nvPr/>
        </p:nvSpPr>
        <p:spPr>
          <a:xfrm>
            <a:off x="4191120" y="4038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9"/>
          <p:cNvSpPr/>
          <p:nvPr/>
        </p:nvSpPr>
        <p:spPr>
          <a:xfrm>
            <a:off x="4038480" y="48006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0"/>
          <p:cNvSpPr/>
          <p:nvPr/>
        </p:nvSpPr>
        <p:spPr>
          <a:xfrm>
            <a:off x="4876920" y="40384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1"/>
          <p:cNvSpPr/>
          <p:nvPr/>
        </p:nvSpPr>
        <p:spPr>
          <a:xfrm>
            <a:off x="4648320" y="48006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2"/>
          <p:cNvSpPr/>
          <p:nvPr/>
        </p:nvSpPr>
        <p:spPr>
          <a:xfrm>
            <a:off x="3809880" y="48006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3"/>
          <p:cNvSpPr/>
          <p:nvPr/>
        </p:nvSpPr>
        <p:spPr>
          <a:xfrm>
            <a:off x="3657600" y="56386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4"/>
          <p:cNvSpPr/>
          <p:nvPr/>
        </p:nvSpPr>
        <p:spPr>
          <a:xfrm>
            <a:off x="4191120" y="56386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5"/>
          <p:cNvSpPr/>
          <p:nvPr/>
        </p:nvSpPr>
        <p:spPr>
          <a:xfrm>
            <a:off x="4800600" y="56386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38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haroni"/>
                <a:ea typeface="Aharoni"/>
              </a:rPr>
              <a:t>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haroni"/>
                <a:ea typeface="Aharoni"/>
              </a:rPr>
              <a:t>s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haroni"/>
                <a:ea typeface="Aharoni"/>
              </a:rPr>
              <a:t>pl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haroni"/>
                <a:ea typeface="Aharoni"/>
              </a:rPr>
              <a:t>pla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haroni"/>
                <a:ea typeface="Aharoni"/>
              </a:rPr>
              <a:t>ra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5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5886360" y="1752480"/>
            <a:ext cx="15447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haroni"/>
                <a:ea typeface="Aharoni"/>
              </a:rPr>
              <a:t>wa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haroni"/>
                <a:ea typeface="Aharoni"/>
              </a:rPr>
              <a:t>fe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haroni"/>
                <a:ea typeface="Aharoni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haroni"/>
                <a:ea typeface="Aharoni"/>
              </a:rPr>
              <a:t>do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haroni"/>
                <a:ea typeface="Aharoni"/>
              </a:rPr>
              <a:t>t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Read Words in Con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onstantia"/>
              </a:rPr>
              <a:t>We must wait for the rain to sto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We may have to play in the house all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onstantia"/>
              </a:rPr>
              <a:t>Did you say someth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onstantia"/>
              </a:rPr>
              <a:t>Dad told me to stay 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575"/>
                </a:solidFill>
                <a:latin typeface="Constantia"/>
              </a:rPr>
              <a:t>It is plain that the shoes are too bi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2-15T05:29:38Z</dcterms:modified>
  <cp:revision>164</cp:revision>
  <dc:subject/>
  <dc:title>Slide 1</dc:title>
</cp:coreProperties>
</file>