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C494-086C-481E-B7EE-C327331A8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4E21-BAF9-4602-AFEB-83AA7E08A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A991-3B2A-433B-B265-14284FB62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9E53-C705-40AF-B031-2E6AC9968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EAB7-38DF-4459-AA88-FEAF556D0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D018-C1FF-41C0-8FF8-8C7D78852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2550-5F25-4B68-869B-5DC56C38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25C2-15E4-40A4-8B5D-BC0E5C010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5AE4-4FA8-41F0-BC14-1147FB4A5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2156-1AE1-4AD9-9CEC-AA99FE33C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939A-FE43-4A34-8EF5-66F56885D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D7BE-7710-4556-AB36-C0E218391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6C7F-6E80-44B5-A3FD-4C739F3B3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F116-DDEB-4DC3-A3A9-16ACCD680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D114-F587-46DC-AE45-CC4320FD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861B-2314-4B0A-8D10-313AC9604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22AA-192D-45C7-A401-F7730B763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4398-41C0-4CB7-8E10-35121B5A6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3F98-84A4-44A9-B789-DE7E2EAD8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B93B-EE91-4F12-AA54-623402A0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AB85-D7FF-4AA4-9130-BE4871CED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0B96-AC4A-401F-8ADB-92F26CE7F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C947-8AC8-466F-B461-9BB2ACE6F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2F18-0F12-45DA-9F07-405B260C6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4FAB-CFED-4B43-AFAF-3E7040029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025-95F1-4E0B-8580-59E17F00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44F-C7B1-4372-9FDB-5ABCAF51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FEA-7700-41E6-BE36-2AA39A67D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E5B-4F00-47DF-ACE5-B8B83DF3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85F-E5DC-418B-B86B-08E137BA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D8C-A0FC-4EAF-93B9-A22D868B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39C-0BFF-4B61-87E9-B0B6DB6B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9DD-FB9B-4D9F-8978-F4CAF9DF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AAB-B7CB-4768-972B-11065ED7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8C1-CB68-4DD6-82A4-632FB59C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020-F743-40FC-ACF7-5D99181D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46D-A2C4-4E94-84C6-18F83C6F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B4EC-37B6-4A4F-848F-298EA1047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20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685800"/>
            <a:ext cx="4038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The boy is cr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The boy dropped his ice cream on the r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is the boy dropping his ice c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s that he is cr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5" descr="windy day.bmp"/>
          <p:cNvPicPr/>
          <p:nvPr/>
        </p:nvPicPr>
        <p:blipFill>
          <a:blip r:embed="rId1"/>
          <a:stretch/>
        </p:blipFill>
        <p:spPr>
          <a:xfrm>
            <a:off x="2819520" y="3200400"/>
            <a:ext cx="2176200" cy="2901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632520" y="609480"/>
            <a:ext cx="40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happen in a story for a rea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Wh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c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cry.jpg"/>
          <p:cNvPicPr/>
          <p:nvPr/>
        </p:nvPicPr>
        <p:blipFill>
          <a:blip r:embed="rId2"/>
          <a:stretch/>
        </p:blipFill>
        <p:spPr>
          <a:xfrm>
            <a:off x="533520" y="1523880"/>
            <a:ext cx="32922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133720"/>
            <a:ext cx="525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Little Rabbit 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An apple hit him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is the apple hitting him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s that he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5" descr="windy day.bmp"/>
          <p:cNvPicPr/>
          <p:nvPr/>
        </p:nvPicPr>
        <p:blipFill>
          <a:blip r:embed="rId1"/>
          <a:stretch/>
        </p:blipFill>
        <p:spPr>
          <a:xfrm>
            <a:off x="609480" y="2971800"/>
            <a:ext cx="4038840" cy="30542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51520" y="762120"/>
            <a:ext cx="42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notice cause and effec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ory it helps us understand the s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.  Do you remember the caus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for Little Rabbit’s Ta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3429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c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739400" y="152280"/>
            <a:ext cx="25750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lot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m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Arc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snow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97a0"/>
                </a:solidFill>
                <a:latin typeface="Andalus"/>
                <a:ea typeface="Andalus"/>
              </a:rPr>
              <a:t>Nonfiction selections tell facts about real things in the world.  They often have photos of real people and p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362320"/>
          <a:ext cx="8229600" cy="3927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haroni"/>
                          <a:ea typeface="Aharoni"/>
                        </a:rPr>
                        <a:t>Cloth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haroni"/>
                          <a:ea typeface="Aharoni"/>
                        </a:rPr>
                        <a:t>Clima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haroni"/>
                          <a:ea typeface="Aharoni"/>
                        </a:rPr>
                        <a:t>Hom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18" name="TextBox 4"/>
          <p:cNvSpPr/>
          <p:nvPr/>
        </p:nvSpPr>
        <p:spPr>
          <a:xfrm>
            <a:off x="2890080" y="1219320"/>
            <a:ext cx="36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Ways People 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by Emily N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8"/>
          <p:cNvCxnSpPr/>
          <p:nvPr/>
        </p:nvCxnSpPr>
        <p:spPr>
          <a:xfrm>
            <a:off x="5486400" y="2666520"/>
            <a:ext cx="38160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20" name="Straight Arrow Connector 6"/>
          <p:cNvCxnSpPr/>
          <p:nvPr/>
        </p:nvCxnSpPr>
        <p:spPr>
          <a:xfrm flipH="1" flipV="1">
            <a:off x="3292200" y="2667960"/>
            <a:ext cx="365760" cy="1080"/>
          </a:xfrm>
          <a:prstGeom prst="straightConnector1">
            <a:avLst/>
          </a:prstGeom>
          <a:ln w="31680">
            <a:solidFill>
              <a:srgbClr val="0e1e2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m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grumbling, you are complaining or letting others know you are unhappy about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umb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57200" y="5791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s we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umbling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6" descr="DSC00688"/>
          <p:cNvPicPr/>
          <p:nvPr/>
        </p:nvPicPr>
        <p:blipFill>
          <a:blip r:embed="rId1"/>
          <a:stretch/>
        </p:blipFill>
        <p:spPr>
          <a:xfrm>
            <a:off x="1066680" y="1523880"/>
            <a:ext cx="3191040" cy="4257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705600" y="762120"/>
            <a:ext cx="68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On my signal, answer this question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You just won a prize. Would you start grumb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952200" y="3581280"/>
            <a:ext cx="728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On my signal, answer this question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ith “loudly” or “softl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If you are grumbling about something, do you sp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loudly or sof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>
            <a:off x="990720" y="3200400"/>
            <a:ext cx="72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id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I chided you, I corrected you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228600" y="6019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not wearing a helmet while skateboar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5" descr="istockphoto_741346-sad-little-boy-sitting-on-his-skateboard"/>
          <p:cNvPicPr/>
          <p:nvPr/>
        </p:nvPicPr>
        <p:blipFill>
          <a:blip r:embed="rId1"/>
          <a:stretch/>
        </p:blipFill>
        <p:spPr>
          <a:xfrm>
            <a:off x="1066680" y="1752480"/>
            <a:ext cx="32227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720360" y="762120"/>
            <a:ext cx="8127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If you would chide someone who did these things, sh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your finger.  If you would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chide someone who did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ings, do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eat your snack without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say mean things to your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pour all your crayons on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buy you an ice c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help you become a better 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fingerwag.jpg"/>
          <p:cNvPicPr/>
          <p:nvPr/>
        </p:nvPicPr>
        <p:blipFill>
          <a:blip r:embed="rId1"/>
          <a:stretch/>
        </p:blipFill>
        <p:spPr>
          <a:xfrm>
            <a:off x="6172200" y="2514600"/>
            <a:ext cx="2413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realized something, you suddenly underst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 knew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aliz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62120" y="62485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my shoes were on backw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3" descr="shoes_on_backwards"/>
          <p:cNvPicPr/>
          <p:nvPr/>
        </p:nvPicPr>
        <p:blipFill>
          <a:blip r:embed="rId1"/>
          <a:stretch/>
        </p:blipFill>
        <p:spPr>
          <a:xfrm>
            <a:off x="152280" y="1962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things do children lik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________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724320" y="762120"/>
            <a:ext cx="849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On my signal, turn and talk to your partner to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something you realized after reading “Ways People Live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Be prepared to complete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When I read “Ways People Live,” I realized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152280" y="1523880"/>
            <a:ext cx="8991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Safe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There’s a growling noise outside like a b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There’s a musty smell like wet leaves in the 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But inside my house, I feel cozy and w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I’m safe and I’m dry here away from the st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066680" y="838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haroni"/>
                <a:ea typeface="Aharoni"/>
              </a:rPr>
              <a:t>Can you find the describing words in this po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readers feel as if they are in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Which sentence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makes you feel like you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were the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he birds flew over our b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216d"/>
                </a:solidFill>
                <a:latin typeface="Arial"/>
              </a:rPr>
              <a:t>Our little sailboat rocked with excitement w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216d"/>
                </a:solidFill>
                <a:latin typeface="Arial"/>
              </a:rPr>
              <a:t>the large screeching eagles swooped low over 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216d"/>
                </a:solidFill>
                <a:latin typeface="Arial"/>
              </a:rPr>
              <a:t>hea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219320" y="54100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haroni"/>
                <a:ea typeface="Aharoni"/>
              </a:rPr>
              <a:t>You can use descriptive words to make your writing more interesting to a r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ve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new descriptive web or use yesterday’s web to work on your sentenc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5800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V="1">
            <a:off x="6019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 flipH="1">
            <a:off x="2057040" y="50292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457200" y="586728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5867280" y="57150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FarmersMarketVeggies"/>
          <p:cNvPicPr/>
          <p:nvPr/>
        </p:nvPicPr>
        <p:blipFill>
          <a:blip r:embed="rId1"/>
          <a:stretch/>
        </p:blipFill>
        <p:spPr>
          <a:xfrm>
            <a:off x="2209680" y="1523880"/>
            <a:ext cx="5000760" cy="5000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09680" y="228600"/>
            <a:ext cx="48006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o Many Children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48400" y="586728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old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ould</a:t>
            </a: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8380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18637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6095880" y="2057400"/>
            <a:ext cx="1863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57200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3657600" y="327672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3352680" y="3276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44197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4495680" y="3276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3505320" y="4267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3962520" y="4267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3657600" y="22096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426708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419112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65760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4114800" y="3124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43434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35053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3962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41911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4038480" y="48006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4876920" y="4038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4648320" y="4800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38098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3"/>
          <p:cNvSpPr/>
          <p:nvPr/>
        </p:nvSpPr>
        <p:spPr>
          <a:xfrm>
            <a:off x="3657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419112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4800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s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pl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5886360" y="1752480"/>
            <a:ext cx="1544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wa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fe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do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t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ead Words in 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onstantia"/>
              </a:rPr>
              <a:t>We must wait for the rain to st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We may have to play in the house all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onstantia"/>
              </a:rPr>
              <a:t>Did you say some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nstantia"/>
              </a:rPr>
              <a:t>Dad told me to stay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575"/>
                </a:solidFill>
                <a:latin typeface="Constantia"/>
              </a:rPr>
              <a:t>It is plain that the shoes are too b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15T05:29:38Z</dcterms:modified>
  <cp:revision>164</cp:revision>
  <dc:subject/>
  <dc:title>Slide 1</dc:title>
</cp:coreProperties>
</file>