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7463-7BE4-4E94-B27C-18290FFED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472C-2103-4155-968D-6B79B4BD0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A54D-A716-4756-95D0-88E4F3B07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303F-4BFC-45C6-B89D-FDE096E56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3E45-D6B9-430F-8C6C-D390746C0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7F81-0A09-4876-BA51-4F6C3AE63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EC88-8DE1-4EF1-88EB-0B909BE80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BD8F-6183-4868-BEA6-FD7E7442D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1C4F-15EC-4238-A012-3F79E0A9D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F654-FADF-4823-9866-7F78C6150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B2B2-6782-491B-A8CF-E31A3CE94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71C9-3AA8-4A93-9638-89B86B220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2481-37EA-4E50-BAD3-15E46BE11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A6AA-5415-41F8-B684-35000D853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8F71-759C-4A69-980A-DB1BA3F94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C480-83F7-4883-B367-5EAFC3BEB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0464-8D5B-40FE-A47E-21ABDC0B8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4CCD-6E4C-4970-BA09-1C9F3169A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F542-D4C7-4B30-B9F6-DEF547523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8FBC-565B-4CCB-8476-205EB1E1C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6490-20A3-4433-93D7-D431FC25F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016A-4633-4578-81F3-EDFD66512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4CB8-89DD-49CD-812B-A7DEF57A2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B418-7372-4E18-AB49-92A542CFB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700-FB87-445B-B76E-6193C762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E0B-CD7E-48AC-810A-2DF9B654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8694-97CA-4B5C-824D-7549F48A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FD5-5803-4874-9785-EC7A316F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47F4-4E8F-48F1-B704-F172F86C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263D-7ADE-4969-AE9D-0308708D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866D-D3C4-491E-929C-E1B4A645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C90-D3B3-4691-9E21-979D20C1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C809-47E9-4E72-91D7-3A2F95FD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C82E-9A95-45C4-BE5B-9B76FCA9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33B-CB9F-4B5B-9FE9-5B07F345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829-C09A-4EAC-8B2B-A5DDA030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7335-0E85-48D6-BB4C-ABC00851D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20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04920" y="2286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33520" y="914400"/>
            <a:ext cx="18288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ry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our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971800" y="990720"/>
            <a:ext cx="56386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*What word has three letters and rhymes with 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*What word has four letters and rhymes with p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*What word has four letters and rhymes with p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*What word has five letters and rhymes with 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3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3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3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3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3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3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Flu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nstantia"/>
              </a:rPr>
              <a:t>In the desert, / the air is very d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Rain will not fall / for many wee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The air is hot / in the daytime / but 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  </a:t>
            </a: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at nigh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620120" y="0"/>
            <a:ext cx="1523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with appropriate phrasing in a manner that sounds like natural spe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Cause and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632520" y="609480"/>
            <a:ext cx="40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happen in a story for a rea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 is called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Why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ppens is called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ca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57200" y="1523880"/>
            <a:ext cx="7848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he Parts of a House Argu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ame something that happened. Tell what caused it to hap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80880" y="4038480"/>
            <a:ext cx="83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Ways People L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Describe a type of weather from the selection. Tell how the weather affects the way people l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11"/>
          <p:cNvSpPr txBox="1"/>
          <p:nvPr/>
        </p:nvSpPr>
        <p:spPr>
          <a:xfrm>
            <a:off x="2133720" y="22860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Houses</a:t>
            </a:r>
            <a:endParaRPr b="1" lang="en-US" sz="5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7620120" y="0"/>
            <a:ext cx="15238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attentively and responsively to a poem. To review characteristics of poetr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295280" y="1143000"/>
            <a:ext cx="57150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u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aven’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und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i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ts in the ai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i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cks in the 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s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y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he mou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suitable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 porch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ches begin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jus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lik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ust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ding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C:\Documents and Settings\pawley\My Documents\houseface.JPG"/>
          <p:cNvPicPr/>
          <p:nvPr/>
        </p:nvPicPr>
        <p:blipFill>
          <a:blip r:embed="rId1"/>
          <a:stretch/>
        </p:blipFill>
        <p:spPr>
          <a:xfrm>
            <a:off x="152280" y="1600200"/>
            <a:ext cx="2100240" cy="3200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C:\Documents and Settings\pawley\My Documents\open_face_house2_jul_04.jpg"/>
          <p:cNvPicPr/>
          <p:nvPr/>
        </p:nvPicPr>
        <p:blipFill>
          <a:blip r:embed="rId2"/>
          <a:stretch/>
        </p:blipFill>
        <p:spPr>
          <a:xfrm>
            <a:off x="6095880" y="2362320"/>
            <a:ext cx="2887920" cy="2305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6"/>
          <p:cNvSpPr/>
          <p:nvPr/>
        </p:nvSpPr>
        <p:spPr>
          <a:xfrm>
            <a:off x="0" y="228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You read the words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tter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w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u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place that is bitterly cold is very, very col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itter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228600" y="55627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mperature in the Arctic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itter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C:\Documents and Settings\pawley\My Documents\bitterly cold.JPG"/>
          <p:cNvPicPr/>
          <p:nvPr/>
        </p:nvPicPr>
        <p:blipFill>
          <a:blip r:embed="rId1"/>
          <a:stretch/>
        </p:blipFill>
        <p:spPr>
          <a:xfrm>
            <a:off x="304920" y="1828800"/>
            <a:ext cx="4724280" cy="3548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53352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457200" y="38088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91fb1"/>
                </a:solidFill>
                <a:latin typeface="Arial"/>
              </a:rPr>
              <a:t>On my signal, answer these questions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91fb1"/>
                </a:solidFill>
                <a:latin typeface="Arial"/>
              </a:rPr>
              <a:t>with “yes” or “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1fb1"/>
                </a:solidFill>
                <a:latin typeface="Arial"/>
              </a:rPr>
              <a:t>*If it were bitterly cold outside, would you want to wear a co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1fb1"/>
                </a:solidFill>
                <a:latin typeface="Arial"/>
              </a:rPr>
              <a:t>*If it were bitterly cold outside, would you want to wear a bathing s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533520" y="41148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Tell what you would wear in a bitterly cold 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On my signal, you will turn and talk with your partner using this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I would wear 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well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 dwelling is a place where people live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228600" y="571500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rain forest, people might live i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we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ilt on stilts because there is so much water on the gr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C:\Documents and Settings\pawley\My Documents\dwelling.jpg"/>
          <p:cNvPicPr/>
          <p:nvPr/>
        </p:nvPicPr>
        <p:blipFill>
          <a:blip r:embed="rId1"/>
          <a:stretch/>
        </p:blipFill>
        <p:spPr>
          <a:xfrm>
            <a:off x="457200" y="205740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457200" y="38088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n my signal, answer these questions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ith “yes” or “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*In your dwelling, do you eat dinner with your fami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*In your dwelling, do you take classes from your teac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33520" y="35053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scribe a dwelling you have seen or vis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n my signal, you will turn and talk with your partner using this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dwelling was _______________.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do something for amusement, you do it for fu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d4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musem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838080" y="54864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rain forest, children swim and play under the waterfall fo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museme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C:\Documents and Settings\pawley\My Documents\waterfall.jpg"/>
          <p:cNvPicPr/>
          <p:nvPr/>
        </p:nvPicPr>
        <p:blipFill>
          <a:blip r:embed="rId1"/>
          <a:stretch/>
        </p:blipFill>
        <p:spPr>
          <a:xfrm>
            <a:off x="914400" y="2209680"/>
            <a:ext cx="4495680" cy="314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Constantia"/>
              </a:rPr>
              <a:t>What would you say to a new frie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 would tell a new friend _________.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457200" y="38088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d4592"/>
                </a:solidFill>
                <a:latin typeface="Arial"/>
              </a:rPr>
              <a:t>On my signal, answer these questions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d4592"/>
                </a:solidFill>
                <a:latin typeface="Arial"/>
              </a:rPr>
              <a:t>with “yes” or “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d4592"/>
                </a:solidFill>
                <a:latin typeface="Arial"/>
              </a:rPr>
              <a:t>*Would you go to the movies for amus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d4592"/>
                </a:solidFill>
                <a:latin typeface="Arial"/>
              </a:rPr>
              <a:t>*Would you clean your room for amus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457200" y="35053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Name something you do during the summer for amus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n my signal, you will turn and talk with your partner using this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uring the summer, I ________________.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taste, smell, sound, and fe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152280" y="762120"/>
            <a:ext cx="899172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80"/>
                </a:solidFill>
                <a:uFillTx/>
                <a:latin typeface="Aharoni"/>
                <a:ea typeface="Aharoni"/>
              </a:rPr>
              <a:t>The Best Cake i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yesterday, we baked a delicious cake.  It had s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a smell as it was baking. The cherry frosting tasted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sweet.  Our hands felt sticky after w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made the frosting.  there was a qu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sound while everyone ate the c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We all decided it was the best ca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in the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80880" y="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te, Smell, Sound, and F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Description of a P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desert, the air is very dry.  Rain will not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ny weeks.  The air is hot in the daytime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d at n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7086600" y="2286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457200" y="41148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What makes this a good description of a pl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457200" y="304920"/>
            <a:ext cx="830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like to visit the bakery.  The air smells so sweet there.  The rolls have a nice buttery taste.  The big front window lets lots of sunlight in.  The bakery is the most cheerful place I’ve ever be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934320" y="6095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C:\Documents and Settings\pawley\My Documents\bakery.jpg"/>
          <p:cNvPicPr/>
          <p:nvPr/>
        </p:nvPicPr>
        <p:blipFill>
          <a:blip r:embed="rId1"/>
          <a:stretch/>
        </p:blipFill>
        <p:spPr>
          <a:xfrm>
            <a:off x="990720" y="2819520"/>
            <a:ext cx="55623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7620120" y="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28600" y="304920"/>
            <a:ext cx="807732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scription of a 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ames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ells what you can see, taste, smell, hear, and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readers feel as if they are in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ve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new descriptive web or use yesterday’s web to work on your sentenc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85800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2895480" y="3429000"/>
            <a:ext cx="327672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5791320" y="50292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6019920" y="34290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 flipH="1">
            <a:off x="2743200" y="50292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 flipH="1" flipV="1">
            <a:off x="4267080" y="28954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1"/>
          <p:cNvSpPr/>
          <p:nvPr/>
        </p:nvSpPr>
        <p:spPr>
          <a:xfrm>
            <a:off x="838080" y="5257800"/>
            <a:ext cx="26672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"/>
          <p:cNvSpPr/>
          <p:nvPr/>
        </p:nvSpPr>
        <p:spPr>
          <a:xfrm>
            <a:off x="2895480" y="1981080"/>
            <a:ext cx="289584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3"/>
          <p:cNvSpPr/>
          <p:nvPr/>
        </p:nvSpPr>
        <p:spPr>
          <a:xfrm>
            <a:off x="6324480" y="2666880"/>
            <a:ext cx="266724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5867280" y="5105520"/>
            <a:ext cx="297180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"/>
          <p:cNvSpPr/>
          <p:nvPr/>
        </p:nvSpPr>
        <p:spPr>
          <a:xfrm flipH="1" flipV="1">
            <a:off x="2361960" y="411444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1"/>
          <p:cNvSpPr/>
          <p:nvPr/>
        </p:nvSpPr>
        <p:spPr>
          <a:xfrm>
            <a:off x="304920" y="2819520"/>
            <a:ext cx="2438280" cy="167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3429000" y="4191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1371600" y="533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380880" y="3505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6781680" y="2743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3505320" y="1981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4771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4" descr="C:\Documents and Settings\pawley\My Documents\ear.jpg"/>
          <p:cNvPicPr/>
          <p:nvPr/>
        </p:nvPicPr>
        <p:blipFill>
          <a:blip r:embed="rId1"/>
          <a:stretch/>
        </p:blipFill>
        <p:spPr>
          <a:xfrm>
            <a:off x="1371600" y="3200400"/>
            <a:ext cx="1066680" cy="909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5" descr="C:\Documents and Settings\pawley\My Documents\nose.jpg"/>
          <p:cNvPicPr/>
          <p:nvPr/>
        </p:nvPicPr>
        <p:blipFill>
          <a:blip r:embed="rId2"/>
          <a:stretch/>
        </p:blipFill>
        <p:spPr>
          <a:xfrm>
            <a:off x="1600200" y="5715000"/>
            <a:ext cx="939960" cy="750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7" descr="C:\Documents and Settings\pawley\My Documents\eys.jpg"/>
          <p:cNvPicPr/>
          <p:nvPr/>
        </p:nvPicPr>
        <p:blipFill>
          <a:blip r:embed="rId3"/>
          <a:stretch/>
        </p:blipFill>
        <p:spPr>
          <a:xfrm>
            <a:off x="3809880" y="2362320"/>
            <a:ext cx="1067040" cy="527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8" descr="C:\Documents and Settings\pawley\My Documents\taste.jpg"/>
          <p:cNvPicPr/>
          <p:nvPr/>
        </p:nvPicPr>
        <p:blipFill>
          <a:blip r:embed="rId4"/>
          <a:stretch/>
        </p:blipFill>
        <p:spPr>
          <a:xfrm>
            <a:off x="7238880" y="3124080"/>
            <a:ext cx="922320" cy="998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9" descr="C:\Documents and Settings\pawley\My Documents\feel.jpg"/>
          <p:cNvPicPr/>
          <p:nvPr/>
        </p:nvPicPr>
        <p:blipFill>
          <a:blip r:embed="rId5"/>
          <a:stretch/>
        </p:blipFill>
        <p:spPr>
          <a:xfrm>
            <a:off x="6705720" y="5616720"/>
            <a:ext cx="12952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FarmersMarketVeggies"/>
          <p:cNvPicPr/>
          <p:nvPr/>
        </p:nvPicPr>
        <p:blipFill>
          <a:blip r:embed="rId1"/>
          <a:stretch/>
        </p:blipFill>
        <p:spPr>
          <a:xfrm>
            <a:off x="2209680" y="1523880"/>
            <a:ext cx="5000760" cy="5000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09680" y="228600"/>
            <a:ext cx="48006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So Many Children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48400" y="586728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 3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d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holes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   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move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w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th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phonemes to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C:\Documents and Settings\pawley\My Documents\Sailboat.jpg"/>
          <p:cNvPicPr/>
          <p:nvPr/>
        </p:nvPicPr>
        <p:blipFill>
          <a:blip r:embed="rId1"/>
          <a:stretch/>
        </p:blipFill>
        <p:spPr>
          <a:xfrm>
            <a:off x="5743440" y="1295280"/>
            <a:ext cx="29782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1447920"/>
            <a:ext cx="838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5812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572000" y="1371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457200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3962520" y="3276720"/>
            <a:ext cx="1218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3657600" y="32767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4419720" y="2362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4800600" y="3276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3886200" y="42670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4267080" y="4267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5181480" y="2362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42900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3657600" y="22096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426708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419112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365760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4114800" y="3124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4724280" y="3124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35053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4191120" y="4038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434340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"/>
          <p:cNvSpPr/>
          <p:nvPr/>
        </p:nvSpPr>
        <p:spPr>
          <a:xfrm>
            <a:off x="4876920" y="4038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2"/>
          <p:cNvSpPr/>
          <p:nvPr/>
        </p:nvSpPr>
        <p:spPr>
          <a:xfrm>
            <a:off x="3657600" y="4800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8098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ng Vowel /a/ ai, 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c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r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y pup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“Sit!” 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ants t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ags h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i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sit,” 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its. Will 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its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ay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or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for my pup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1218960"/>
            <a:ext cx="3810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s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pl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r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wa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1371600" y="304920"/>
            <a:ext cx="6324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257800" y="1752480"/>
            <a:ext cx="1406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fe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do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t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3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3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3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3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3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3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15T05:33:19Z</dcterms:modified>
  <cp:revision>165</cp:revision>
  <dc:subject/>
  <dc:title>Slide 1</dc:title>
</cp:coreProperties>
</file>