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8452-8BCF-4B71-ABA1-C3D846F01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94D1-FC2F-4E14-8D75-70E062A57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4C39-E88D-4814-A998-E7EB0D691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5894-06DB-4A6D-B4E6-892554FEC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39C8-8DD1-47C4-BBC8-E239A6420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11FC-7FD0-4774-BA77-9B951AC50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5685-1AA0-453D-8AD1-6F3F733DF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4C9C-5572-4EB4-B315-4197F73C2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0B30-FFB3-4183-833F-DD494D19F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67DE-98E7-40F2-8EE8-1F807DB53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DB7B-12E8-4886-A226-F20986139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50C4-6C8E-4088-9A57-402D82A33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7F39-D6D6-469B-AC9A-F99A60A75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4788-2709-4B9F-8C9C-188F529B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D286-0A6C-4831-8F04-9E6F068ED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0732-BA72-4EEF-BC3D-34926253D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194D-DBD0-43C3-8423-01AACC84E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8B76-CB38-464B-A4A8-02265A4C1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2418-34AD-46CE-86C2-556335DA7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6A07-5137-44C5-A0DD-4BA55FC2B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DBC9-2A9D-4EA2-9C36-CF2602C40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EBC3-E51A-48C7-841F-3C35ACD2F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8820-7056-42D8-81C0-8B2B9E090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0F39-2602-4811-8ACA-81AC5E665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BB5-B218-44E9-BEE1-1B87FC3F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2FE-0F7B-4B91-A025-05825257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C598-A871-41E1-AAE7-74161B36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121-5006-4BE9-808C-2173E076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012-CF20-4E12-A3C8-A548B9DB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306-536D-4A46-812A-5AD15EE2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439-D339-4F5A-BF9C-7C0768C5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3BC-5388-459B-9EB6-3F54AC62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541-BFEA-4F5B-99C9-34171427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127-AD22-424E-BC0F-9DD17B00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D18-E318-4256-AFE8-CA7E9167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2D9-CB51-48B5-A4A7-8C86E9A4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AEF6-90C6-4BE4-9339-F92744E5E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20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04920" y="2286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914400"/>
            <a:ext cx="18288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y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971800" y="990720"/>
            <a:ext cx="56386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*What word has three letters and rhymes with 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*What word has four letters and rhymes with p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*What word has four letters and rhymes with p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*What word has five letters and rhymes with 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3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3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3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3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3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3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Flu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nstantia"/>
              </a:rPr>
              <a:t>In the desert, / the air is very d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Rain will not fall / for many wee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The air is hot / in the daytime / but 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at nigh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0120" y="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ith appropriate phrasing in a manner that sounds like natural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32520" y="609480"/>
            <a:ext cx="40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happen in a story for a rea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Wh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57200" y="1523880"/>
            <a:ext cx="7848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e Parts of a House Argu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ame something that happened. Tell what caused it to 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80880" y="4038480"/>
            <a:ext cx="83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Ways People L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Describe a type of weather from the selection. Tell how the weather affects the way people l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11"/>
          <p:cNvSpPr txBox="1"/>
          <p:nvPr/>
        </p:nvSpPr>
        <p:spPr>
          <a:xfrm>
            <a:off x="2133720" y="22860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Houses</a:t>
            </a:r>
            <a:endParaRPr b="1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620120" y="0"/>
            <a:ext cx="15238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attentively and responsively to a poem. To review characteristics of poetr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295280" y="1143000"/>
            <a:ext cx="5715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u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aven’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und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i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ts in the ai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i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cks in the 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s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y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he mou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suitable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 porch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ches begin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jus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lik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ust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ding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C:\Documents and Settings\pawley\My Documents\houseface.JPG"/>
          <p:cNvPicPr/>
          <p:nvPr/>
        </p:nvPicPr>
        <p:blipFill>
          <a:blip r:embed="rId1"/>
          <a:stretch/>
        </p:blipFill>
        <p:spPr>
          <a:xfrm>
            <a:off x="152280" y="1600200"/>
            <a:ext cx="210024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C:\Documents and Settings\pawley\My Documents\open_face_house2_jul_04.jpg"/>
          <p:cNvPicPr/>
          <p:nvPr/>
        </p:nvPicPr>
        <p:blipFill>
          <a:blip r:embed="rId2"/>
          <a:stretch/>
        </p:blipFill>
        <p:spPr>
          <a:xfrm>
            <a:off x="6095880" y="2362320"/>
            <a:ext cx="2887920" cy="2305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"/>
          <p:cNvSpPr/>
          <p:nvPr/>
        </p:nvSpPr>
        <p:spPr>
          <a:xfrm>
            <a:off x="0" y="228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You read the words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tter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u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place that is bitterly cold is very, very col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itter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228600" y="55627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mperature in the Arctic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tter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C:\Documents and Settings\pawley\My Documents\bitterly cold.JPG"/>
          <p:cNvPicPr/>
          <p:nvPr/>
        </p:nvPicPr>
        <p:blipFill>
          <a:blip r:embed="rId1"/>
          <a:stretch/>
        </p:blipFill>
        <p:spPr>
          <a:xfrm>
            <a:off x="304920" y="1828800"/>
            <a:ext cx="4724280" cy="3548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5335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57200" y="38088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91fb1"/>
                </a:solidFill>
                <a:latin typeface="Arial"/>
              </a:rPr>
              <a:t>On my signal, answer these questions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91fb1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fb1"/>
                </a:solidFill>
                <a:latin typeface="Arial"/>
              </a:rPr>
              <a:t>*If it were bitterly cold outside, would you want to wear a co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fb1"/>
                </a:solidFill>
                <a:latin typeface="Arial"/>
              </a:rPr>
              <a:t>*If it were bitterly cold outside, would you want to wear a bathing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33520" y="41148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Tell what you would wear in a bitterly cold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On my signal, you will turn and talk with your partner using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I would wear 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wel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 dwelling is a place where people live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228600" y="571500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ain forest, people might live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we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ilt on stilts because there is so much water on the gr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C:\Documents and Settings\pawley\My Documents\dwelling.jpg"/>
          <p:cNvPicPr/>
          <p:nvPr/>
        </p:nvPicPr>
        <p:blipFill>
          <a:blip r:embed="rId1"/>
          <a:stretch/>
        </p:blipFill>
        <p:spPr>
          <a:xfrm>
            <a:off x="457200" y="205740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457200" y="38088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n my signal, answer these questions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In your dwelling, do you eat dinner with your fam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In your dwelling, do you take classes from your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33520" y="35053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scribe a dwelling you have seen or vis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n my signal, you will turn and talk with your partner using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dwelling was _______________.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do something for amusement, you do it for fu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d4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muse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838080" y="5486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ain forest, children swim and play under the waterfall fo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museme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Documents and Settings\pawley\My Documents\waterfall.jpg"/>
          <p:cNvPicPr/>
          <p:nvPr/>
        </p:nvPicPr>
        <p:blipFill>
          <a:blip r:embed="rId1"/>
          <a:stretch/>
        </p:blipFill>
        <p:spPr>
          <a:xfrm>
            <a:off x="914400" y="2209680"/>
            <a:ext cx="4495680" cy="314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Constantia"/>
              </a:rPr>
              <a:t>What would you say to a new frie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 would tell a new friend _________.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457200" y="3808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4592"/>
                </a:solidFill>
                <a:latin typeface="Arial"/>
              </a:rPr>
              <a:t>On my signal, answer these questions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4592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4592"/>
                </a:solidFill>
                <a:latin typeface="Arial"/>
              </a:rPr>
              <a:t>*Would you go to the movies for amus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4592"/>
                </a:solidFill>
                <a:latin typeface="Arial"/>
              </a:rPr>
              <a:t>*Would you clean your room for amus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457200" y="35053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Name something you do during the summer for amus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n my signal, you will turn and talk with your partner using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uring the summer, I ________________.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152280" y="762120"/>
            <a:ext cx="89917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80"/>
                </a:solidFill>
                <a:uFillTx/>
                <a:latin typeface="Aharoni"/>
                <a:ea typeface="Aharoni"/>
              </a:rPr>
              <a:t>The Best Cake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yesterday, we baked a delicious cake.  It had s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a smell as it was baking. The cherry frosting tasted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sweet.  Our hands felt sticky after 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made the frosting.  there was a qu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sound while everyone ate the c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We all decided it was the best c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in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80880" y="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te, Smell, Sound, and F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escription of a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esert, the air is very dry.  Rain will not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ny weeks.  The air is hot in the daytime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 at n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457200" y="4114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What makes this a good description of a pl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457200" y="30492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like to visit the bakery.  The air smells so sweet there.  The rolls have a nice buttery taste.  The big front window lets lots of sunlight in.  The bakery is the most cheerful place I’ve ever be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934320" y="6095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Documents and Settings\pawley\My Documents\bakery.jpg"/>
          <p:cNvPicPr/>
          <p:nvPr/>
        </p:nvPicPr>
        <p:blipFill>
          <a:blip r:embed="rId1"/>
          <a:stretch/>
        </p:blipFill>
        <p:spPr>
          <a:xfrm>
            <a:off x="990720" y="2819520"/>
            <a:ext cx="5562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readers feel as if they are in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v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new descriptive web or use yesterday’s web to work on your sentenc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85800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6019920" y="34290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2743200" y="50292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H="1" flipV="1">
            <a:off x="4267080" y="28954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"/>
          <p:cNvSpPr/>
          <p:nvPr/>
        </p:nvSpPr>
        <p:spPr>
          <a:xfrm>
            <a:off x="838080" y="5257800"/>
            <a:ext cx="26672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"/>
          <p:cNvSpPr/>
          <p:nvPr/>
        </p:nvSpPr>
        <p:spPr>
          <a:xfrm>
            <a:off x="2895480" y="1981080"/>
            <a:ext cx="28958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3"/>
          <p:cNvSpPr/>
          <p:nvPr/>
        </p:nvSpPr>
        <p:spPr>
          <a:xfrm>
            <a:off x="6324480" y="2666880"/>
            <a:ext cx="266724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5867280" y="5105520"/>
            <a:ext cx="29718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 flipH="1" flipV="1">
            <a:off x="2361960" y="411444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304920" y="2819520"/>
            <a:ext cx="2438280" cy="167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3429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1371600" y="533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38088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781680" y="2743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5053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4771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4" descr="C:\Documents and Settings\pawley\My Documents\ear.jpg"/>
          <p:cNvPicPr/>
          <p:nvPr/>
        </p:nvPicPr>
        <p:blipFill>
          <a:blip r:embed="rId1"/>
          <a:stretch/>
        </p:blipFill>
        <p:spPr>
          <a:xfrm>
            <a:off x="1371600" y="3200400"/>
            <a:ext cx="1066680" cy="909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" descr="C:\Documents and Settings\pawley\My Documents\nose.jpg"/>
          <p:cNvPicPr/>
          <p:nvPr/>
        </p:nvPicPr>
        <p:blipFill>
          <a:blip r:embed="rId2"/>
          <a:stretch/>
        </p:blipFill>
        <p:spPr>
          <a:xfrm>
            <a:off x="1600200" y="5715000"/>
            <a:ext cx="939960" cy="75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7" descr="C:\Documents and Settings\pawley\My Documents\eys.jpg"/>
          <p:cNvPicPr/>
          <p:nvPr/>
        </p:nvPicPr>
        <p:blipFill>
          <a:blip r:embed="rId3"/>
          <a:stretch/>
        </p:blipFill>
        <p:spPr>
          <a:xfrm>
            <a:off x="3809880" y="2362320"/>
            <a:ext cx="1067040" cy="52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8" descr="C:\Documents and Settings\pawley\My Documents\taste.jpg"/>
          <p:cNvPicPr/>
          <p:nvPr/>
        </p:nvPicPr>
        <p:blipFill>
          <a:blip r:embed="rId4"/>
          <a:stretch/>
        </p:blipFill>
        <p:spPr>
          <a:xfrm>
            <a:off x="7238880" y="3124080"/>
            <a:ext cx="922320" cy="998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9" descr="C:\Documents and Settings\pawley\My Documents\feel.jpg"/>
          <p:cNvPicPr/>
          <p:nvPr/>
        </p:nvPicPr>
        <p:blipFill>
          <a:blip r:embed="rId5"/>
          <a:stretch/>
        </p:blipFill>
        <p:spPr>
          <a:xfrm>
            <a:off x="6705720" y="5616720"/>
            <a:ext cx="1295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FarmersMarketVeggies"/>
          <p:cNvPicPr/>
          <p:nvPr/>
        </p:nvPicPr>
        <p:blipFill>
          <a:blip r:embed="rId1"/>
          <a:stretch/>
        </p:blipFill>
        <p:spPr>
          <a:xfrm>
            <a:off x="2209680" y="1523880"/>
            <a:ext cx="5000760" cy="5000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09680" y="228600"/>
            <a:ext cx="48006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o Many Childre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48400" y="586728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holes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   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move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w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Documents and Settings\pawley\My Documents\Sailboat.jpg"/>
          <p:cNvPicPr/>
          <p:nvPr/>
        </p:nvPicPr>
        <p:blipFill>
          <a:blip r:embed="rId1"/>
          <a:stretch/>
        </p:blipFill>
        <p:spPr>
          <a:xfrm>
            <a:off x="5743440" y="1295280"/>
            <a:ext cx="29782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1447920"/>
            <a:ext cx="838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5812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572000" y="1371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45720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3962520" y="327672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3657600" y="3276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44197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800600" y="3276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3886200" y="4267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426708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5181480" y="2362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42900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657600" y="22096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426708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419112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65760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4114800" y="3124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4724280" y="3124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35053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41911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4876920" y="4038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2"/>
          <p:cNvSpPr/>
          <p:nvPr/>
        </p:nvSpPr>
        <p:spPr>
          <a:xfrm>
            <a:off x="3657600" y="4800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g Vowel /a/ ai, 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r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y pup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“Sit!”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ants 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ags h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i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sit,”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ts. Will 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ts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or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for my pup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s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pl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wa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1371600" y="304920"/>
            <a:ext cx="632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257800" y="1752480"/>
            <a:ext cx="1406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fe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do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t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3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3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3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3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3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15T05:33:19Z</dcterms:modified>
  <cp:revision>165</cp:revision>
  <dc:subject/>
  <dc:title>Slide 1</dc:title>
</cp:coreProperties>
</file>