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4973-2494-4635-A7A1-EF1C648D0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D8DF-1AE8-4395-96E9-A50FC3F9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1D32-FF9A-4C25-8B57-574FF965D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0596-BFE6-4562-ABAA-1D1A8DABB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30E1-79E3-45FB-A4D0-17B612EB0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251D-7402-48FE-84C9-CF5F5407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C0A3-42CD-4322-BF0C-F2EA0B672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4116-9BD0-4574-B453-DDA6D806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560A-6C68-4B88-ACC3-B2B0ADF04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0EBA-8B3B-4670-A172-8CE5056A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8F4D-3836-475A-A62F-0D4A2595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A13E-3E0A-48A2-8527-824C27BA5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15AC-DD65-49DA-B74C-CD4A43C1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7D8B-3C47-4CD7-AD8B-593A0657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D46D-8BF9-43E6-A636-54F649198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B42C-D49A-4F35-8F59-EF777BF6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5767-C647-4C15-BFA6-A60B6EE3E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FAA6-A795-475E-8F7A-937F979E4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E09-E02F-4F1B-BC86-5F9A7827E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AD8-EBC7-4022-9163-1A914561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E6B-8E8B-4340-A496-8450397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A39-34E1-4EA5-ACFB-00CA5DAD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D29-76DD-4DF5-901C-EDDF0EAB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44EA-22A8-4935-8331-54A60A81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15D1-02C1-49D6-B253-88091F85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FF2B-E49C-4EB2-888B-2D40668C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34B9-933E-4E07-AC6A-4B74D7AB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6C5E-AD0B-4370-9BDC-4C41D213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2F27-92FC-42E2-A086-B236CA87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2B37-F46A-4ABB-B165-2188074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C0B-0C7B-4E03-BF7F-2130FB4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C9E3-E3DE-4C15-9D63-851FB3E1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4F73-18C3-42C8-8328-77E54DEF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1982-BA30-44BE-8CDC-923474F3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1AF2-32A9-4DEA-B530-B3A4D1A2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8EE2-53DA-4F95-8338-98FC8325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964-70BD-43AE-95DE-CF2E7890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042-2C19-4085-ACAE-C7D1AF44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64D-B651-468C-8AF1-9A4C4E45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154-127F-46B7-AB1D-E351270C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C24-A084-4507-B3BC-BD225540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284D-D453-4FCD-BCA6-D3118A96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0B1-86A2-46D9-9E5E-7E66195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78B7-1C4E-4ED2-B3CF-346C3F7EBE6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32E7-A2BA-40CB-82E0-6D9B6AC2C1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609480" y="685800"/>
            <a:ext cx="76964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0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ords ending in -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219320" y="152388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523880" y="1397160"/>
          <a:ext cx="6096240" cy="4614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703dff"/>
                          </a:solidFill>
                          <a:uFillTx/>
                          <a:latin typeface="Comic Sans MS"/>
                        </a:rPr>
                        <a:t>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</a:rPr>
                        <a:t>Phon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00"/>
                          </a:solidFill>
                          <a:uFillTx/>
                          <a:latin typeface="Comic Sans MS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t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p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0880" y="380880"/>
            <a:ext cx="74678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hat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ay d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!” sai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e c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in an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e could make things with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There is n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ain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yet,” sai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e don’t have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Let’s go out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s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5798160" y="1752480"/>
            <a:ext cx="1544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i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fee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do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609480" y="1522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Comic Sans MS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57200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657600" y="32767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335268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449568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3505320" y="4267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39625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114800" y="3124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3434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3962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40384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46483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3809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3657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4"/>
          <p:cNvSpPr/>
          <p:nvPr/>
        </p:nvSpPr>
        <p:spPr>
          <a:xfrm>
            <a:off x="419112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800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914400" y="990720"/>
            <a:ext cx="7010280" cy="27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52280" y="304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identify causes and eff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457200" y="4267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member that the effect is what happened in the story and the cause is why it happe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28600" y="380880"/>
            <a:ext cx="74674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e will read the story of The Little Red Hen.  As we read the story I want you to listen and see if you can find the cause and effect of this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happened when the bread was all bak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y did this happe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523880" y="1397160"/>
          <a:ext cx="6553440" cy="4063680"/>
        </p:xfrm>
        <a:graphic>
          <a:graphicData uri="http://schemas.openxmlformats.org/drawingml/2006/table">
            <a:tbl>
              <a:tblPr/>
              <a:tblGrid>
                <a:gridCol w="3124440"/>
                <a:gridCol w="3429000"/>
              </a:tblGrid>
              <a:tr h="40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at happen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 Little Red Hen did all the work all by hersel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y did it happe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t, Dog, and Duck would not hel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itter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we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mus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77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1" dur="77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5" dur="77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457200" y="1219320"/>
            <a:ext cx="7848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80880" y="304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lace that is bitterly cold is very, very cold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itterly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28600" y="5562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mperature in the Arctic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tter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6" descr="bitterly cold"/>
          <p:cNvPicPr/>
          <p:nvPr/>
        </p:nvPicPr>
        <p:blipFill>
          <a:blip r:embed="rId1"/>
          <a:stretch/>
        </p:blipFill>
        <p:spPr>
          <a:xfrm>
            <a:off x="304920" y="1828800"/>
            <a:ext cx="4724280" cy="35481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5335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t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80880" y="0"/>
            <a:ext cx="75438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 will say some things. If you think what I say could be bitterly cold then I want you to pretend to shiver, if not do not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the Arc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oiling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free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glass of mil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winter ice st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flower ga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4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welling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welling is a place where people live.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228600" y="57150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people might live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we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t on stilts because there is so much water on the groun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6" descr="dwelling"/>
          <p:cNvPicPr/>
          <p:nvPr/>
        </p:nvPicPr>
        <p:blipFill>
          <a:blip r:embed="rId1"/>
          <a:stretch/>
        </p:blipFill>
        <p:spPr>
          <a:xfrm>
            <a:off x="457200" y="205740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533520" y="0"/>
            <a:ext cx="73152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f you think the things that I say are dwellings then you should use your hands and arms to make a house.  If not d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glo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cast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ri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bile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part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8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5" dur="2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8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7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 something for amusement, you do it for fu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d4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musement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838080" y="5486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children swim and play under the waterfall fo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musem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6" descr="waterfall"/>
          <p:cNvPicPr/>
          <p:nvPr/>
        </p:nvPicPr>
        <p:blipFill>
          <a:blip r:embed="rId1"/>
          <a:stretch/>
        </p:blipFill>
        <p:spPr>
          <a:xfrm>
            <a:off x="914400" y="220968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457200" y="0"/>
            <a:ext cx="73152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 will say some things.  If you would do these things for amusement, then you should smile and clap your hands.  If not d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lay video g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o ho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ash dis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ide a bi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lean your r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ly a k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o to the pa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wim in a p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2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8" dur="2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helps readers feel as if they are in th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new descriptive web or use yesterday’s web to work on your sentence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8"/>
          <p:cNvSpPr/>
          <p:nvPr/>
        </p:nvSpPr>
        <p:spPr>
          <a:xfrm flipV="1">
            <a:off x="6019920" y="34290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2743200" y="50292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0"/>
          <p:cNvSpPr/>
          <p:nvPr/>
        </p:nvSpPr>
        <p:spPr>
          <a:xfrm flipH="1" flipV="1">
            <a:off x="4267080" y="28954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838080" y="5257800"/>
            <a:ext cx="2667240" cy="1295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2895480" y="1981080"/>
            <a:ext cx="2895840" cy="10670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6324480" y="2666880"/>
            <a:ext cx="2667240" cy="1600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5867280" y="5105520"/>
            <a:ext cx="2971800" cy="1523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9"/>
          <p:cNvSpPr/>
          <p:nvPr/>
        </p:nvSpPr>
        <p:spPr>
          <a:xfrm flipH="1" flipV="1">
            <a:off x="2361960" y="41144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304920" y="2819520"/>
            <a:ext cx="2438280" cy="1676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137160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8088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6781680" y="27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5053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64771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22" descr="ear"/>
          <p:cNvPicPr/>
          <p:nvPr/>
        </p:nvPicPr>
        <p:blipFill>
          <a:blip r:embed="rId1"/>
          <a:stretch/>
        </p:blipFill>
        <p:spPr>
          <a:xfrm>
            <a:off x="1371600" y="3200400"/>
            <a:ext cx="1066680" cy="909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nose"/>
          <p:cNvPicPr/>
          <p:nvPr/>
        </p:nvPicPr>
        <p:blipFill>
          <a:blip r:embed="rId2"/>
          <a:stretch/>
        </p:blipFill>
        <p:spPr>
          <a:xfrm>
            <a:off x="1600200" y="5715000"/>
            <a:ext cx="939960" cy="750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eys"/>
          <p:cNvPicPr/>
          <p:nvPr/>
        </p:nvPicPr>
        <p:blipFill>
          <a:blip r:embed="rId3"/>
          <a:stretch/>
        </p:blipFill>
        <p:spPr>
          <a:xfrm>
            <a:off x="3809880" y="2362320"/>
            <a:ext cx="1067040" cy="527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5" descr="taste"/>
          <p:cNvPicPr/>
          <p:nvPr/>
        </p:nvPicPr>
        <p:blipFill>
          <a:blip r:embed="rId4"/>
          <a:stretch/>
        </p:blipFill>
        <p:spPr>
          <a:xfrm>
            <a:off x="7238880" y="31240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6" descr="feel"/>
          <p:cNvPicPr/>
          <p:nvPr/>
        </p:nvPicPr>
        <p:blipFill>
          <a:blip r:embed="rId5"/>
          <a:stretch/>
        </p:blipFill>
        <p:spPr>
          <a:xfrm>
            <a:off x="6705720" y="5616720"/>
            <a:ext cx="1295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Diagram 5"/>
          <p:cNvGrpSpPr/>
          <p:nvPr/>
        </p:nvGrpSpPr>
        <p:grpSpPr>
          <a:xfrm>
            <a:off x="897120" y="276840"/>
            <a:ext cx="7958160" cy="5850000"/>
            <a:chOff x="897120" y="276840"/>
            <a:chExt cx="7958160" cy="5850000"/>
          </a:xfrm>
        </p:grpSpPr>
        <p:sp>
          <p:nvSpPr>
            <p:cNvPr id="271" name="_s1028"/>
            <p:cNvSpPr/>
            <p:nvPr/>
          </p:nvSpPr>
          <p:spPr>
            <a:xfrm flipH="1" flipV="1">
              <a:off x="2915280" y="2942640"/>
              <a:ext cx="978840" cy="24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_s1029"/>
            <p:cNvSpPr/>
            <p:nvPr/>
          </p:nvSpPr>
          <p:spPr>
            <a:xfrm>
              <a:off x="897120" y="1908000"/>
              <a:ext cx="206676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TASTE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salty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eanut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_s1030"/>
            <p:cNvSpPr/>
            <p:nvPr/>
          </p:nvSpPr>
          <p:spPr>
            <a:xfrm flipH="1">
              <a:off x="3665160" y="4064760"/>
              <a:ext cx="604080" cy="63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1031"/>
            <p:cNvSpPr/>
            <p:nvPr/>
          </p:nvSpPr>
          <p:spPr>
            <a:xfrm>
              <a:off x="2021400" y="455112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SMELL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_s1032"/>
            <p:cNvSpPr/>
            <p:nvPr/>
          </p:nvSpPr>
          <p:spPr>
            <a:xfrm>
              <a:off x="5483520" y="4064760"/>
              <a:ext cx="607680" cy="63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1033"/>
            <p:cNvSpPr/>
            <p:nvPr/>
          </p:nvSpPr>
          <p:spPr>
            <a:xfrm>
              <a:off x="5664960" y="455112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HEAR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loud honking horns,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eople talking,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noisy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_s1034"/>
            <p:cNvSpPr/>
            <p:nvPr/>
          </p:nvSpPr>
          <p:spPr>
            <a:xfrm flipV="1">
              <a:off x="5858280" y="2939760"/>
              <a:ext cx="98172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_s1035"/>
            <p:cNvSpPr/>
            <p:nvPr/>
          </p:nvSpPr>
          <p:spPr>
            <a:xfrm>
              <a:off x="6788520" y="1908000"/>
              <a:ext cx="206676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FEEL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Hard sidewalk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_s1036"/>
            <p:cNvSpPr/>
            <p:nvPr/>
          </p:nvSpPr>
          <p:spPr>
            <a:xfrm flipV="1">
              <a:off x="4876560" y="1852920"/>
              <a:ext cx="0" cy="78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_s1037"/>
            <p:cNvSpPr/>
            <p:nvPr/>
          </p:nvSpPr>
          <p:spPr>
            <a:xfrm>
              <a:off x="3843360" y="27684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SEE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Tall buildings, taxi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_s1038"/>
            <p:cNvSpPr/>
            <p:nvPr/>
          </p:nvSpPr>
          <p:spPr>
            <a:xfrm>
              <a:off x="3843360" y="264060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Comic Sans MS"/>
                </a:rPr>
                <a:t>City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228600" y="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w would you describe a city in the mornin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On my signal, turn and talk with your partner to complete the following 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I might see ____________in a city in the mor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I might hear __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52280" y="304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Objective: To appreciate the rhythm and rhyme of a po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28600" y="76212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e are going to read a poem today calle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City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.  As we read the poem I want for you to look for two things.  First,  I want you to listen for things that describe a city.  Next, I want you to see if you hear any musical words in the poem (words like song, and sings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52280" y="380880"/>
            <a:ext cx="75438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In the morning the cit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Spreads its w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Making a s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In stone that s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In the evening the 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Goes to b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Hanging lig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bout its hea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457200" y="7621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0" y="2970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124080" y="1600200"/>
            <a:ext cx="29718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a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ur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0492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533520" y="1219320"/>
            <a:ext cx="41148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stitu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0" name="Picture 6" descr="Sailboat"/>
          <p:cNvPicPr/>
          <p:nvPr/>
        </p:nvPicPr>
        <p:blipFill>
          <a:blip r:embed="rId1"/>
          <a:stretch/>
        </p:blipFill>
        <p:spPr>
          <a:xfrm>
            <a:off x="5029200" y="1295280"/>
            <a:ext cx="2819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685800" y="1295280"/>
            <a:ext cx="72388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ogra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04920" y="3808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: To read words with phonograms –ay and -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04920" y="46483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Phonograms are words that have the same endings and rhy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28600" y="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ords ending in -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447920" y="1143000"/>
            <a:ext cx="5867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l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3:19:57Z</dcterms:created>
  <dc:creator>Valued Gateway Client</dc:creator>
  <dc:description/>
  <dc:language>en-US</dc:language>
  <cp:lastModifiedBy>mworsham</cp:lastModifiedBy>
  <dcterms:modified xsi:type="dcterms:W3CDTF">2010-02-15T05:34:26Z</dcterms:modified>
  <cp:revision>5</cp:revision>
  <dc:subject/>
  <dc:title>Slide 1</dc:title>
</cp:coreProperties>
</file>