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5C8F-26E4-4A0D-A6CE-7ACF5CEC9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9A59-6E09-45C5-BE44-16CB05D43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5A75-7A28-4564-A280-FC389A0C8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1B11-2DB7-4FE8-B2DC-F5833F4C6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1E99-4D89-4B24-BBDC-35E5E568D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6BBC-8AAC-4DC9-9BFA-CC227F607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356D-E3FB-4164-9920-0AC7108C6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E9BD-1ACD-4D76-BB67-DED0C9E28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9486-8466-4324-A08A-E9D21B947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449E-E7DC-4EA3-8D16-D1B616220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E0B5-9C71-4975-8DFF-766BC741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C113-364B-4AB0-8D84-9E66D4EC9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6A05-CAC5-47B8-8D38-F3F584336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9044-8958-4E51-BEA9-DEC3FCFE3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0C09-C7E9-45B3-97F7-AFCAA3942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58CC-78AF-4293-8288-18A94FF22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7AA4-1D6A-4C5D-A0CE-D4ABF7F01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EADC-D15A-4DBF-9235-9DBA0D23D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6FC6-B8C3-4312-B370-80F624206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216-F0DA-4451-822A-7ACB4AFE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D5A-9E9C-448A-BD22-60869BC7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55D-4125-43F7-8E50-264E1630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7D7-7F4B-4611-B824-F128E24F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B7B1-B500-49AF-961A-6D893D3D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062F-5973-421E-BAD5-479BB3FA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CA49-1821-497D-B1CB-69E072DD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76D9-5A43-48DE-A7A2-E9B2BAA4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A8E4-9E52-40C0-A3C4-DB4B8071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8E55-F5D0-4CE3-97AE-4DF87BEA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E801-0CCE-489E-9A9F-15CAB6B9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B0F-4FE1-4CEF-A071-E878FD6C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60F0-C5B5-4120-BA4C-D8AAE235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61CB-503D-41BB-88E5-1D835287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0730-50EB-4D0F-BB66-E95A60B7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6DAA-2A92-4CC3-B564-87454530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5984-AA78-4890-9BD9-51E7B894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0F7-63FB-4293-AB66-FCFC7BAE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1BD-DB06-4951-994D-05796F64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6E7-EA34-4D71-B000-E0D6A2A2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279-2CEF-4A92-8E81-0D28BC11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C33-C0F8-40B5-8A4D-C18CD17F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AF8-A02D-4B5A-9DDB-CC24846D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AB9-E606-40C6-8675-DD53894B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A5C7-E085-4D6D-9837-9C674C8E33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DF54-2DC0-4D75-898E-0F9272F9C1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609480" y="685800"/>
            <a:ext cx="76964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20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0" y="380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ords ending in -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1219320" y="152388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a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a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523880" y="1397160"/>
          <a:ext cx="6096240" cy="46148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0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703dff"/>
                          </a:solidFill>
                          <a:uFillTx/>
                          <a:latin typeface="Comic Sans MS"/>
                        </a:rPr>
                        <a:t>Le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</a:rPr>
                        <a:t>Phono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00"/>
                          </a:solidFill>
                          <a:uFillTx/>
                          <a:latin typeface="Comic Sans MS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t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p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80880" y="380880"/>
            <a:ext cx="74678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What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ray d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!” sai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We c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 in an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We could make things with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There is n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ain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 yet,” sai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We don’t have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 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Let’s go out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d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s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plai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5798160" y="1752480"/>
            <a:ext cx="1544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i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fee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do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ol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609480" y="152280"/>
            <a:ext cx="685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Comic Sans MS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457200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3657600" y="327672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3352680" y="3276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44197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4495680" y="3276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3505320" y="4267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396252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657600" y="22096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426708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419112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365760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4114800" y="3124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3434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35053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3962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41911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4038480" y="48006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4876920" y="4038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4648320" y="4800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3809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3657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4"/>
          <p:cNvSpPr/>
          <p:nvPr/>
        </p:nvSpPr>
        <p:spPr>
          <a:xfrm>
            <a:off x="419112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4800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914400" y="990720"/>
            <a:ext cx="7010280" cy="27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 and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52280" y="304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identify causes and eff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457200" y="4267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member that the effect is what happened in the story and the cause is why it happe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28600" y="380880"/>
            <a:ext cx="74674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e will read the story of The Little Red Hen.  As we read the story I want you to listen and see if you can find the cause and effect of this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happened when the bread was all bak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y did this happe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523880" y="1397160"/>
          <a:ext cx="6553440" cy="4063680"/>
        </p:xfrm>
        <a:graphic>
          <a:graphicData uri="http://schemas.openxmlformats.org/drawingml/2006/table">
            <a:tbl>
              <a:tblPr/>
              <a:tblGrid>
                <a:gridCol w="3124440"/>
                <a:gridCol w="3429000"/>
              </a:tblGrid>
              <a:tr h="40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hat happen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 Little Red Hen did all the work all by hersel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hy did it happe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t, Dog, and Duck would not hel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itter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we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mus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4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457200" y="1219320"/>
            <a:ext cx="7848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80880" y="304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place that is bitterly cold is very, very cold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itterly</a:t>
            </a:r>
            <a:endParaRPr b="0" lang="en-US" sz="5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228600" y="55627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mperature in the Arctic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tter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6" descr="bitterly cold"/>
          <p:cNvPicPr/>
          <p:nvPr/>
        </p:nvPicPr>
        <p:blipFill>
          <a:blip r:embed="rId1"/>
          <a:stretch/>
        </p:blipFill>
        <p:spPr>
          <a:xfrm>
            <a:off x="304920" y="1828800"/>
            <a:ext cx="4724280" cy="35481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5335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t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80880" y="0"/>
            <a:ext cx="75438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 will say some things. If you think what I say could be bitterly cold then I want you to pretend to shiver, if not do noth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the Arc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oiling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 free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 glass of mil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 winter ice st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 flower gar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welling</a:t>
            </a:r>
            <a:endParaRPr b="0" lang="en-US" sz="5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 dwelling is a place where people live. 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228600" y="571500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ain forest, people might live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we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ilt on stilts because there is so much water on the ground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6" descr="dwelling"/>
          <p:cNvPicPr/>
          <p:nvPr/>
        </p:nvPicPr>
        <p:blipFill>
          <a:blip r:embed="rId1"/>
          <a:stretch/>
        </p:blipFill>
        <p:spPr>
          <a:xfrm>
            <a:off x="457200" y="205740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533520" y="0"/>
            <a:ext cx="7315200" cy="73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f you think the things that I say are dwellings then you should use your hands and arms to make a house.  If not do not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glo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cast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ri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bile 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part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4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99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do something for amusement, you do it for fun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d4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musement</a:t>
            </a:r>
            <a:endParaRPr b="0" lang="en-US" sz="5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838080" y="5486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ain forest, children swim and play under the waterfall fo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museme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6" descr="waterfall"/>
          <p:cNvPicPr/>
          <p:nvPr/>
        </p:nvPicPr>
        <p:blipFill>
          <a:blip r:embed="rId1"/>
          <a:stretch/>
        </p:blipFill>
        <p:spPr>
          <a:xfrm>
            <a:off x="914400" y="2209680"/>
            <a:ext cx="4495680" cy="314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457200" y="0"/>
            <a:ext cx="73152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 will say some things.  If you would do these things for amusement, then you should smile and clap your hands.  If not do not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lay video g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o home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ash dis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ide a bi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lean your ro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ly a k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o to the pa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wim in a p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9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5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50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helps readers feel as if they are in the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77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77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 new descriptive web or use yesterday’s web to work on your sentence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685800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8"/>
          <p:cNvSpPr/>
          <p:nvPr/>
        </p:nvSpPr>
        <p:spPr>
          <a:xfrm flipV="1">
            <a:off x="6019920" y="34290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2743200" y="50292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10"/>
          <p:cNvSpPr/>
          <p:nvPr/>
        </p:nvSpPr>
        <p:spPr>
          <a:xfrm flipH="1" flipV="1">
            <a:off x="4267080" y="28954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838080" y="5257800"/>
            <a:ext cx="2667240" cy="1295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2895480" y="1981080"/>
            <a:ext cx="2895840" cy="10670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6324480" y="2666880"/>
            <a:ext cx="2667240" cy="16002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5867280" y="5105520"/>
            <a:ext cx="2971800" cy="1523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9"/>
          <p:cNvSpPr/>
          <p:nvPr/>
        </p:nvSpPr>
        <p:spPr>
          <a:xfrm flipH="1" flipV="1">
            <a:off x="2361960" y="411444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304920" y="2819520"/>
            <a:ext cx="2438280" cy="1676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3429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1371600" y="533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e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38088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6781680" y="2743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5053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64771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22" descr="ear"/>
          <p:cNvPicPr/>
          <p:nvPr/>
        </p:nvPicPr>
        <p:blipFill>
          <a:blip r:embed="rId1"/>
          <a:stretch/>
        </p:blipFill>
        <p:spPr>
          <a:xfrm>
            <a:off x="1371600" y="3200400"/>
            <a:ext cx="1066680" cy="909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" descr="nose"/>
          <p:cNvPicPr/>
          <p:nvPr/>
        </p:nvPicPr>
        <p:blipFill>
          <a:blip r:embed="rId2"/>
          <a:stretch/>
        </p:blipFill>
        <p:spPr>
          <a:xfrm>
            <a:off x="1600200" y="5715000"/>
            <a:ext cx="939960" cy="750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4" descr="eys"/>
          <p:cNvPicPr/>
          <p:nvPr/>
        </p:nvPicPr>
        <p:blipFill>
          <a:blip r:embed="rId3"/>
          <a:stretch/>
        </p:blipFill>
        <p:spPr>
          <a:xfrm>
            <a:off x="3809880" y="2362320"/>
            <a:ext cx="1067040" cy="527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5" descr="taste"/>
          <p:cNvPicPr/>
          <p:nvPr/>
        </p:nvPicPr>
        <p:blipFill>
          <a:blip r:embed="rId4"/>
          <a:stretch/>
        </p:blipFill>
        <p:spPr>
          <a:xfrm>
            <a:off x="7238880" y="3124080"/>
            <a:ext cx="922320" cy="998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6" descr="feel"/>
          <p:cNvPicPr/>
          <p:nvPr/>
        </p:nvPicPr>
        <p:blipFill>
          <a:blip r:embed="rId5"/>
          <a:stretch/>
        </p:blipFill>
        <p:spPr>
          <a:xfrm>
            <a:off x="6705720" y="5616720"/>
            <a:ext cx="1295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Diagram 5"/>
          <p:cNvGrpSpPr/>
          <p:nvPr/>
        </p:nvGrpSpPr>
        <p:grpSpPr>
          <a:xfrm>
            <a:off x="897120" y="276840"/>
            <a:ext cx="7958160" cy="5850000"/>
            <a:chOff x="897120" y="276840"/>
            <a:chExt cx="7958160" cy="5850000"/>
          </a:xfrm>
        </p:grpSpPr>
        <p:sp>
          <p:nvSpPr>
            <p:cNvPr id="271" name="_s1028"/>
            <p:cNvSpPr/>
            <p:nvPr/>
          </p:nvSpPr>
          <p:spPr>
            <a:xfrm flipH="1" flipV="1">
              <a:off x="2915280" y="2942640"/>
              <a:ext cx="978840" cy="24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_s1029"/>
            <p:cNvSpPr/>
            <p:nvPr/>
          </p:nvSpPr>
          <p:spPr>
            <a:xfrm>
              <a:off x="897120" y="1908000"/>
              <a:ext cx="206676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TASTE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salty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peanuts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_s1030"/>
            <p:cNvSpPr/>
            <p:nvPr/>
          </p:nvSpPr>
          <p:spPr>
            <a:xfrm flipH="1">
              <a:off x="3665160" y="4064760"/>
              <a:ext cx="604080" cy="63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1031"/>
            <p:cNvSpPr/>
            <p:nvPr/>
          </p:nvSpPr>
          <p:spPr>
            <a:xfrm>
              <a:off x="2021400" y="4551120"/>
              <a:ext cx="206604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SMELL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_s1032"/>
            <p:cNvSpPr/>
            <p:nvPr/>
          </p:nvSpPr>
          <p:spPr>
            <a:xfrm>
              <a:off x="5483520" y="4064760"/>
              <a:ext cx="607680" cy="63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1033"/>
            <p:cNvSpPr/>
            <p:nvPr/>
          </p:nvSpPr>
          <p:spPr>
            <a:xfrm>
              <a:off x="5664960" y="4551120"/>
              <a:ext cx="206604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HEAR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loud honking horns,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people talking,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noisy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_s1034"/>
            <p:cNvSpPr/>
            <p:nvPr/>
          </p:nvSpPr>
          <p:spPr>
            <a:xfrm flipV="1">
              <a:off x="5858280" y="2939760"/>
              <a:ext cx="98172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_s1035"/>
            <p:cNvSpPr/>
            <p:nvPr/>
          </p:nvSpPr>
          <p:spPr>
            <a:xfrm>
              <a:off x="6788520" y="1908000"/>
              <a:ext cx="206676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FEEL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Hard sidewalks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_s1036"/>
            <p:cNvSpPr/>
            <p:nvPr/>
          </p:nvSpPr>
          <p:spPr>
            <a:xfrm flipV="1">
              <a:off x="4876560" y="1852920"/>
              <a:ext cx="0" cy="78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_s1037"/>
            <p:cNvSpPr/>
            <p:nvPr/>
          </p:nvSpPr>
          <p:spPr>
            <a:xfrm>
              <a:off x="3843360" y="276840"/>
              <a:ext cx="206604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SEE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Tall buildings, taxis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_s1038"/>
            <p:cNvSpPr/>
            <p:nvPr/>
          </p:nvSpPr>
          <p:spPr>
            <a:xfrm>
              <a:off x="3843360" y="2640600"/>
              <a:ext cx="206604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Comic Sans MS"/>
                </a:rPr>
                <a:t>City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228600" y="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w would you describe a city in the morning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On my signal, turn and talk with your partner to complete the following 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I might see ____________in a city in the mor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I might hear ___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52280" y="304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Objective: To appreciate the rhythm and rhyme of a po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28600" y="76212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e are going to read a poem today calle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City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.  As we read the poem I want for you to look for two things.  First,  I want you to listen for things that describe a city.  Next, I want you to see if you hear any musical words in the poem (words like song, and sings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52280" y="380880"/>
            <a:ext cx="75438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In the morning the cit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Spreads its w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Making a s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In stone that s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In the evening the 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Goes to b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Hanging ligh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bout its hea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457200" y="7621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0" y="2970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124080" y="1600200"/>
            <a:ext cx="29718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o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a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ur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304920" y="380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substitute phonemes to say new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WordArt 5"/>
          <p:cNvSpPr txBox="1"/>
          <p:nvPr/>
        </p:nvSpPr>
        <p:spPr>
          <a:xfrm>
            <a:off x="533520" y="1219320"/>
            <a:ext cx="41148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bstitu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0" name="Picture 6" descr="Sailboat"/>
          <p:cNvPicPr/>
          <p:nvPr/>
        </p:nvPicPr>
        <p:blipFill>
          <a:blip r:embed="rId1"/>
          <a:stretch/>
        </p:blipFill>
        <p:spPr>
          <a:xfrm>
            <a:off x="5029200" y="1295280"/>
            <a:ext cx="28195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"/>
          <p:cNvSpPr txBox="1"/>
          <p:nvPr/>
        </p:nvSpPr>
        <p:spPr>
          <a:xfrm>
            <a:off x="685800" y="1295280"/>
            <a:ext cx="72388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ogram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04920" y="3808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bjective: To read words with phonograms –ay and -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04920" y="46483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Phonograms are words that have the same endings and rhy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28600" y="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ords ending in -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447920" y="1143000"/>
            <a:ext cx="58672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l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3:19:57Z</dcterms:created>
  <dc:creator>Valued Gateway Client</dc:creator>
  <dc:description/>
  <dc:language>en-US</dc:language>
  <cp:lastModifiedBy>mworsham</cp:lastModifiedBy>
  <dcterms:modified xsi:type="dcterms:W3CDTF">2010-02-15T05:34:26Z</dcterms:modified>
  <cp:revision>5</cp:revision>
  <dc:subject/>
  <dc:title>Slide 1</dc:title>
</cp:coreProperties>
</file>