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1236-532D-465A-87E8-A73D6B8C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D6EF-140F-436D-B79E-F73B1578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E8F-F546-46AB-B716-F4E20425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D08B-AFF3-4618-AA58-B30B9F74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90D8-F3F5-46CA-B17C-340BC88A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6520-1B73-4F7B-8DBC-A82D06233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9B3-BF52-41B4-A49A-BDB10708B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96C-9C61-4293-B67A-1A1B7713C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8FF4-E73F-4493-BA81-9D6741B8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00B3-29C7-4A33-86D0-B7D3B2E12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A9B-74F0-4B57-A9DA-7BD715AC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F3E-875D-407D-BCAB-A81D6417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98C-CBA2-46B4-881B-48792D08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11E-47FA-4CC8-8D70-ECAD7B7E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9F8-565A-4F9A-A88F-A686B901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5D0-1D0A-46DA-B66A-BB5412E2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4FA3-0185-4520-9306-4531493F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AFE-A67D-40A7-A79F-D7917C8D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30C-C454-44A1-8AAA-46F3B772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37D-4543-4A8A-BFAD-D804884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E31-D4CF-4022-925C-F1E6F7C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F04-C6EC-48AC-B73F-3196465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9985-BF82-47E2-896E-C820D7B3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105520" y="1143000"/>
            <a:ext cx="36576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could you use when you talk about wea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might you use when you talk about more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le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990720"/>
          <a:ext cx="8458200" cy="5769000"/>
        </p:xfrm>
        <a:graphic>
          <a:graphicData uri="http://schemas.openxmlformats.org/drawingml/2006/table">
            <a:tbl>
              <a:tblPr/>
              <a:tblGrid>
                <a:gridCol w="2133720"/>
                <a:gridCol w="3124080"/>
                <a:gridCol w="3200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arts of the House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ys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ttle Re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umb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f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your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Mj0283895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do if y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w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terly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dwelling was bitterly cold, I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j0185604"/>
          <p:cNvPicPr/>
          <p:nvPr/>
        </p:nvPicPr>
        <p:blipFill>
          <a:blip r:embed="rId1"/>
          <a:stretch/>
        </p:blipFill>
        <p:spPr>
          <a:xfrm>
            <a:off x="4952880" y="1905120"/>
            <a:ext cx="3965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you would do if you j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had won $10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 my signal, show my what you would d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buy for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us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y amus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HundredDollarBill"/>
          <p:cNvPicPr/>
          <p:nvPr/>
        </p:nvPicPr>
        <p:blipFill>
          <a:blip r:embed="rId1"/>
          <a:stretch/>
        </p:blipFill>
        <p:spPr>
          <a:xfrm>
            <a:off x="6248520" y="1295280"/>
            <a:ext cx="23079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a ho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apple taste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flower smell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rain sound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and feel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would you describe a city in the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ight see ______ in a city in 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384540000[1]"/>
          <p:cNvPicPr/>
          <p:nvPr/>
        </p:nvPicPr>
        <p:blipFill>
          <a:blip r:embed="rId1"/>
          <a:stretch/>
        </p:blipFill>
        <p:spPr>
          <a:xfrm>
            <a:off x="1295280" y="22860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ay 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/r/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’ll have a new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us what you’ll say. ____ (g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1863340000[1]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4038480" y="5486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40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8600" y="609480"/>
            <a:ext cx="182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read the underlined words.  I will read the other wor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4:57Z</dcterms:modified>
  <cp:revision>124</cp:revision>
  <dc:subject/>
  <dc:title>Slide 1</dc:title>
</cp:coreProperties>
</file>