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C6EB-A54C-4273-A04E-C7AAFA33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BADC-2D06-44AE-857A-4BE40C9B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EC56-3CC0-4E60-BEA1-50A683C0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EA0-EAC4-47C7-A979-0956F38B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1585-821E-40F7-93BF-673F79AEE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7EFA-B375-444C-BE5A-C72A5BE66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D0CB-E6EC-4975-9761-861D9A28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53B-0961-44CF-8C1F-D630EC556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5FA2-AEDD-4AC6-A39E-9C1086C4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03D-4F77-4CAA-9DAE-63EE1F2A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3E3-63A4-45E4-B434-FAE7B1C3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273-BBBE-4D3E-B6C5-949727F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998-E32F-4AE1-85BA-BA87478B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CFF-BFBE-4109-B5EA-E9794316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A95-F31D-48AA-9A3F-C39A73B2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297-DEB4-45B4-B658-058A9D07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F6F-353C-4B99-B61A-8013849C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68A-F0E7-4663-859A-C765FAC4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D70-EDD3-417D-B1B1-AD91B493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44D-E6FE-47E0-A17F-C1126D8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AF5-2D3C-458C-9FF2-D3BA086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775-65D2-41BA-AB2C-2624FFE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633-35B0-409C-A8A6-CBFD7009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105520" y="1143000"/>
            <a:ext cx="36576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could you use when you talk about wea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might you use when you talk about more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are le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auses and ef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990720"/>
          <a:ext cx="8458200" cy="5769000"/>
        </p:xfrm>
        <a:graphic>
          <a:graphicData uri="http://schemas.openxmlformats.org/drawingml/2006/table">
            <a:tbl>
              <a:tblPr/>
              <a:tblGrid>
                <a:gridCol w="2133720"/>
                <a:gridCol w="3124080"/>
                <a:gridCol w="3200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y did it happe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arts of the House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ys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ttle Re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umb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f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ing your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Mj0283895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auses and ef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do if you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we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terly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y dwelling was bitterly cold, I would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j0185604"/>
          <p:cNvPicPr/>
          <p:nvPr/>
        </p:nvPicPr>
        <p:blipFill>
          <a:blip r:embed="rId1"/>
          <a:stretch/>
        </p:blipFill>
        <p:spPr>
          <a:xfrm>
            <a:off x="4952880" y="1905120"/>
            <a:ext cx="3965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you would do if you j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had won $10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 my signal, show my what you would d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buy for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us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y amus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HundredDollarBill"/>
          <p:cNvPicPr/>
          <p:nvPr/>
        </p:nvPicPr>
        <p:blipFill>
          <a:blip r:embed="rId1"/>
          <a:stretch/>
        </p:blipFill>
        <p:spPr>
          <a:xfrm>
            <a:off x="6248520" y="1295280"/>
            <a:ext cx="23079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"/>
          <p:cNvSpPr/>
          <p:nvPr/>
        </p:nvSpPr>
        <p:spPr>
          <a:xfrm>
            <a:off x="2514600" y="2057400"/>
            <a:ext cx="419112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 flipV="1">
            <a:off x="2133720" y="1523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6172200" y="1600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17220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2133360" y="3809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762120" y="495288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172200" y="6094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248520" y="5029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609480" y="533520"/>
            <a:ext cx="23623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895480" y="2590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38080" y="838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553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9907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64008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2514600" y="2057400"/>
            <a:ext cx="419112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H="1" flipV="1">
            <a:off x="2133720" y="1523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6172200" y="1600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617220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2133360" y="3809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762120" y="495288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6172200" y="6094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6248520" y="5029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609480" y="533520"/>
            <a:ext cx="23623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895480" y="2590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838080" y="838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553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9907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4008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’s a ho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apple taste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flower smell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train sounds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sand feels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d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would you describe a city in the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might see ______ in a city in the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MPj04384540000[1]"/>
          <p:cNvPicPr/>
          <p:nvPr/>
        </p:nvPicPr>
        <p:blipFill>
          <a:blip r:embed="rId1"/>
          <a:stretch/>
        </p:blipFill>
        <p:spPr>
          <a:xfrm>
            <a:off x="1295280" y="22860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495288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ay 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/r/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’ll have a new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us what you’ll say. ____ (g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MCj01863340000[1]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il, -a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4038480" y="5486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il, -a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40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28600" y="609480"/>
            <a:ext cx="182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read the underlined words.  I will read the other wor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34:57Z</dcterms:modified>
  <cp:revision>124</cp:revision>
  <dc:subject/>
  <dc:title>Slide 1</dc:title>
</cp:coreProperties>
</file>