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AC40-6337-482B-B3C5-0A9F6B08A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1ABE-93B6-428B-AD12-0F51C9714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29B7-5D00-41E3-A5A4-F4354DCF7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AF85-DAEB-44EA-A226-9B017048F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2146-CBDA-4150-AD58-D29992F2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B253-3865-4677-9742-DA7EB0DAC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0F95-1D68-48E3-9495-ECDCD24F3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7E82-2666-46AF-A678-E620E5A4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8A8D-74D3-4280-9D6E-F5AAC7857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EAF5-A936-4EC7-8704-C4E70645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9DA6-93F0-4F1E-815A-4B755A9E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5DAF-3902-4268-9E60-0A6262DF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44B-F45E-4448-9066-7463B1C0D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6036-7E8F-488A-BDE2-FE41E588E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4A9A-1B3A-4725-82E0-93C5C73A1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0CD0-D8B5-4781-97AA-21FE16A5F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39C3-5361-4C23-83BC-37220334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8B98-A529-464F-9E09-7FF994F68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5861-65A5-495A-B9E8-D49CBDBFD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87C5-392F-44B3-AD68-C452565E1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E1E1-1871-414C-BD73-6D0B2C40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E7BC-D26E-4D64-89B3-0A844650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3C0A-20B0-4BD5-9B58-DDE9F9D0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8C89-FB29-4071-89AF-A4BA0011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0740-1510-4C71-8E6B-78CB0B77E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C890-7FC1-4A00-9558-802C853B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1F3-DDB8-498D-8EFD-DFC8E324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319-E724-4734-8D7A-D11ABD0D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0AA-A031-49A5-A567-7B3BC933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29B-3CE6-4FA7-BEF7-7D0827A4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A85-93AB-470F-9377-C4A35A57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4839-EDE2-4922-AD21-8EC4FA80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48D-2024-4F23-8AA1-5D062CB7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EA6-940F-4E42-8998-93E4FFDD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B2D-6047-4441-AA30-43734087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A39-0B61-456F-8753-EE4C6E0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AE1-8E44-4220-9D79-CC5E678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249-B923-4206-AD84-FA0B1B1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1D2E-9A8F-443F-B79D-C80A73EAB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21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Dale made a cak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Who ate the ca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344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yster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hat Dale D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hat Dale Fou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</a:tr>
              <a:tr h="30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The Missing Cake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practice identifying problems and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Does Your Pet Love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7" descr="MCj04381270000[1]"/>
          <p:cNvPicPr/>
          <p:nvPr/>
        </p:nvPicPr>
        <p:blipFill>
          <a:blip r:embed="rId1"/>
          <a:stretch/>
        </p:blipFill>
        <p:spPr>
          <a:xfrm>
            <a:off x="1905120" y="2743200"/>
            <a:ext cx="54799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at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o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ympat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334120" y="1828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let others know you are sorry they feel bad, you are showing sympath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sympathetic"/>
          <p:cNvPicPr/>
          <p:nvPr/>
        </p:nvPicPr>
        <p:blipFill>
          <a:blip r:embed="rId1"/>
          <a:stretch/>
        </p:blipFill>
        <p:spPr>
          <a:xfrm>
            <a:off x="457200" y="1523880"/>
            <a:ext cx="4648320" cy="4310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57200" y="58672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irl show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mpath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her friend that was up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nsi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334120" y="182880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sensitive, you care about other people’s feeling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n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er daugh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sensitive"/>
          <p:cNvPicPr/>
          <p:nvPr/>
        </p:nvPicPr>
        <p:blipFill>
          <a:blip r:embed="rId1"/>
          <a:stretch/>
        </p:blipFill>
        <p:spPr>
          <a:xfrm>
            <a:off x="457200" y="1771560"/>
            <a:ext cx="48006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vo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952880" y="18288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devoted to someone, you love and want to take care of that pers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is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devoted"/>
          <p:cNvPicPr/>
          <p:nvPr/>
        </p:nvPicPr>
        <p:blipFill>
          <a:blip r:embed="rId1"/>
          <a:stretch/>
        </p:blipFill>
        <p:spPr>
          <a:xfrm>
            <a:off x="1066680" y="1676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show how you would look if you felt sympathy for a sick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ad.  On my signal, turn to your partner tell them what you would say that shows you ar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tell them about someone that you are devoted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Plan a party for a friend who has been away. What foods would you serv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games would you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make ______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e would pla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152280" y="1523880"/>
            <a:ext cx="8991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itlyn bottle-fed the calf four times a 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eph has one dog named Yo-Y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n has two cats named Boo Boo and Neo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0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3" descr="lesson21"/>
          <p:cNvPicPr/>
          <p:nvPr/>
        </p:nvPicPr>
        <p:blipFill>
          <a:blip r:embed="rId1"/>
          <a:stretch/>
        </p:blipFill>
        <p:spPr>
          <a:xfrm>
            <a:off x="1066680" y="0"/>
            <a:ext cx="630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how to write a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la42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7620120" y="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how to write a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28600" y="304920"/>
            <a:ext cx="80773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setting and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e starts with a character’s name and a c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acters tell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ctate a 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rs. Babcock: We will have fun to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how to write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for a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alliteration in lit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Bear Wants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Pj04066830000[1]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MPj04228180000[1]"/>
          <p:cNvPicPr/>
          <p:nvPr/>
        </p:nvPicPr>
        <p:blipFill>
          <a:blip r:embed="rId1"/>
          <a:stretch/>
        </p:blipFill>
        <p:spPr>
          <a:xfrm>
            <a:off x="4724280" y="990720"/>
            <a:ext cx="374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a/ a-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a/ sound, make an a with you fingers.  When I say a word that does not have /a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a/ sound in the middle, make an /a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533520" y="1600200"/>
            <a:ext cx="4038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21932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2193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182880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18288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572000" y="12193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200400" y="274320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34340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457200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3429000" y="3352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4038480" y="3352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4572000" y="3352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3505320" y="41911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411480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4648320" y="41911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3352680" y="4800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44197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3"/>
          <p:cNvSpPr/>
          <p:nvPr/>
        </p:nvSpPr>
        <p:spPr>
          <a:xfrm>
            <a:off x="4343400" y="5638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5"/>
          <p:cNvSpPr/>
          <p:nvPr/>
        </p:nvSpPr>
        <p:spPr>
          <a:xfrm>
            <a:off x="3429000" y="5638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733920" y="2743200"/>
            <a:ext cx="2133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657600" y="480060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657600" y="5638680"/>
            <a:ext cx="2133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88620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800600" y="12952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396252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4876920" y="2133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4876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886200" y="3048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4800600" y="56386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191120" y="1295280"/>
            <a:ext cx="2133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191120" y="2133720"/>
            <a:ext cx="2133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038480" y="304812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22T05:44:03Z</dcterms:modified>
  <cp:revision>142</cp:revision>
  <dc:subject/>
  <dc:title>Slide 1</dc:title>
</cp:coreProperties>
</file>