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75953-E19A-4D4D-9B23-B5F00E774C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FDC0B-3DF2-423F-9010-DDF8F53A01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61612-5213-4EA6-A028-0B526D5E7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4B389-B6A9-482E-BEAA-BBAE40DCD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27EB9-02FF-48C4-A0B2-AE5653FB3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8854A-A83E-41DC-B2E3-5725234DC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A45BD-1381-477E-B11A-564391BFA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7D734-DE65-4E0F-8173-21A9E3C6C3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483C8-A056-411A-87EA-297AFEAD8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2A329-0D8C-4AEB-87E1-595D82F58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0F2A6-0E8C-4E8E-99DC-0712EC4C78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1274B-298E-46BF-BA6B-7F2786AE25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2E33A-AA1F-4FF6-992C-8C35E0069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A186E-E8FE-4B22-9266-5207C543C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76C17-CFC8-491A-AEB0-5351A8F29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18304-2766-4B47-A7B6-2AE1C9B8D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68E05-934A-40F7-9643-4DC6EDC45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10396-CC51-4C5C-9FDF-09202AEA12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2C1A7-D7F2-44C3-A8EC-C5BA84115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0E799-2B6B-4489-9023-2129C17E7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49772-A52C-46C0-99ED-2FC54BB71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A1C33-7EB7-45CF-92FB-3F8980909A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5DAAD-3FCB-4269-9907-F87B13FEF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1F1B2-C6F9-4CA0-BF65-E533D8025F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F4BDA-8EB5-4E2C-9C90-3D5A29A73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9B062-4C37-43D2-9C59-59B3CFA57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90C4-8657-40FB-B4B9-4702DEC31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D07D-6D58-4B89-9236-3D56C75A9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2EBB-AB07-420D-92D3-991AEF7E5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0FF3-910E-45D1-86C5-1941EE382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CF30-E88F-4C3E-A868-5FDDE14F9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7755-F688-4F8C-8644-6B46FE4E9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D4C7-043C-4AD4-AD4F-156F504F9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9443-A3B0-4CB6-B77E-C3F234CA0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9465-4C22-4AF6-BCDA-80E24C56C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6500-5947-49E5-B4EF-894EDA9A8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ECEE-3C9B-4B17-AAC0-1DE378F1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211E-C2A0-4DB5-9A2B-0DEC7439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FB5BB-A23A-4CA8-91F6-0DB1C67EC9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MPj04394500000[1]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Mond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Lesson 21, Day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nstantia"/>
              </a:rPr>
              <a:t>Read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cc00"/>
                </a:solidFill>
                <a:latin typeface="Constantia"/>
              </a:rPr>
              <a:t>Dale made a cake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Constantia"/>
              </a:rPr>
              <a:t>Who ate the cak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Words to Kno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ar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v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u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oth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ol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tel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7391520" y="0"/>
            <a:ext cx="1752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practice summarizing a sto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57200" y="1600200"/>
          <a:ext cx="8229600" cy="43448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yster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fbb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What Dale Di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fbb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What Dale Foun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fbba"/>
                    </a:solidFill>
                  </a:tcPr>
                </a:tc>
              </a:tr>
              <a:tr h="303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luenc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7391520" y="0"/>
            <a:ext cx="1752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ad fluently in a manner that sounds like natural speech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MPj04394930000[1]"/>
          <p:cNvPicPr/>
          <p:nvPr/>
        </p:nvPicPr>
        <p:blipFill>
          <a:blip r:embed="rId1"/>
          <a:stretch/>
        </p:blipFill>
        <p:spPr>
          <a:xfrm>
            <a:off x="1600200" y="2590920"/>
            <a:ext cx="6095880" cy="407016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7"/>
          <p:cNvSpPr/>
          <p:nvPr/>
        </p:nvSpPr>
        <p:spPr>
          <a:xfrm>
            <a:off x="685800" y="15238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“The Missing Cake” with a partn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to four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1523880" y="0"/>
            <a:ext cx="632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Read Alou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7620120" y="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 To practice identifying problems and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0" y="685440"/>
            <a:ext cx="914400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Does Your Pet Love You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7" descr="MCj04381270000[1]"/>
          <p:cNvPicPr/>
          <p:nvPr/>
        </p:nvPicPr>
        <p:blipFill>
          <a:blip r:embed="rId1"/>
          <a:stretch/>
        </p:blipFill>
        <p:spPr>
          <a:xfrm>
            <a:off x="1905120" y="2743200"/>
            <a:ext cx="547992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mpat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si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vo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5943600" y="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Objective:  To review robust vocabulary through discussing idea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3"/>
          <p:cNvSpPr/>
          <p:nvPr/>
        </p:nvSpPr>
        <p:spPr>
          <a:xfrm>
            <a:off x="304920" y="152280"/>
            <a:ext cx="5333760" cy="129564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533520" y="380880"/>
            <a:ext cx="48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ympath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5334120" y="1828800"/>
            <a:ext cx="3429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you let others know you are sorry they feel bad, you are showing sympathy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sympathetic"/>
          <p:cNvPicPr/>
          <p:nvPr/>
        </p:nvPicPr>
        <p:blipFill>
          <a:blip r:embed="rId1"/>
          <a:stretch/>
        </p:blipFill>
        <p:spPr>
          <a:xfrm>
            <a:off x="457200" y="1523880"/>
            <a:ext cx="4648320" cy="43102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7"/>
          <p:cNvSpPr/>
          <p:nvPr/>
        </p:nvSpPr>
        <p:spPr>
          <a:xfrm>
            <a:off x="457200" y="586728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girl showed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ympath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for her friend that was upse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5943600" y="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Objective:  To review robust vocabulary through discussing idea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304920" y="152280"/>
            <a:ext cx="5333760" cy="129564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533520" y="380880"/>
            <a:ext cx="48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ensitiv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5334120" y="1828800"/>
            <a:ext cx="3429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you are sensitive, you care about other people’s feeling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533520" y="5334120"/>
            <a:ext cx="46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other wa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nsitiv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o her daught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sensitive"/>
          <p:cNvPicPr/>
          <p:nvPr/>
        </p:nvPicPr>
        <p:blipFill>
          <a:blip r:embed="rId1"/>
          <a:stretch/>
        </p:blipFill>
        <p:spPr>
          <a:xfrm>
            <a:off x="457200" y="1771560"/>
            <a:ext cx="480060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5943600" y="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Objective:  To review robust vocabulary through discussing idea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3"/>
          <p:cNvSpPr/>
          <p:nvPr/>
        </p:nvSpPr>
        <p:spPr>
          <a:xfrm>
            <a:off x="304920" y="152280"/>
            <a:ext cx="5333760" cy="129564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533520" y="380880"/>
            <a:ext cx="48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evot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4952880" y="1828800"/>
            <a:ext cx="3810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you are devoted to someone, you love and want to take care of that perso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533520" y="5334120"/>
            <a:ext cx="46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ather wa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evot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o his childr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7" descr="devoted"/>
          <p:cNvPicPr/>
          <p:nvPr/>
        </p:nvPicPr>
        <p:blipFill>
          <a:blip r:embed="rId1"/>
          <a:stretch/>
        </p:blipFill>
        <p:spPr>
          <a:xfrm>
            <a:off x="1066680" y="1676520"/>
            <a:ext cx="350532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 Practice/Ap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my signal, show how you would look if you felt sympathy for a sick fri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sad.  On my signal, turn to your partner tell them what you would say that shows you are sensi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my signal, turn to your partner and tell them about someone that you are devoted 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Plan a party for a friend who has been away. What foods would you serve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hat games would you pl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rn and talk with your partner using the stem 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 would make ______ to e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We would play 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0" y="0"/>
            <a:ext cx="2286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identify and use describing words that tell how man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9"/>
          <p:cNvSpPr/>
          <p:nvPr/>
        </p:nvSpPr>
        <p:spPr>
          <a:xfrm>
            <a:off x="152280" y="1523880"/>
            <a:ext cx="899172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itlyn bottle-fed the calf four times a day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oseph has one dog named Yo-Y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ustin has two cats named Boo Boo and Neo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07"/>
          <p:cNvSpPr/>
          <p:nvPr/>
        </p:nvSpPr>
        <p:spPr>
          <a:xfrm>
            <a:off x="0" y="639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30"/>
          <p:cNvSpPr/>
          <p:nvPr/>
        </p:nvSpPr>
        <p:spPr>
          <a:xfrm>
            <a:off x="7238880" y="0"/>
            <a:ext cx="1905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identify and use describing words that tell how m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3" descr="lesson21"/>
          <p:cNvPicPr/>
          <p:nvPr/>
        </p:nvPicPr>
        <p:blipFill>
          <a:blip r:embed="rId1"/>
          <a:stretch/>
        </p:blipFill>
        <p:spPr>
          <a:xfrm>
            <a:off x="1066680" y="0"/>
            <a:ext cx="6302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8"/>
          <p:cNvSpPr/>
          <p:nvPr/>
        </p:nvSpPr>
        <p:spPr>
          <a:xfrm>
            <a:off x="8001000" y="0"/>
            <a:ext cx="1143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how to write a p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6" descr="la42"/>
          <p:cNvPicPr/>
          <p:nvPr/>
        </p:nvPicPr>
        <p:blipFill>
          <a:blip r:embed="rId1"/>
          <a:stretch/>
        </p:blipFill>
        <p:spPr>
          <a:xfrm>
            <a:off x="2004840" y="0"/>
            <a:ext cx="5134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7620120" y="0"/>
            <a:ext cx="1523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how to write a p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228600" y="304920"/>
            <a:ext cx="8077320" cy="49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a setting and charac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line starts with a character’s name and a col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aracters tell the s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Dictate a Pl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rs. Babcock: We will have fun toda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7086600" y="228600"/>
            <a:ext cx="2057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nderstand how to write a pl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ics for a P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recognize alliteration in literatu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2209680" y="228600"/>
            <a:ext cx="4800600" cy="43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1" i="1" lang="en-US" sz="4400" spc="-1" strike="noStrike">
                <a:solidFill>
                  <a:srgbClr val="000000"/>
                </a:solidFill>
                <a:latin typeface="Constantia"/>
              </a:rPr>
              <a:t>Bear Wants M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8" descr="MPj04066830000[1]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ur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ac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1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1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86240" y="15228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blend phonemes to say new wor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5181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lending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4" descr="MPj04228180000[1]"/>
          <p:cNvPicPr/>
          <p:nvPr/>
        </p:nvPicPr>
        <p:blipFill>
          <a:blip r:embed="rId1"/>
          <a:stretch/>
        </p:blipFill>
        <p:spPr>
          <a:xfrm>
            <a:off x="4724280" y="990720"/>
            <a:ext cx="374976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6"/>
          <p:cNvSpPr/>
          <p:nvPr/>
        </p:nvSpPr>
        <p:spPr>
          <a:xfrm>
            <a:off x="7696080" y="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 and generate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sound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0" y="228600"/>
            <a:ext cx="800100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nstantia"/>
              </a:rPr>
              <a:t>Long vowel /a/ a-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9"/>
          <p:cNvSpPr/>
          <p:nvPr/>
        </p:nvSpPr>
        <p:spPr>
          <a:xfrm>
            <a:off x="5334120" y="1752480"/>
            <a:ext cx="380988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hen I say a word that begins with the /a/ sound, make an a with you fingers.  When I say a word that does not have /a/, do nothing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hen I say a word that has the /a/ sound in the middle, make an /a/ with your fing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35"/>
          <p:cNvSpPr txBox="1"/>
          <p:nvPr/>
        </p:nvSpPr>
        <p:spPr>
          <a:xfrm>
            <a:off x="533520" y="1600200"/>
            <a:ext cx="403848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A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352320" y="1219320"/>
            <a:ext cx="83844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a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657600" y="1219320"/>
            <a:ext cx="1600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3809880" y="1828800"/>
            <a:ext cx="2133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 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3352680" y="1828800"/>
            <a:ext cx="838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4572000" y="121932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1"/>
          <p:cNvSpPr/>
          <p:nvPr/>
        </p:nvSpPr>
        <p:spPr>
          <a:xfrm>
            <a:off x="4267080" y="36576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4"/>
          <p:cNvSpPr/>
          <p:nvPr/>
        </p:nvSpPr>
        <p:spPr>
          <a:xfrm>
            <a:off x="3200400" y="2743200"/>
            <a:ext cx="1219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7"/>
          <p:cNvSpPr/>
          <p:nvPr/>
        </p:nvSpPr>
        <p:spPr>
          <a:xfrm>
            <a:off x="4343400" y="18288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7"/>
          <p:cNvSpPr/>
          <p:nvPr/>
        </p:nvSpPr>
        <p:spPr>
          <a:xfrm>
            <a:off x="4572000" y="274320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2"/>
          <p:cNvSpPr/>
          <p:nvPr/>
        </p:nvSpPr>
        <p:spPr>
          <a:xfrm>
            <a:off x="3429000" y="33526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3"/>
          <p:cNvSpPr/>
          <p:nvPr/>
        </p:nvSpPr>
        <p:spPr>
          <a:xfrm>
            <a:off x="4038480" y="33526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4"/>
          <p:cNvSpPr/>
          <p:nvPr/>
        </p:nvSpPr>
        <p:spPr>
          <a:xfrm>
            <a:off x="4572000" y="33526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5"/>
          <p:cNvSpPr/>
          <p:nvPr/>
        </p:nvSpPr>
        <p:spPr>
          <a:xfrm>
            <a:off x="3505320" y="419112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6"/>
          <p:cNvSpPr/>
          <p:nvPr/>
        </p:nvSpPr>
        <p:spPr>
          <a:xfrm>
            <a:off x="4114800" y="41911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7"/>
          <p:cNvSpPr/>
          <p:nvPr/>
        </p:nvSpPr>
        <p:spPr>
          <a:xfrm>
            <a:off x="4648320" y="419112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8"/>
          <p:cNvSpPr/>
          <p:nvPr/>
        </p:nvSpPr>
        <p:spPr>
          <a:xfrm>
            <a:off x="3352680" y="480060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0"/>
          <p:cNvSpPr/>
          <p:nvPr/>
        </p:nvSpPr>
        <p:spPr>
          <a:xfrm>
            <a:off x="4419720" y="480060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3"/>
          <p:cNvSpPr/>
          <p:nvPr/>
        </p:nvSpPr>
        <p:spPr>
          <a:xfrm>
            <a:off x="4343400" y="56386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5"/>
          <p:cNvSpPr/>
          <p:nvPr/>
        </p:nvSpPr>
        <p:spPr>
          <a:xfrm>
            <a:off x="3429000" y="56386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3733920" y="2743200"/>
            <a:ext cx="2133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3657600" y="4800600"/>
            <a:ext cx="2133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3657600" y="5638680"/>
            <a:ext cx="2133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 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uil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a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3886200" y="12952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4800600" y="1295280"/>
            <a:ext cx="914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3"/>
          <p:cNvSpPr/>
          <p:nvPr/>
        </p:nvSpPr>
        <p:spPr>
          <a:xfrm>
            <a:off x="3962520" y="21337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6"/>
          <p:cNvSpPr/>
          <p:nvPr/>
        </p:nvSpPr>
        <p:spPr>
          <a:xfrm>
            <a:off x="4876920" y="213372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9"/>
          <p:cNvSpPr/>
          <p:nvPr/>
        </p:nvSpPr>
        <p:spPr>
          <a:xfrm>
            <a:off x="4876920" y="304812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0"/>
          <p:cNvSpPr/>
          <p:nvPr/>
        </p:nvSpPr>
        <p:spPr>
          <a:xfrm>
            <a:off x="3886200" y="30481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5"/>
          <p:cNvSpPr/>
          <p:nvPr/>
        </p:nvSpPr>
        <p:spPr>
          <a:xfrm>
            <a:off x="4800600" y="5638680"/>
            <a:ext cx="838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4191120" y="1295280"/>
            <a:ext cx="2133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 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4191120" y="2133720"/>
            <a:ext cx="2133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 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4038480" y="3048120"/>
            <a:ext cx="2133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When called go to your seat and label the paper with your name and date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It’s time to take our spelling pretest!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pell spelling words an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5"/>
          <p:cNvSpPr txBox="1"/>
          <p:nvPr/>
        </p:nvSpPr>
        <p:spPr>
          <a:xfrm>
            <a:off x="990720" y="304920"/>
            <a:ext cx="67053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pelling Word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mworsham</cp:lastModifiedBy>
  <dcterms:modified xsi:type="dcterms:W3CDTF">2010-02-22T05:44:03Z</dcterms:modified>
  <cp:revision>142</cp:revision>
  <dc:subject/>
  <dc:title>Slide 1</dc:title>
</cp:coreProperties>
</file>