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278-DD8A-4777-A787-B0F280CD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AA71-8EAD-47BC-BED9-5D3C70E0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B63D-1D32-4831-A2AE-BC2A2014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724-FFCF-410F-9EC5-6024B902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A89-B104-403F-9776-21DDE73D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BEC-99EC-4C8B-8DCE-1518A973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94C-7FD2-4A84-B5BC-C02DC16D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F4E-E8C7-438C-8F2D-F6DEA9B6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A06-340C-4B22-A3E2-D3A50F25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C2B0-09AF-4178-8484-655312CD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E2A-C0D6-4B1D-88CF-7E85EC66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4528-1345-4FA4-899A-EDF22B86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C771-944A-4DE9-91A2-81ADD3BD9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pawley\My Documents\chalkboar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80880" y="1295280"/>
            <a:ext cx="83822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Tuesda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Lesson 21, Day 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6019920" y="15228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blend words with /a/ a-e and other letter soun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honics Sk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2280" y="609480"/>
            <a:ext cx="845820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Words with a-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etter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followed by a consonant and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can stand for the long a sound as in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k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pla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lak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C:\Documents and Settings\pawley\My Documents\skate.bmp"/>
          <p:cNvPicPr/>
          <p:nvPr/>
        </p:nvPicPr>
        <p:blipFill>
          <a:blip r:embed="rId1"/>
          <a:stretch/>
        </p:blipFill>
        <p:spPr>
          <a:xfrm>
            <a:off x="380880" y="3352680"/>
            <a:ext cx="1562400" cy="1484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533520" y="4876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C:\Documents and Settings\pawley\My Documents\plane.jpg"/>
          <p:cNvPicPr/>
          <p:nvPr/>
        </p:nvPicPr>
        <p:blipFill>
          <a:blip r:embed="rId2"/>
          <a:stretch/>
        </p:blipFill>
        <p:spPr>
          <a:xfrm>
            <a:off x="2971800" y="3327480"/>
            <a:ext cx="2365200" cy="1846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3581280" y="5257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9" descr="C:\Documents and Settings\pawley\My Documents\lake.jpg"/>
          <p:cNvPicPr/>
          <p:nvPr/>
        </p:nvPicPr>
        <p:blipFill>
          <a:blip r:embed="rId3"/>
          <a:stretch/>
        </p:blipFill>
        <p:spPr>
          <a:xfrm>
            <a:off x="6095880" y="2971800"/>
            <a:ext cx="2438640" cy="1670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6781680" y="4572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086600" y="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identify the problem and solution in a stor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0"/>
            <a:ext cx="678168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/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Many stories begin with a problem that the characters have to solve.  The rest of the story tells how the characters find the 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3048120"/>
            <a:ext cx="8610840" cy="26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es Your Pet Love You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months, Bianca followed Cait everywhere… Now 600 pounds, Bianca’s too big for that.  “Her attempts to love us became painful,” says Jan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990099"/>
                </a:solidFill>
                <a:latin typeface="Times New Roman"/>
              </a:rPr>
              <a:t>(Think Alou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80880" y="995400"/>
            <a:ext cx="838224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*What was the problem in Goldilocks and the Three Be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ff"/>
                </a:solidFill>
                <a:latin typeface="Times New Roman"/>
              </a:rPr>
              <a:t>Partner 1 turn and talk to complete this 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The problem was 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*What was the solution in Goldilocks and the Three Be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ff"/>
                </a:solidFill>
                <a:latin typeface="Times New Roman"/>
              </a:rPr>
              <a:t>Partner 2 turn and talk to complete this 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The solution was 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589120" y="0"/>
            <a:ext cx="33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/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086600" y="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identify the problem and solution in a stor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609480" y="3049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400800" y="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ad high-frequency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971800" y="914400"/>
            <a:ext cx="30481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6400800" y="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ad high-frequency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1447920"/>
            <a:ext cx="86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am a hamster.  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u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 nice place to live.  I like to b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ea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hildren.  “Squeak, squeak!” I think the clas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ar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e!  The childre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ight ope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y door and pet me.  Soon they will b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on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 Then I will ru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rou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n my wheel.  At night I’ll ge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ir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go to sleep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1522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You read words in r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28600" y="304920"/>
            <a:ext cx="7543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day we will read a play at small groups. A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a story that is written to be acted out. What the characters say to each other tells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ame of our play is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“Flake, the Missing Hamster.”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ory Word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Lionel, Jeffrey, Narrator, and r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A Narrator tells part of the story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620120" y="228600"/>
            <a:ext cx="129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recognize the characteristics of a play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838080" y="380880"/>
            <a:ext cx="2895840" cy="1524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648320" y="380880"/>
            <a:ext cx="2895480" cy="1524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914400" y="2438280"/>
            <a:ext cx="662940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914400" y="3886200"/>
            <a:ext cx="662940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914400" y="5410080"/>
            <a:ext cx="662940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228600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609588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41911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1911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143000" y="838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952880" y="91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2971800" y="2666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3048120" y="4038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2004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7620120" y="228600"/>
            <a:ext cx="129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recognize the characteristics of a play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477120" y="152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practice retelling and summarizing a stor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52280" y="2286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ake, the Missing Hamst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80880" y="1295280"/>
            <a:ext cx="845820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problem and solution in the stor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urn and talk on my signal to discuss using this 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problem is 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solution is ___________________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ympath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334120" y="18288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you let others know you are sorry they feel bad, you are showing sympath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C:\Documents and Settings\pawley\My Documents\sympathetic.jpg"/>
          <p:cNvPicPr/>
          <p:nvPr/>
        </p:nvPicPr>
        <p:blipFill>
          <a:blip r:embed="rId1"/>
          <a:stretch/>
        </p:blipFill>
        <p:spPr>
          <a:xfrm>
            <a:off x="457200" y="1523880"/>
            <a:ext cx="4648320" cy="4310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457200" y="58672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irl showe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mpath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her friend that was ups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28600" y="228600"/>
            <a:ext cx="8305920" cy="62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one voice answer with “yes” or “no” to the following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Would you feel sympathy for a friend who got a new bike for her birthday?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Would you feel sympathy for a friend who had a sick c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 my signal turn and talk with your partner to complete this 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 could show sympathy by _________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04920" y="914400"/>
            <a:ext cx="86104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What do hamsters like to do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nstantia"/>
              </a:rPr>
              <a:t>Hamsters like to __________.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nsi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334120" y="182880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you are sensitive, you care about other people’s feeling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33520" y="53341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ther w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nsi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her daugh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8" descr="C:\Documents and Settings\pawley\My Documents\sensitive.jpg"/>
          <p:cNvPicPr/>
          <p:nvPr/>
        </p:nvPicPr>
        <p:blipFill>
          <a:blip r:embed="rId1"/>
          <a:stretch/>
        </p:blipFill>
        <p:spPr>
          <a:xfrm>
            <a:off x="457200" y="1771560"/>
            <a:ext cx="48006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28600" y="228600"/>
            <a:ext cx="845820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one voice answer with “yes” or “no” to the following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Would a sensitive person laugh when you are cryi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What are some ways a sensitive person knows how others are feel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 my signal turn and talk with your partner to complete this 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I know how someone is feeling by ___________.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vo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952880" y="182880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you are devoted to someone, you love and want to take care of that pers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33520" y="53341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ther w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vo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his childr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8" descr="C:\Documents and Settings\pawley\My Documents\devoted.jpg"/>
          <p:cNvPicPr/>
          <p:nvPr/>
        </p:nvPicPr>
        <p:blipFill>
          <a:blip r:embed="rId1"/>
          <a:stretch/>
        </p:blipFill>
        <p:spPr>
          <a:xfrm>
            <a:off x="1066680" y="16765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228600" y="228600"/>
            <a:ext cx="845820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one voice answer with “yes” or “no” to the following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Would a friend who is devoted to you forget to invite you to a party?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How do you show your family that you are devoted to the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 my signal turn and talk with your partner to complete this 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 show my family I am devoted by __________.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28600" y="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scribing Words:  How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5880" y="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generate describing words that tell how many.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80880" y="533520"/>
            <a:ext cx="853452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wo Little Appl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In one voice, what word tells how ma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urn and talk with your partner about what other words could describe how ma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C:\Documents and Settings\pawley\My Documents\appletree.jpg"/>
          <p:cNvPicPr/>
          <p:nvPr/>
        </p:nvPicPr>
        <p:blipFill>
          <a:blip r:embed="rId1"/>
          <a:stretch/>
        </p:blipFill>
        <p:spPr>
          <a:xfrm>
            <a:off x="3276720" y="4267080"/>
            <a:ext cx="1846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80880" y="838080"/>
            <a:ext cx="8534520" cy="45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line in the play includes both the actor’s name and the words the actor s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Gwen:  Hooray for Flake, the hungry hamst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715000" y="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select a focus when writing. To write a dialogu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rite a Play togeth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572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ich character should start the play?  What mark goes after the characters nam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o will speak next? How should I write i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d I put the correct mark after? Did I remember to begin the names with capital letter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o should talk next? What do I write firs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should the play en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’s read our play togeth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181480" y="609480"/>
            <a:ext cx="358164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5181480" y="4876920"/>
            <a:ext cx="3581640" cy="99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181480" y="2743200"/>
            <a:ext cx="358164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5181480" y="3809880"/>
            <a:ext cx="358164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5181480" y="1676520"/>
            <a:ext cx="3581640" cy="99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5334120" y="7621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334120" y="19051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5334120" y="29718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5334120" y="40384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5257800" y="5105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5715000" y="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select a focus when writing. To write a dialogu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5715000" y="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select a focus when writing. To write a dialogu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28600" y="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raw and Wr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80880" y="1447920"/>
            <a:ext cx="82296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Draw a cartoon that shows you and a friend. Then write a dialogue for your scene in speech bubb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urn and talk with your partner about what you will write about today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477120" y="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bjective: To identify word pictures in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2209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You read the words in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143000" y="228600"/>
            <a:ext cx="670572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amsterc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rry, scu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urr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ly-po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w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bble, wobbl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go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m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C:\Documents and Settings\pawley\My Documents\hamsters.jpg"/>
          <p:cNvPicPr/>
          <p:nvPr/>
        </p:nvPicPr>
        <p:blipFill>
          <a:blip r:embed="rId1"/>
          <a:stretch/>
        </p:blipFill>
        <p:spPr>
          <a:xfrm>
            <a:off x="5867280" y="1600200"/>
            <a:ext cx="3124440" cy="2405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pawley\My Documents\hamster.jpg"/>
          <p:cNvPicPr/>
          <p:nvPr/>
        </p:nvPicPr>
        <p:blipFill>
          <a:blip r:embed="rId2"/>
          <a:stretch/>
        </p:blipFill>
        <p:spPr>
          <a:xfrm>
            <a:off x="152280" y="2514600"/>
            <a:ext cx="27432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-58680" y="228600"/>
            <a:ext cx="25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477120" y="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bjective: To identify word pictures in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2280" y="762120"/>
            <a:ext cx="8763120" cy="56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picture do you see in your mind when you h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rry, scurry in a hur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ly-poly down the h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bble, wobble, there he g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 one voice, what do you think the author is talking abo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2666880" y="152280"/>
            <a:ext cx="3733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ord Wall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0" y="685800"/>
            <a:ext cx="914400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o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o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ho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l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wa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v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recognize individual phonemes in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" y="228600"/>
            <a:ext cx="6934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066680" y="121932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honeme Segmen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C:\Documents and Settings\pawley\My Documents\waking up.jpg"/>
          <p:cNvPicPr/>
          <p:nvPr/>
        </p:nvPicPr>
        <p:blipFill>
          <a:blip r:embed="rId1"/>
          <a:stretch/>
        </p:blipFill>
        <p:spPr>
          <a:xfrm>
            <a:off x="1523880" y="3352680"/>
            <a:ext cx="579132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33520" y="2286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 vowel /a/ a-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477120" y="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build spelling words. To spell three-, four-, and five- letter long-vowel words and high frequency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590920" y="8380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971800" y="8380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352680" y="83808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514600" y="16002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2971800" y="1600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352680" y="16002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514600" y="243828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297180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3352680" y="24382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2590920" y="335268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2895480" y="33526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3276720" y="3352680"/>
            <a:ext cx="30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2590920" y="4343400"/>
            <a:ext cx="30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2819520" y="43434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3276720" y="43434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2590920" y="5334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2895480" y="53341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3276720" y="53341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75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75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5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75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5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75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5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7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7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7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7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7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7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7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7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7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7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75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5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75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5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75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5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75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75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75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75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75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5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33520" y="2286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ending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477120" y="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build spelling words. To spell three-, four-, and five- letter long-vowel words and high frequency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590920" y="8380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971800" y="8380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666880" y="16002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124080" y="1600200"/>
            <a:ext cx="3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352680" y="16002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590920" y="243828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3048120" y="243828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352680" y="2438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886200" y="24382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2590920" y="335268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2895480" y="335268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505320" y="33526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438280" y="434340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3048120" y="43434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3581280" y="43434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75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75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75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75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7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7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7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7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533520" y="304920"/>
            <a:ext cx="8153280" cy="56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need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fou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people for thi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ga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t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on a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lat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dog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a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o meet us at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gat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you to a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lac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you will li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477120" y="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build spelling words. To spell three-, four-, and five- letter long-vowel words and high frequency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-21600" y="228600"/>
            <a:ext cx="35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You read the words in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20:29:55Z</dcterms:created>
  <dc:creator>Federated Group</dc:creator>
  <dc:description/>
  <dc:language>en-US</dc:language>
  <cp:lastModifiedBy>mworsham</cp:lastModifiedBy>
  <dcterms:modified xsi:type="dcterms:W3CDTF">2010-02-22T05:45:30Z</dcterms:modified>
  <cp:revision>8</cp:revision>
  <dc:subject/>
  <dc:title>PowerPoint Presentation</dc:title>
</cp:coreProperties>
</file>