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FA4-6208-4181-B3B3-ACCED529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831-F473-4457-8A36-4DDED888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E5F-263D-473A-8C2D-24687857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ACB-F678-4547-A4E4-8BB58E24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DD8-EF8C-449B-A4ED-6557CCE7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A27-D7A7-4D32-ACCA-AB1E43B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481-C512-4A73-8DDB-C2B9F3F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188-5C7F-4234-98C3-1E3CE25F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8B6-CE99-45AA-829D-3372F06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189-7A58-43AF-85ED-97A05484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4EE-C07C-4465-A6E8-CE72C393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97E-1A66-4558-B20E-CC5391F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696E-B1A3-4AC6-8737-1ED85F128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0880" y="1295280"/>
            <a:ext cx="838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Tues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esson 21, Day 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19920" y="152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words with /a/ a-e and other letter sou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nics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609480"/>
            <a:ext cx="84582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rds with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tter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llowed by a consonant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an stand for the long a sound as in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pla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l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C:\Documents and Settings\pawley\My Documents\skate.bmp"/>
          <p:cNvPicPr/>
          <p:nvPr/>
        </p:nvPicPr>
        <p:blipFill>
          <a:blip r:embed="rId1"/>
          <a:stretch/>
        </p:blipFill>
        <p:spPr>
          <a:xfrm>
            <a:off x="380880" y="3352680"/>
            <a:ext cx="1562400" cy="1484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33520" y="4876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C:\Documents and Settings\pawley\My Documents\plane.jpg"/>
          <p:cNvPicPr/>
          <p:nvPr/>
        </p:nvPicPr>
        <p:blipFill>
          <a:blip r:embed="rId2"/>
          <a:stretch/>
        </p:blipFill>
        <p:spPr>
          <a:xfrm>
            <a:off x="2971800" y="3327480"/>
            <a:ext cx="2365200" cy="1846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5812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C:\Documents and Settings\pawley\My Documents\lake.jpg"/>
          <p:cNvPicPr/>
          <p:nvPr/>
        </p:nvPicPr>
        <p:blipFill>
          <a:blip r:embed="rId3"/>
          <a:stretch/>
        </p:blipFill>
        <p:spPr>
          <a:xfrm>
            <a:off x="6095880" y="2971800"/>
            <a:ext cx="2438640" cy="167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67816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3048120"/>
            <a:ext cx="861084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Your Pet Love You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onths, Bianca followed Cait everywhere… Now 600 pounds, Bianca’s too big for that.  “Her attempts to love us became painful,” says Jan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(Think Alou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95400"/>
            <a:ext cx="8382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problem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1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problem was 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solution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2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solution was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589120" y="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971800" y="914400"/>
            <a:ext cx="3048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44792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am a hamster. 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nice place to live.  I like to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ldren.  “Squeak, squeak!” I think the cla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!  The childr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ght op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door and pet me.  Soon they will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Then I will ru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my wheel.  At night I’ll ge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r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go to sleep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15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ou read words in 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28600" y="304920"/>
            <a:ext cx="7543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we will read a play at small groups. A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a story that is written to be acted out. What the characters say to each other tells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me of our play is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“Flake, the Missing Hamster.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Word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Lionel, Jeffrey, Narrator, and r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 Narrator tells part of the stor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838080" y="380880"/>
            <a:ext cx="289584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648320" y="380880"/>
            <a:ext cx="289548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914400" y="24382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914400" y="388620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54100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28600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58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1911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191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143000" y="838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95288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97180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048120" y="403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200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477120" y="152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practice retelling and summarizing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ke, the Missing Hams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295280"/>
            <a:ext cx="845820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problem and solution in the stor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urn and talk on my signal to discuss using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problem is 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olution is ___________________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28600" y="228600"/>
            <a:ext cx="830592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you feel sympathy for a friend who got a new bike for her birthday?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uld you feel sympathy for a friend who had a sick c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could show sympathy by ___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9144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What do hamsters like to d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nstantia"/>
              </a:rPr>
              <a:t>Hamsters like to _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28600" y="228600"/>
            <a:ext cx="84582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a sensitive person laugh when you are cry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What are some ways a sensitive person knows how others are fee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I know how someone is feeling by ___________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28600" y="228600"/>
            <a:ext cx="84582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Would a friend who is devoted to you forget to invite you to a party?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ow do you show your family that you are devoted to th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 show my family I am devoted by __________.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5880" y="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generate describing words that tell how many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533520"/>
            <a:ext cx="8534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Little Appl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In one voice, what word tells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urn and talk with your partner about what other words could describe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276720" y="4267080"/>
            <a:ext cx="184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raw and W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144792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Draw a cartoon that shows you and a friend. Then write a dialogue for your scene in speech bubb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urn and talk with your partner about what you will write about today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143000" y="22860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rry, 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bble, wobb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867280" y="1600200"/>
            <a:ext cx="3124440" cy="240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152280" y="25146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58680" y="22860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762120"/>
            <a:ext cx="876312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picture do you see in your mind when you h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rry, scurry in a hu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ly-poly down th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bble, wobble, there he g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one voice, what do you think the author is talking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o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l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individual phonemes in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66680" y="12193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Seg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1523880" y="3352680"/>
            <a:ext cx="57913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nd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971800" y="838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6668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124080" y="1600200"/>
            <a:ext cx="3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5268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5909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048120" y="24382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35268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88620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895480" y="33526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505320" y="3352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438280" y="4343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048120" y="4343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3581280" y="4343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04920"/>
            <a:ext cx="815328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ne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fou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eople for th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og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meet us a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to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will 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Federated Group</dc:creator>
  <dc:description/>
  <dc:language>en-US</dc:language>
  <cp:lastModifiedBy>mworsham</cp:lastModifiedBy>
  <dcterms:modified xsi:type="dcterms:W3CDTF">2010-02-22T05:45:30Z</dcterms:modified>
  <cp:revision>8</cp:revision>
  <dc:subject/>
  <dc:title>PowerPoint Presentation</dc:title>
</cp:coreProperties>
</file>