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CA62-3309-435F-A8D6-4EEC0E910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8676-D96A-4F4B-8A1F-20868A3DD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0D3C-D95D-4E65-835E-FE8673D64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EE66-2BD5-4874-BAD4-BA6395ABA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AAD7-33B2-4FF1-BB5A-084901407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34EA-FC19-4B47-993C-A5A96E62D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4CBA-D8A0-4727-8DF0-B96B959D3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96CD-BD20-4C80-B3CB-4B10D1C40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2A58-08B0-4160-B573-68FB54CFD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D268-DACF-49E4-A077-EBB9BBFB4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C230-EB7B-4DF8-8720-79FD5D323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9892-F344-4198-8BF6-CABB10DA8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658D-9C71-427B-AC19-B6CFF0C51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6F05-BF95-4F7D-A30D-DC2DE73F8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15C4-0BDF-4A98-8401-CFB41C943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B46B-B7A9-4801-9B43-64260CA8B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220E-03CF-41D7-AA20-380955AF8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61A4-52EA-4FD9-9EC1-48E111549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3C42-BEA7-4EE0-986B-FD4006BB9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482A-6444-4603-BFBD-56DD8A68D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179A-11E8-4FC0-9BCD-A33997ED1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894E-17C8-4D74-BEF0-8198C13BA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632-812E-4181-A912-FB86468D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099-D2E2-438C-BFE2-DB648DA0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BE4-DE6A-4896-9C20-B78146D7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A0E-A8F7-432B-80E3-84C4B95A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950-542A-42A5-BC9D-4A47195A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0EB-5990-42C5-8049-9ABC4F27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193-CFF8-4DF9-8774-FFB442C9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F06-B4B0-46B0-983C-F0420E48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A2AA-64DA-4E82-A842-B05B7404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4D6-FE63-468D-A296-3B4770DE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469-1845-4469-96C9-198B4215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AF3-01C7-499A-B795-E1DBE0AB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1A55-22EE-4A1C-AA17-20F26D492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pawley\My Documents\chalkboar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80880" y="1295280"/>
            <a:ext cx="8382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February 11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esson 21, Day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2057400" y="457200"/>
            <a:ext cx="5486400" cy="42670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2070000" y="0"/>
            <a:ext cx="287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with Fl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2286000" y="457200"/>
            <a:ext cx="5105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rrator:  One day Lionel went to feed Flake.  Flake was the class hamster.  He lived near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onel:  Oh, n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 Sanchez:  What’s wrong, Lion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6172200" y="0"/>
            <a:ext cx="311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Objective:  To read fluently in a manner that sou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ke natural speec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140560" y="5105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E page T2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7086600" y="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identify the problem and solution in a sto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0"/>
            <a:ext cx="678168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/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Many stories begin with a problem that the characters have to solve.  The rest of the story tells how the characters find the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2514600"/>
          <a:ext cx="7848720" cy="39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es Your Pet Love You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ke, the Missing Ham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133720" y="1066680"/>
            <a:ext cx="533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egoe Script"/>
              </a:rPr>
              <a:t>Teacher Read Alou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egoe Script"/>
              </a:rPr>
              <a:t>Student Edition p. 134-1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egoe Script"/>
              </a:rPr>
              <a:t>TE page T2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C:\Documents and Settings\pawley\My Documents\sympathetic.jpg"/>
          <p:cNvPicPr/>
          <p:nvPr/>
        </p:nvPicPr>
        <p:blipFill>
          <a:blip r:embed="rId1"/>
          <a:stretch/>
        </p:blipFill>
        <p:spPr>
          <a:xfrm>
            <a:off x="1066680" y="1143000"/>
            <a:ext cx="3554640" cy="4309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larm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648320" y="182880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you ar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larm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you feel scared or worri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62120" y="518148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hild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arm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en he saw the scary mov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85800" y="228600"/>
            <a:ext cx="784872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ne voice answer with “crash”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ow” to the following 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Which sound would cause you to be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alarmed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– a loud crash or a soft me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 my signal turn and talk with your partner to complete this 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 would be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alarmed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if a 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alked through the door right now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3"/>
          <p:cNvSpPr/>
          <p:nvPr/>
        </p:nvSpPr>
        <p:spPr>
          <a:xfrm>
            <a:off x="914400" y="228600"/>
            <a:ext cx="5334120" cy="1295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C:\Documents and Settings\pawley\My Documents\sensitive.jpg"/>
          <p:cNvPicPr/>
          <p:nvPr/>
        </p:nvPicPr>
        <p:blipFill>
          <a:blip r:embed="rId1"/>
          <a:stretch/>
        </p:blipFill>
        <p:spPr>
          <a:xfrm>
            <a:off x="914400" y="1523880"/>
            <a:ext cx="7389720" cy="512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219320" y="4572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ysterio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800600" y="388620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something i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ysteriou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it is strange or puzzl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1011600" y="6248520"/>
            <a:ext cx="51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steriou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man hid in the shadow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85800" y="609480"/>
            <a:ext cx="84582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will name three events.  If you think the eve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mysteriou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tap your chin and say “hmmmm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f the event is not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mysteriou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sit still as a stat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eeing a magician make someone disapp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eeing Mrs. Cochran in the lunch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earing a lion roar in your backy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verjoy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952880" y="182880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you ar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verjoy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you are very, very hap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5800" y="5715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n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verjoy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en he won the tennis mat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C:\Documents and Settings\pawley\My Documents\devoted.jpg"/>
          <p:cNvPicPr/>
          <p:nvPr/>
        </p:nvPicPr>
        <p:blipFill>
          <a:blip r:embed="rId1"/>
          <a:stretch/>
        </p:blipFill>
        <p:spPr>
          <a:xfrm>
            <a:off x="1447920" y="1447920"/>
            <a:ext cx="3351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1040760" y="762120"/>
            <a:ext cx="7351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If my friend threw a surprise party for me, I 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be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overjo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In one voice, answer “yes” or “no” to this 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Would you be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overjoyed</a:t>
            </a: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 if you had to c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your entire ho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853560" y="3809880"/>
            <a:ext cx="71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On my signal, show me what your face looks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when you are </a:t>
            </a: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overjoyed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Horizontal Scroll 7"/>
          <p:cNvSpPr/>
          <p:nvPr/>
        </p:nvSpPr>
        <p:spPr>
          <a:xfrm>
            <a:off x="838080" y="3429000"/>
            <a:ext cx="7620120" cy="2286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609480" y="2133720"/>
            <a:ext cx="8188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It took us four hours to get to the mountains.  We took two cars.  When we stopped for a rest, we each ate one apple.  Just five minutes after entering the park, we saw five brown bears and one red fox!  I took eight photographs.  When we finally got to the cabin, I ate three cookies and drank one glass of milk.  At last, I crawled into the soft bed and slept for ten hou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1378800" y="129528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8b"/>
                </a:solidFill>
                <a:latin typeface="Comic Sans MS"/>
                <a:ea typeface="SimHei"/>
              </a:rPr>
              <a:t>Let’s find the words that tell </a:t>
            </a:r>
            <a:r>
              <a:rPr b="0" i="1" lang="en-US" sz="2400" spc="-1" strike="noStrike">
                <a:solidFill>
                  <a:srgbClr val="22228b"/>
                </a:solidFill>
                <a:latin typeface="Comic Sans MS"/>
                <a:ea typeface="SimHei"/>
              </a:rPr>
              <a:t>how many</a:t>
            </a:r>
            <a:r>
              <a:rPr b="0" lang="en-US" sz="2400" spc="-1" strike="noStrike">
                <a:solidFill>
                  <a:srgbClr val="22228b"/>
                </a:solidFill>
                <a:latin typeface="Comic Sans MS"/>
                <a:ea typeface="Sim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4871880" y="228600"/>
            <a:ext cx="409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ive:  To identify words that describe how man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1220040" y="60948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Segoe UI"/>
                <a:ea typeface="Segoe UI"/>
              </a:rPr>
              <a:t>Grammar:  Describing Words:  How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228600"/>
            <a:ext cx="86104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nstantia"/>
              </a:rPr>
              <a:t>Why do you think people get pets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nstantia"/>
              </a:rPr>
              <a:t>Why would a hams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nstantia"/>
              </a:rPr>
              <a:t>make a good pe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nstantia"/>
              </a:rPr>
              <a:t>Hamsters make good p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nstantia"/>
              </a:rPr>
              <a:t>because 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80880" y="838080"/>
            <a:ext cx="853452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line in the play includes both the actor’s name and the words the actor s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Gwen:  Hooray for Flake, the hungry hamst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715000" y="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select a focus when writing. To write a dialogu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rite a Play togeth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ch character should start the play?  What mark goes after the characters nam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 will speak next? How should I write i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d I put the correct mark after? Did I remember to begin the names with capital letter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 should talk next? What do I write firs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should the play en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’s read our play togeth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181480" y="60948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181480" y="4876920"/>
            <a:ext cx="358164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181480" y="274320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5181480" y="380988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181480" y="1676520"/>
            <a:ext cx="358164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334120" y="7621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334120" y="19051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334120" y="29718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5334120" y="40384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257800" y="5105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715000" y="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select a focus when writing. To write a dialogu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477120" y="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do a choral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f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143000" y="0"/>
            <a:ext cx="2209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You read the words in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143000" y="0"/>
            <a:ext cx="670572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Hamsterc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urr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cu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 hurr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oly-p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wn the hal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ib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ob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he go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med with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his n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C:\Documents and Settings\pawley\My Documents\hamsters.jpg"/>
          <p:cNvPicPr/>
          <p:nvPr/>
        </p:nvPicPr>
        <p:blipFill>
          <a:blip r:embed="rId1"/>
          <a:stretch/>
        </p:blipFill>
        <p:spPr>
          <a:xfrm>
            <a:off x="5791320" y="1523880"/>
            <a:ext cx="3124080" cy="2405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pawley\My Documents\hamster.jpg"/>
          <p:cNvPicPr/>
          <p:nvPr/>
        </p:nvPicPr>
        <p:blipFill>
          <a:blip r:embed="rId2"/>
          <a:stretch/>
        </p:blipFill>
        <p:spPr>
          <a:xfrm>
            <a:off x="380880" y="1600200"/>
            <a:ext cx="27432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2666880" y="152280"/>
            <a:ext cx="3733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ord Wall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685800"/>
            <a:ext cx="91440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r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ne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i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igh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p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g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lete phonemes to say new word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28600" y="228600"/>
            <a:ext cx="6934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066680" y="12193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honeme Dele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C:\Documents and Settings\pawley\My Documents\waking up.jpg"/>
          <p:cNvPicPr/>
          <p:nvPr/>
        </p:nvPicPr>
        <p:blipFill>
          <a:blip r:embed="rId1"/>
          <a:stretch/>
        </p:blipFill>
        <p:spPr>
          <a:xfrm>
            <a:off x="3581280" y="2133720"/>
            <a:ext cx="2392560" cy="2903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3740760" y="5105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 page T2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33520" y="2286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vi-VN" sz="4800" spc="-1" strike="noStrike">
                <a:solidFill>
                  <a:srgbClr val="3333cc"/>
                </a:solidFill>
                <a:latin typeface="Times New Roman"/>
              </a:rPr>
              <a:t>ă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/a and /ā/a_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477120" y="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discriminate between the letter-sound associations /</a:t>
            </a:r>
            <a:r>
              <a:rPr b="0" lang="vi-VN" sz="1400" spc="-1" strike="noStrike">
                <a:solidFill>
                  <a:srgbClr val="3333cc"/>
                </a:solidFill>
                <a:latin typeface="Times New Roman"/>
              </a:rPr>
              <a:t>ă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/a and /ā/a_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590920" y="8380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971800" y="8380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514600" y="1600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971800" y="1600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352680" y="1600200"/>
            <a:ext cx="609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362320" y="243828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297180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3352680" y="24382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2362320" y="335268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895480" y="33526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3276720" y="3352680"/>
            <a:ext cx="3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2895480" y="53341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7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7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3520" y="228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vowel /a/ a-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477120" y="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build spelling words. To spell three-, four-, and five- letter long-vowel words and high 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90920" y="8380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971800" y="8380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352680" y="83808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514600" y="16002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971800" y="1600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3352680" y="16002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514600" y="243828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297180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3352680" y="24382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2590920" y="335268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2895480" y="33526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3276720" y="3352680"/>
            <a:ext cx="3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590920" y="4343400"/>
            <a:ext cx="3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2819520" y="43434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276720" y="43434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2590920" y="5334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0"/>
          <p:cNvSpPr/>
          <p:nvPr/>
        </p:nvSpPr>
        <p:spPr>
          <a:xfrm>
            <a:off x="2895480" y="53341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3276720" y="53341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7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75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7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7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3520" y="304920"/>
            <a:ext cx="8153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477120" y="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use common vowel spelling patterns to read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-21600" y="228600"/>
            <a:ext cx="35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You read the words in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1756440" y="914400"/>
            <a:ext cx="5594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Sam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had a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plan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He cut up some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paper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He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taped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wings 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He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made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a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plane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Can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the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plane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f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Yes, it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can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Sam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is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glad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753920" y="5181480"/>
            <a:ext cx="4510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Comic Sans MS"/>
              </a:rPr>
              <a:t>Volunteers:  Underline words with 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Comic Sans MS"/>
              </a:rPr>
              <a:t>Circle words with </a:t>
            </a:r>
            <a:r>
              <a:rPr b="0" lang="vi-VN" sz="2000" spc="-1" strike="noStrike">
                <a:solidFill>
                  <a:srgbClr val="cc3399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cc3399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955160" y="457200"/>
            <a:ext cx="2422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Penmanship Print"/>
              </a:rPr>
              <a:t>ca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Penmanship Print"/>
              </a:rPr>
              <a:t>ga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Penmanship Print"/>
              </a:rPr>
              <a:t>ga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Penmanship Print"/>
              </a:rPr>
              <a:t>la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Penmanship Print"/>
              </a:rPr>
              <a:t>lak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5087880" y="533520"/>
            <a:ext cx="2070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Penmanship Print"/>
              </a:rPr>
              <a:t>tak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Penmanship Print"/>
              </a:rPr>
              <a:t>d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Penmanship Print"/>
              </a:rPr>
              <a:t>pl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Penmanship Print"/>
              </a:rPr>
              <a:t>fou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Penmanship Print"/>
              </a:rPr>
              <a:t>pla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3636000" y="1522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en Light"/>
              </a:rPr>
              <a:t>Spell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1546200" y="5410080"/>
            <a:ext cx="623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What do the red words have in common?   </a:t>
            </a:r>
            <a:r>
              <a:rPr b="0" lang="en-US" sz="1400" spc="-1" strike="noStrike">
                <a:solidFill>
                  <a:srgbClr val="000000"/>
                </a:solidFill>
                <a:latin typeface="Segoe Print"/>
              </a:rPr>
              <a:t>(volunte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What do the blue words have in common?  </a:t>
            </a:r>
            <a:r>
              <a:rPr b="0" lang="en-US" sz="1400" spc="-1" strike="noStrike">
                <a:solidFill>
                  <a:srgbClr val="000000"/>
                </a:solidFill>
                <a:latin typeface="Segoe Print"/>
              </a:rPr>
              <a:t>(volunte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What color is the number word?  </a:t>
            </a:r>
            <a:r>
              <a:rPr b="0" lang="en-US" sz="1600" spc="-1" strike="noStrike">
                <a:solidFill>
                  <a:srgbClr val="000000"/>
                </a:solidFill>
                <a:latin typeface="Segoe Print"/>
              </a:rPr>
              <a:t>(one vo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6477120" y="0"/>
            <a:ext cx="297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Times New Roman"/>
              </a:rPr>
              <a:t>Objective:  To use common vowel spelling patterns to read wor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20:29:55Z</dcterms:created>
  <dc:creator>Janice Wagnon</dc:creator>
  <dc:description/>
  <dc:language>en-US</dc:language>
  <cp:lastModifiedBy>Janice Wagnon</cp:lastModifiedBy>
  <dcterms:modified xsi:type="dcterms:W3CDTF">2009-02-10T07:07:44Z</dcterms:modified>
  <cp:revision>48</cp:revision>
  <dc:subject/>
  <dc:title>PowerPoint Presentation</dc:title>
</cp:coreProperties>
</file>