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99D7-95EE-449B-85A3-7172DFF53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4F32-1D0D-47A8-84C4-5D24690D9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E10-7B56-482B-92E2-E9E3366B1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0F4-8213-4A38-ACE1-FD7146046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B838-B7E1-4746-8BDD-8A4E30DB0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3717-3E55-4B4A-B559-C3416497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901A-5AF0-4D84-B8A3-75C9C079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E4F3-C6DB-45D7-95BC-FADD2060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C3DC-5365-4743-87B2-46528FE31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B1CD-7228-4357-B593-52C0149C3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44CC-F06A-43F8-8270-8B44D3AB8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8237-86EA-4527-BC1F-7C17F85CC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E46F-9068-4EEB-BA74-7A3D88702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84A7-7EF6-4B11-98C1-9089E90AB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36A7-40B3-4306-8417-D242AD58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A80-57B9-4C7A-ADA0-683FA972B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FAE-E884-48C0-A2DF-3D39BFA4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36CB-AC4C-4A05-A38B-BD6C4DF8C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0D35-6967-4476-9693-51B59BB5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2307-339E-44DD-A2CD-3679AE2C7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0F5-A730-445F-8C4A-F31C20C68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A371-CDD0-4186-B0CA-3EFCD3CE2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0A7-DEA5-4CFB-9293-855E3E95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26F-5774-4829-8F13-AF860E47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1A2-F670-44F9-BC7C-3C00FFED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966-8C7C-4840-B569-A2C25D7F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94F-9190-4347-9A99-1A5B6B51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457-8C80-49F5-B30A-26CE584D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FD0-7D51-44CC-91FA-56D00900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29C-7FFF-4F92-A41E-0BD344F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029-E92F-403E-BD5C-5D7F1A3E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9ED-2420-4D53-BEE5-C1D704CC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07F-FD17-4BFD-84DD-08823FC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270-0294-4A6D-977F-491E1A5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8F52-F2F3-414B-BAE9-733D7C309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pawley\My Documents\chalkbo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0880" y="129528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ebruary 11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esson 21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2057400" y="457200"/>
            <a:ext cx="5486400" cy="42670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070000" y="0"/>
            <a:ext cx="28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with Fl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286000" y="457200"/>
            <a:ext cx="510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rator:  One day Lionel went to feed Flake.  Flake was the class hamster.  He lived near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onel:  Oh, 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 Sanchez:  What’s wrong, Lion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172200" y="0"/>
            <a:ext cx="311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bjective:  To read fluently in a manner that sou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ke natural speec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140560" y="5105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E page T2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0"/>
            <a:ext cx="67816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any stories begin with a problem that the characters have to solve.  The rest of the story tells how the characters find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514600"/>
          <a:ext cx="7848720" cy="39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es Your Pet Lov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ke, the Missing Ham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133720" y="1066680"/>
            <a:ext cx="533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Teacher Read Alo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Student Edition p. 134-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TE page T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C:\Documents and Settings\pawley\My Documents\sympathetic.jpg"/>
          <p:cNvPicPr/>
          <p:nvPr/>
        </p:nvPicPr>
        <p:blipFill>
          <a:blip r:embed="rId1"/>
          <a:stretch/>
        </p:blipFill>
        <p:spPr>
          <a:xfrm>
            <a:off x="1066680" y="1143000"/>
            <a:ext cx="3554640" cy="4309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648320" y="18288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feel scared or worri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2120" y="51814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ild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he saw the scary mov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85800" y="228600"/>
            <a:ext cx="78487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crash”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ow” to the following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hich sound would cause you to be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alarmed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– a loud crash or a soft me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 would be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alarmed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if a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alked through the door right now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914400" y="228600"/>
            <a:ext cx="5334120" cy="1295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:\Documents and Settings\pawley\My Documents\sensitive.jpg"/>
          <p:cNvPicPr/>
          <p:nvPr/>
        </p:nvPicPr>
        <p:blipFill>
          <a:blip r:embed="rId1"/>
          <a:stretch/>
        </p:blipFill>
        <p:spPr>
          <a:xfrm>
            <a:off x="914400" y="1523880"/>
            <a:ext cx="7389720" cy="512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19320" y="457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ysteri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800600" y="38862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something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yster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it is strange or puzz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011600" y="624852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sterio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man hid in the shadow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60948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will name three events.  If you think the eve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mysterio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tap your chin and say “hmmmm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 the event is not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mysterio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sit still as a stat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eeing a magician make someone disapp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eeing Mrs. Cochran in the lunch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earing a lion roar in your back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952880" y="18288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are very, very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5800" y="5715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n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he won the tennis mat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:\Documents and Settings\pawley\My Documents\devo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3351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040760" y="762120"/>
            <a:ext cx="73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If my friend threw a surprise party for me, I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be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verjo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In one voice, answer “yes” or “no” to this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Would you be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verjoyed</a:t>
            </a: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 if you had to 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your entire ho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853560" y="3809880"/>
            <a:ext cx="71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n my signal, show me what your face look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when you are </a:t>
            </a: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overjoyed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Horizontal Scroll 7"/>
          <p:cNvSpPr/>
          <p:nvPr/>
        </p:nvSpPr>
        <p:spPr>
          <a:xfrm>
            <a:off x="838080" y="3429000"/>
            <a:ext cx="7620120" cy="2286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609480" y="2133720"/>
            <a:ext cx="8188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It took us four hours to get to the mountains.  We took two cars.  When we stopped for a rest, we each ate one apple.  Just five minutes after entering the park, we saw five brown bears and one red fox!  I took eight photographs.  When we finally got to the cabin, I ate three cookies and drank one glass of milk.  At last, I crawled into the soft bed and slept for ten hou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378800" y="129528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Let’s find the words that tell </a:t>
            </a:r>
            <a:r>
              <a:rPr b="0" i="1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how many</a:t>
            </a:r>
            <a:r>
              <a:rPr b="0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4871880" y="228600"/>
            <a:ext cx="40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 To identify words that describe how m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220040" y="60948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egoe UI"/>
                <a:ea typeface="Segoe UI"/>
              </a:rPr>
              <a:t>Grammar:  Describing Words:  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do you think people get pet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would a hams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make a good p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Hamsters make good p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because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80880" y="838080"/>
            <a:ext cx="853452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line in the play includes both the actor’s name and the words the actor s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Gwen:  Hooray for Flake, the hungry hamst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rite a Play toget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character should start the play?  What mark goes after the characters n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will speak next? How should I write i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I put the correct mark after? Did I remember to begin the names with capital lett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should talk next? What do I write fir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should the play e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read our play toge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81480" y="6094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181480" y="48769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181480" y="274320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181480" y="38098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181480" y="16765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34120" y="762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3341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334120" y="29718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334120" y="40384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57800" y="5105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do a choral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f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143000" y="0"/>
            <a:ext cx="220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43000" y="0"/>
            <a:ext cx="6705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Hamster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u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u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hurr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oly-p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 the hal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b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b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he go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ed with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his n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C:\Documents and Settings\pawley\My Documents\hamsters.jpg"/>
          <p:cNvPicPr/>
          <p:nvPr/>
        </p:nvPicPr>
        <p:blipFill>
          <a:blip r:embed="rId1"/>
          <a:stretch/>
        </p:blipFill>
        <p:spPr>
          <a:xfrm>
            <a:off x="5791320" y="1523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pawley\My Documents\hamster.jpg"/>
          <p:cNvPicPr/>
          <p:nvPr/>
        </p:nvPicPr>
        <p:blipFill>
          <a:blip r:embed="rId2"/>
          <a:stretch/>
        </p:blipFill>
        <p:spPr>
          <a:xfrm>
            <a:off x="380880" y="1600200"/>
            <a:ext cx="2743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666880" y="1522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Wall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685800"/>
            <a:ext cx="9144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e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i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igh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lete phonemes to say new word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22860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66680" y="12193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honeme Dele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:\Documents and Settings\pawley\My Documents\waking up.jpg"/>
          <p:cNvPicPr/>
          <p:nvPr/>
        </p:nvPicPr>
        <p:blipFill>
          <a:blip r:embed="rId1"/>
          <a:stretch/>
        </p:blipFill>
        <p:spPr>
          <a:xfrm>
            <a:off x="3581280" y="2133720"/>
            <a:ext cx="2392560" cy="2903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3740760" y="5105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 page T2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228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vi-VN" sz="4800" spc="-1" strike="noStrike">
                <a:solidFill>
                  <a:srgbClr val="3333cc"/>
                </a:solidFill>
                <a:latin typeface="Times New Roman"/>
              </a:rPr>
              <a:t>ă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 and /ā/a_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477120" y="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discriminate between the letter-sound associations /</a:t>
            </a:r>
            <a:r>
              <a:rPr b="0" lang="vi-VN" sz="1400" spc="-1" strike="noStrike">
                <a:solidFill>
                  <a:srgbClr val="3333cc"/>
                </a:solidFill>
                <a:latin typeface="Times New Roman"/>
              </a:rPr>
              <a:t>ă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/a and /ā/a_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14600" y="1600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352680" y="1600200"/>
            <a:ext cx="60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362320" y="24382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23623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vowel /a/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352680" y="838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14600" y="16002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3526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514600" y="243828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590920" y="434340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2819520" y="4343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2767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2590920" y="5334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3276720" y="5334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3049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477120" y="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use common vowel spelling patterns to read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-21600" y="22860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756440" y="914400"/>
            <a:ext cx="5594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Sam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had a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cut up som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aper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aped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wings 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mad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a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t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f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Yes, it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Sam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glad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753920" y="5181480"/>
            <a:ext cx="4510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Volunteers:  Underline words with 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Circle words with </a:t>
            </a:r>
            <a:r>
              <a:rPr b="0" lang="vi-VN" sz="2000" spc="-1" strike="noStrike">
                <a:solidFill>
                  <a:srgbClr val="cc3399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955160" y="457200"/>
            <a:ext cx="2422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c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g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g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l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la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5087880" y="533520"/>
            <a:ext cx="207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Penmanship Print"/>
              </a:rPr>
              <a:t>ta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Penmanship Print"/>
              </a:rPr>
              <a:t>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Penmanship Print"/>
              </a:rPr>
              <a:t>pl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Penmanship Print"/>
              </a:rPr>
              <a:t>fo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Penmanship Print"/>
              </a:rPr>
              <a:t>pla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636000" y="152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en Light"/>
              </a:rPr>
              <a:t>Spell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546200" y="5410080"/>
            <a:ext cx="623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do the red words have in common?   </a:t>
            </a:r>
            <a:r>
              <a:rPr b="0" lang="en-US" sz="1400" spc="-1" strike="noStrike">
                <a:solidFill>
                  <a:srgbClr val="000000"/>
                </a:solidFill>
                <a:latin typeface="Segoe Print"/>
              </a:rPr>
              <a:t>(volunte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do the blue words have in common?  </a:t>
            </a:r>
            <a:r>
              <a:rPr b="0" lang="en-US" sz="1400" spc="-1" strike="noStrike">
                <a:solidFill>
                  <a:srgbClr val="000000"/>
                </a:solidFill>
                <a:latin typeface="Segoe Print"/>
              </a:rPr>
              <a:t>(volunte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color is the number word?  </a:t>
            </a:r>
            <a:r>
              <a:rPr b="0" lang="en-US" sz="1600" spc="-1" strike="noStrike">
                <a:solidFill>
                  <a:srgbClr val="000000"/>
                </a:solidFill>
                <a:latin typeface="Segoe Print"/>
              </a:rPr>
              <a:t>(one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477120" y="0"/>
            <a:ext cx="29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Times New Roman"/>
              </a:rPr>
              <a:t>Objective:  To use common vowel spelling patterns to read wor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0:29:55Z</dcterms:created>
  <dc:creator>Janice Wagnon</dc:creator>
  <dc:description/>
  <dc:language>en-US</dc:language>
  <cp:lastModifiedBy>Janice Wagnon</cp:lastModifiedBy>
  <dcterms:modified xsi:type="dcterms:W3CDTF">2009-02-10T07:07:44Z</dcterms:modified>
  <cp:revision>48</cp:revision>
  <dc:subject/>
  <dc:title>PowerPoint Presentation</dc:title>
</cp:coreProperties>
</file>