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EA8-7ECB-4842-A361-0032B816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1CB-EA7F-481F-9638-E05BBDC8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637-67A0-445C-882B-8B0CE916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183-354F-4A74-873A-E0C75216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609-7692-4166-952F-B6AB80E8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933-E833-4945-AD39-0E387992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B22-5EDD-4CE5-8D9A-1A99E672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B2B-464F-4265-A7AA-626C057B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03E-0353-4AC0-B3B2-14A9383B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F06-2FC5-483A-97C5-AF7170B5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2EB-3F33-465B-9E6E-001F86F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DBD-B140-41EE-A841-B4673F6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EFF5-9638-4474-81A1-BFF251B4E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1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828800"/>
            <a:ext cx="3657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f these words rhy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tells 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cl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 problem and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763120" cy="5373720"/>
        </p:xfrm>
        <a:graphic>
          <a:graphicData uri="http://schemas.openxmlformats.org/drawingml/2006/table">
            <a:tbl>
              <a:tblPr/>
              <a:tblGrid>
                <a:gridCol w="1643040"/>
                <a:gridCol w="2503440"/>
                <a:gridCol w="2268720"/>
                <a:gridCol w="2347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Your Pet Really Love Yo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ke, the Missing 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jo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ould you run away if you saw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ster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715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be sensitive and show sympathy to a friend who lost a pet, what could you d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nsitive, I woul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 someone you are devoted to?  Why are you devoted to this per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devoted to _____ because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dark and stormy night.  Jen was in bed  She heard a tree crash outside her window. Jen was ______ by the s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rushed to the window.  The tree outside her window was fine.  It had not crashed at all.  Jen was puzzled by this _______ ev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went back to her bed.  All of a sudden, she woke up!  She was ________ to realize that she had been dreaming and everything was f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 Words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ate Sentences th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have any pet you want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ge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______ make the best pets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0120" y="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Hamst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7520" y="1371600"/>
            <a:ext cx="52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92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a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1981080"/>
          <a:ext cx="8229600" cy="391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eginning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13T03:40:23Z</dcterms:modified>
  <cp:revision>130</cp:revision>
  <dc:subject/>
  <dc:title>Slide 1</dc:title>
</cp:coreProperties>
</file>