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75A-0C79-4A92-A208-A90DD658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1DB-2FA2-4133-9FF7-3473917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122-6425-4B47-8492-2CAA623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E2C-221B-4A7F-B101-3FEAFC41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FA2-DDBD-4F61-8429-54DE380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80F-57B4-4C81-A95D-C0EE9BEF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BA7-378A-4B96-AF7B-5F61BFB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F0E-F005-4E25-98AF-B79BAFB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7F2-23E5-4965-9E7E-0C1C5288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D56-63E7-48DB-BC0C-CF024FA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0B8-45E1-45E1-A030-D16EA2AD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6B3-3DF5-47E6-B105-460CCA9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16E1-513B-4A0D-9925-9FE468D0D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1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828800"/>
            <a:ext cx="3657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of these words rhy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tells 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means the opposite of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means the opposite of cl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 problem and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763120" cy="5373720"/>
        </p:xfrm>
        <a:graphic>
          <a:graphicData uri="http://schemas.openxmlformats.org/drawingml/2006/table">
            <a:tbl>
              <a:tblPr/>
              <a:tblGrid>
                <a:gridCol w="1643040"/>
                <a:gridCol w="2503440"/>
                <a:gridCol w="2268720"/>
                <a:gridCol w="2347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Your Pet Really Love Yo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ke, the Missing 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r Wants 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jo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ould you run away if you saw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ster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 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715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be sensitive and show sympathy to a friend who lost a pet, what could you d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nsitive, I woul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56080" y="1523880"/>
            <a:ext cx="363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 someone you are devoted to?  Why are you devoted to this per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devoted to _____ because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dark and stormy night.  Jen was in bed  She heard a tree crash outside her window. Jen was ______ by the s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 rushed to the window.  The tree outside her window was fine.  It had not crashed at all.  Jen was puzzled by this _______ ev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 went back to her bed.  All of a sudden, she woke up!  She was ________ to realize that she had been dreaming and everything was f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 Words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ate Sentences tha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have any pet you want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ge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______ make the best pets becaus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0120" y="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04920"/>
            <a:ext cx="80773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etting and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starts with a character’s name and a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s tell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Hamst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7520" y="1371600"/>
            <a:ext cx="521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49528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92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ad words with phonograms –a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-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1981080"/>
          <a:ext cx="8229600" cy="391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eginning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Phon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2-13T03:40:23Z</dcterms:modified>
  <cp:revision>130</cp:revision>
  <dc:subject/>
  <dc:title>Slide 1</dc:title>
</cp:coreProperties>
</file>