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AF45-0570-4AE6-A3E5-DBF16E41A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F20F-F7FB-483B-A350-2AB930EF2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4DB5-EA10-4F10-A5F5-3F5B39F56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2311-BD2D-403F-ABE8-2465EA0D6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71B7-5BB4-4E3D-AA4C-58E7179F3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B5CF-F04D-4353-94B5-7BAD740AF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13FA-8FFB-4789-9BE8-B26851C3B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AA85-8BD1-40D6-BD55-B8BC22D78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7213-26A0-46D8-A1E1-FDE8B2EF5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2219-BD9C-4377-BC31-5E46A04D0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E549-F9AD-4704-878C-1037CD23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B22C-6659-4144-BF02-A3396EC6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3227-93C4-4074-8113-1CDF96722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161B-F1EA-4B09-BE41-C47EF3B11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9122-368B-4CF3-8FAA-2E864D1C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6735-7B7E-42DF-ABF7-C9E2AEF62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4FF2-187E-49C2-A215-8C43C2841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D9CB-7D9E-48D5-9086-D6F089E5A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9F06-CA83-48BE-87F2-3D964BBC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1ECB-5A06-428E-864A-82542F5E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6C86-CA4A-4E25-BDED-BB015A1C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863-E1E9-41E2-8FD9-94C2B00B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469-C689-440F-B159-C17654D9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A0A-1B8D-40E2-A192-FCADFC5A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928-3664-4BBE-ABE6-184E71CB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D96-4D28-4FD2-9CD9-7708BC44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4C7-9F8F-4B2E-8395-848B4E03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525-5006-4077-B709-6459FF6F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97B-A956-48A2-BD4F-81239B74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C8F9-F246-43A3-85EC-458AFA36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972-E46C-4CE3-8357-851B7A9F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F05-C5BA-4E79-A791-E498CF11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0DE1-39A6-4DFB-AEB8-A88134916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Mike has a ki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Spike likes to bik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nd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4176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</a:tr>
              <a:tr h="30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Mike and Spike Hike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practice identifying problems and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loudy with a Chance of Meatba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8" descr="CLOUDY-739978"/>
          <p:cNvPicPr/>
          <p:nvPr/>
        </p:nvPicPr>
        <p:blipFill>
          <a:blip r:embed="rId1"/>
          <a:stretch/>
        </p:blipFill>
        <p:spPr>
          <a:xfrm>
            <a:off x="2438280" y="2743200"/>
            <a:ext cx="42958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p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744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incident is something unusual that happens and often is an accid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cid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572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uck had to be turned upright after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ide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8" descr="incident_mgmt"/>
          <p:cNvPicPr/>
          <p:nvPr/>
        </p:nvPicPr>
        <p:blipFill>
          <a:blip r:embed="rId1"/>
          <a:stretch/>
        </p:blipFill>
        <p:spPr>
          <a:xfrm>
            <a:off x="304920" y="2286000"/>
            <a:ext cx="4995720" cy="3336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adu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happens in a gradual way, it happens slowly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28600" y="6172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s gradually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7" descr="COLOURlovers"/>
          <p:cNvPicPr/>
          <p:nvPr/>
        </p:nvPicPr>
        <p:blipFill>
          <a:blip r:embed="rId1"/>
          <a:stretch/>
        </p:blipFill>
        <p:spPr>
          <a:xfrm>
            <a:off x="152280" y="1981080"/>
            <a:ext cx="5486400" cy="41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downpour is a large amount of rain that falls in a short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wnpou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762120" y="62485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caught in the downp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7" descr="Downpour"/>
          <p:cNvPicPr/>
          <p:nvPr/>
        </p:nvPicPr>
        <p:blipFill>
          <a:blip r:embed="rId1"/>
          <a:stretch/>
        </p:blipFill>
        <p:spPr>
          <a:xfrm>
            <a:off x="228600" y="2514600"/>
            <a:ext cx="541008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and talk to your partner about a funny incident that happened at a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 are a seed that is growing into a tree.  Show a partner the gradual changes you would go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tell them about a downpour of 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things do you see on the way to the market?  What do you see when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get to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On the way to the market, I see 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hen I get to the market, I se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152280" y="1523880"/>
            <a:ext cx="8991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eople were gett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ighten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ere to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fra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0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3" descr="la43"/>
          <p:cNvPicPr/>
          <p:nvPr/>
        </p:nvPicPr>
        <p:blipFill>
          <a:blip r:embed="rId1"/>
          <a:stretch/>
        </p:blipFill>
        <p:spPr>
          <a:xfrm>
            <a:off x="1371600" y="0"/>
            <a:ext cx="57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322"/>
          <p:cNvPicPr/>
          <p:nvPr/>
        </p:nvPicPr>
        <p:blipFill>
          <a:blip r:embed="rId1"/>
          <a:stretch/>
        </p:blipFill>
        <p:spPr>
          <a:xfrm>
            <a:off x="914400" y="1371600"/>
            <a:ext cx="78487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6" descr="la44"/>
          <p:cNvPicPr/>
          <p:nvPr/>
        </p:nvPicPr>
        <p:blipFill>
          <a:blip r:embed="rId1"/>
          <a:stretch/>
        </p:blipFill>
        <p:spPr>
          <a:xfrm>
            <a:off x="1996920" y="0"/>
            <a:ext cx="515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323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 A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71800" y="1828800"/>
            <a:ext cx="320040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733920" y="21337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1981080" y="1219320"/>
            <a:ext cx="518184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5105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6477120" y="7621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H="1">
            <a:off x="1295280" y="525780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H="1" flipV="1">
            <a:off x="838080" y="1219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Market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Pj04392920000[1]"/>
          <p:cNvPicPr/>
          <p:nvPr/>
        </p:nvPicPr>
        <p:blipFill>
          <a:blip r:embed="rId1"/>
          <a:stretch/>
        </p:blipFill>
        <p:spPr>
          <a:xfrm>
            <a:off x="1219320" y="1905120"/>
            <a:ext cx="6400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5" descr="MCj04174380000[1]"/>
          <p:cNvPicPr/>
          <p:nvPr/>
        </p:nvPicPr>
        <p:blipFill>
          <a:blip r:embed="rId1"/>
          <a:stretch/>
        </p:blipFill>
        <p:spPr>
          <a:xfrm>
            <a:off x="4724280" y="2057400"/>
            <a:ext cx="35816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i/ i-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i/ sound, make an a with you fingers.  When I say a word that does not have /i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i/ sound in the middle, make an /i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5"/>
          <p:cNvSpPr txBox="1"/>
          <p:nvPr/>
        </p:nvSpPr>
        <p:spPr>
          <a:xfrm>
            <a:off x="533520" y="1600200"/>
            <a:ext cx="40384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2193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18288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505320" y="18288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419720" y="12193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276720" y="274320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11480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4038480" y="27432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26708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3505320" y="34290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3"/>
          <p:cNvSpPr/>
          <p:nvPr/>
        </p:nvSpPr>
        <p:spPr>
          <a:xfrm>
            <a:off x="403848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43434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3505320" y="4191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3886200" y="4191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4343400" y="4191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4495680" y="4191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4267080" y="50292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3809880" y="5029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3429000" y="5029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495680" y="5029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495680" y="12952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191120" y="1295280"/>
            <a:ext cx="1676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3886200" y="2133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4114800" y="21337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4343400" y="2133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4572000" y="3200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3809880" y="3200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4343400" y="3200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4800600" y="56386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28T23:17:38Z</dcterms:modified>
  <cp:revision>143</cp:revision>
  <dc:subject/>
  <dc:title>Slide 1</dc:title>
</cp:coreProperties>
</file>