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D673-4D31-4404-9006-50C99BDC9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09D9-206F-46DD-812B-6730C1908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6254-76E3-4448-8F9B-1F1C96695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761D-2309-4F80-9B2E-9CD1B8F1A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DAB5-8A8E-4BCA-B808-7E9282E79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B47F-148A-42A2-B98A-16D1981DE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75B0-2530-4123-8166-BBBBC082F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10A1-6284-4BED-AAA7-36BE095B2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5A77-6609-419A-8C96-F19DE96DF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D719-96D0-481B-8352-5F8242EBD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6D55-9528-4D4D-A672-F74555615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8C30-C0B3-4A5B-9F8F-B12514F59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6D67-1B19-4F7C-919A-DFF277EA8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E6C8-784B-4540-807D-DD7AFE69C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834C-5D34-481E-9380-6F0430B57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D414-27EA-4C6D-98B4-7F95CCAF0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9EE6-6D51-46CD-8838-A888B68E1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A85B-C494-4CF3-93A9-CFBF6C8C2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E98B-CA9C-4F7E-8E57-DCF8B255B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67AF-8249-408A-BB4D-D00329AB5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0B6-7DEA-45D7-9C10-F390D18F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FD1-5588-4616-B259-CD3990D7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D4C-98E7-468A-98EF-2B44B22A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3FD-83AB-47CE-81ED-D43952B3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418-0A5A-4327-88F3-0452E3DB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CC0-7895-4978-8E4B-9872D996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3CA-C515-4106-9CCA-DD7F8766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7FF-DFEC-4ADB-BC7E-0382F0F4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A2F-B05E-43B6-A12F-05E5E02E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B55-C74F-4688-BBC9-C6908780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8C5-D8A6-4AC2-8ADE-AB74D791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528-72F5-4A09-ABFB-39DEE329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815A-CADA-4369-8827-5BB4E942A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Mike has a ki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Spike likes to bik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nd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600" cy="4176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</a:tr>
              <a:tr h="30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MPj04394930000[1]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68580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Mike and Spike Hike” with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 four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practice identifying problems and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loudy with a Chance of Meatba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8" descr="CLOUDY-739978"/>
          <p:cNvPicPr/>
          <p:nvPr/>
        </p:nvPicPr>
        <p:blipFill>
          <a:blip r:embed="rId1"/>
          <a:stretch/>
        </p:blipFill>
        <p:spPr>
          <a:xfrm>
            <a:off x="2438280" y="2743200"/>
            <a:ext cx="42958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p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5744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incident is something unusual that happens and often is an accid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incid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57200" y="5791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uck had to be turned upright after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iden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8" descr="incident_mgmt"/>
          <p:cNvPicPr/>
          <p:nvPr/>
        </p:nvPicPr>
        <p:blipFill>
          <a:blip r:embed="rId1"/>
          <a:stretch/>
        </p:blipFill>
        <p:spPr>
          <a:xfrm>
            <a:off x="304920" y="2286000"/>
            <a:ext cx="4995720" cy="3336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adu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happens in a gradual way, it happens slowly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28600" y="61722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s gradually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7" descr="COLOURlovers"/>
          <p:cNvPicPr/>
          <p:nvPr/>
        </p:nvPicPr>
        <p:blipFill>
          <a:blip r:embed="rId1"/>
          <a:stretch/>
        </p:blipFill>
        <p:spPr>
          <a:xfrm>
            <a:off x="152280" y="1981080"/>
            <a:ext cx="5486400" cy="411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downpour is a large amount of rain that falls in a short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ownpou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762120" y="62485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was caught in the downp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7" descr="Downpour"/>
          <p:cNvPicPr/>
          <p:nvPr/>
        </p:nvPicPr>
        <p:blipFill>
          <a:blip r:embed="rId1"/>
          <a:stretch/>
        </p:blipFill>
        <p:spPr>
          <a:xfrm>
            <a:off x="228600" y="2514600"/>
            <a:ext cx="541008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and talk to your partner about a funny incident that happened at a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you are a seed that is growing into a tree.  Show a partner the gradual changes you would go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tell them about a downpour of 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things do you see on the way to the market?  What do you see when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get to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On the way to the market, I see _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hen I get to the market, I se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fo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152280" y="1523880"/>
            <a:ext cx="8991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eople were gett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righten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were to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fra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0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for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3" descr="la43"/>
          <p:cNvPicPr/>
          <p:nvPr/>
        </p:nvPicPr>
        <p:blipFill>
          <a:blip r:embed="rId1"/>
          <a:stretch/>
        </p:blipFill>
        <p:spPr>
          <a:xfrm>
            <a:off x="1371600" y="0"/>
            <a:ext cx="57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for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322"/>
          <p:cNvPicPr/>
          <p:nvPr/>
        </p:nvPicPr>
        <p:blipFill>
          <a:blip r:embed="rId1"/>
          <a:stretch/>
        </p:blipFill>
        <p:spPr>
          <a:xfrm>
            <a:off x="914400" y="1371600"/>
            <a:ext cx="78487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6" descr="la44"/>
          <p:cNvPicPr/>
          <p:nvPr/>
        </p:nvPicPr>
        <p:blipFill>
          <a:blip r:embed="rId1"/>
          <a:stretch/>
        </p:blipFill>
        <p:spPr>
          <a:xfrm>
            <a:off x="1996920" y="0"/>
            <a:ext cx="515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323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Make A We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971800" y="1828800"/>
            <a:ext cx="320040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733920" y="213372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 a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1981080" y="1219320"/>
            <a:ext cx="5181840" cy="47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51055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V="1">
            <a:off x="6477120" y="762120"/>
            <a:ext cx="9903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 flipH="1">
            <a:off x="1295280" y="5257800"/>
            <a:ext cx="144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H="1" flipV="1">
            <a:off x="838080" y="1219320"/>
            <a:ext cx="1371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22860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Market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Pj04392920000[1]"/>
          <p:cNvPicPr/>
          <p:nvPr/>
        </p:nvPicPr>
        <p:blipFill>
          <a:blip r:embed="rId1"/>
          <a:stretch/>
        </p:blipFill>
        <p:spPr>
          <a:xfrm>
            <a:off x="1219320" y="1905120"/>
            <a:ext cx="6400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ar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say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i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5" descr="MCj04174380000[1]"/>
          <p:cNvPicPr/>
          <p:nvPr/>
        </p:nvPicPr>
        <p:blipFill>
          <a:blip r:embed="rId1"/>
          <a:stretch/>
        </p:blipFill>
        <p:spPr>
          <a:xfrm>
            <a:off x="4724280" y="2057400"/>
            <a:ext cx="35816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001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/i/ i-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begins with the /i/ sound, make an a with you fingers.  When I say a word that does not have /i/, do not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i/ sound in the middle, make an /i/ with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5"/>
          <p:cNvSpPr txBox="1"/>
          <p:nvPr/>
        </p:nvSpPr>
        <p:spPr>
          <a:xfrm>
            <a:off x="533520" y="1600200"/>
            <a:ext cx="40384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1219320"/>
            <a:ext cx="838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657600" y="12193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18288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505320" y="18288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419720" y="12193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3276720" y="2743200"/>
            <a:ext cx="1218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4114800" y="18288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4038480" y="27432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4267080" y="27432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2"/>
          <p:cNvSpPr/>
          <p:nvPr/>
        </p:nvSpPr>
        <p:spPr>
          <a:xfrm>
            <a:off x="3505320" y="34290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3"/>
          <p:cNvSpPr/>
          <p:nvPr/>
        </p:nvSpPr>
        <p:spPr>
          <a:xfrm>
            <a:off x="403848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43434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3505320" y="4191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6"/>
          <p:cNvSpPr/>
          <p:nvPr/>
        </p:nvSpPr>
        <p:spPr>
          <a:xfrm>
            <a:off x="3886200" y="4191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7"/>
          <p:cNvSpPr/>
          <p:nvPr/>
        </p:nvSpPr>
        <p:spPr>
          <a:xfrm>
            <a:off x="4343400" y="41911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4495680" y="4191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4267080" y="50292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3809880" y="5029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3429000" y="5029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495680" y="5029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4495680" y="12952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191120" y="1295280"/>
            <a:ext cx="1676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3886200" y="2133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4114800" y="213372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4343400" y="21337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4572000" y="3200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0"/>
          <p:cNvSpPr/>
          <p:nvPr/>
        </p:nvSpPr>
        <p:spPr>
          <a:xfrm>
            <a:off x="3809880" y="3200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4343400" y="3200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4800600" y="5638680"/>
            <a:ext cx="83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28T23:17:38Z</dcterms:modified>
  <cp:revision>143</cp:revision>
  <dc:subject/>
  <dc:title>Slide 1</dc:title>
</cp:coreProperties>
</file>