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EFF1-BB97-4DDD-884A-8CE79E312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CCF-0809-4B7F-917E-541915F6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26B2-2EAE-46FC-9D78-92D38082F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2303-9E53-4189-92D3-A0DA2ABD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301A-6571-4728-8B9F-4BA1833D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BBA4-11E3-4690-A93A-CB704F62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E85-413C-45EA-8C56-CB23EC21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1DC0-8CF4-485F-AC46-86BCC6A70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D469-3534-4015-BEC3-7B7A7484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952B-2B91-49B0-BE3F-26136915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ACF9-EAAB-4D63-B615-FDCDB210A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10D2-5E06-4CEC-A3EA-E39EDD406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3F5-FF18-4494-AD2C-60464D65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49BA-4673-4847-B6A2-7A9D5A89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42A8-B0E4-4150-90C7-23766AA4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E72-AA55-49FF-9CE6-66B6D79B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3BB-9C3E-424C-8650-8086CEAB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0BB8-FF68-4706-B3C9-74A4AA6F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2712-07D1-459C-BDE4-D461E139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1901-C30D-406F-8663-C3100F80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F6DD-3278-4D09-BAC4-17A729696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3AC0-0E2B-4FEA-9A62-6E87366F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677-1E7B-4073-A26C-33E8908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A28-56C2-4F76-9011-2109AB4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AB5-7F34-4AE8-B645-F2C32910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35E-93A9-4999-83A2-3CB57BD3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5F4-2232-4A04-B303-B7EEB68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423-C912-4698-9506-C528A86B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B1C-5470-411C-A4AC-725D9D5C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CFB-8D6B-462B-9164-D6A1E209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92B-DA37-4D10-AD6F-A791BC8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D77-B346-4EB2-B430-D6C859D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79A-C7AE-4894-B8C2-04AE78F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78A-A9C9-404A-A7F2-1CA39CE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1162-6B71-42B3-AD6E-9FC2BA23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bruary 22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4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be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sh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wi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854640" y="9907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655160" y="76212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Stor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cid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62560" y="1066680"/>
            <a:ext cx="81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On my signal, answer these questions in one voice with “yes” or “no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sleeping in your bed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falling out of your bed in the middle of the night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0960" y="297180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answer in one voice with “tell” or “forget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a funny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ncide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appened at your house, w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tell someone about it or just forge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gradual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radual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65880" y="990720"/>
            <a:ext cx="776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hould I use a water hose or a little cup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to put water in the 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 turn and talk to your partn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 would use a _____________ to put water in the bucket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7621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p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30000" y="838080"/>
            <a:ext cx="79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you rather be caugh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flowers or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pinec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answer in one v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“flowers” or “pinecone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2640" y="2133720"/>
            <a:ext cx="794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 hear a song that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’m all alone in a dark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think about _______, I feel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go to _________ I feel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990000" y="914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Describing Words: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like to have a pic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would you choose this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a picnic at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it her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762120"/>
          <a:ext cx="8229600" cy="603540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sentence that tells about a memo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sentence that tells how you fel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sentence.  What kind of end mark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ne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else can we say about this 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choice is very important.  It help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a clear picture of the memory.  Can 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more words to the last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read this description of a mem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09680" y="15238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 page 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184480"/>
            <a:ext cx="3581640" cy="3249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5722560" y="54864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page T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966840" y="464832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4656240" y="4724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   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4956840" y="46483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mad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near my n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k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  It’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and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n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feet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can make it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may tak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Mom came to see the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tim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o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-267480" y="990720"/>
            <a:ext cx="85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You will read the red words.  I will read the blu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ime_front_40207_md.gif"/>
          <p:cNvPicPr/>
          <p:nvPr/>
        </p:nvPicPr>
        <p:blipFill>
          <a:blip r:embed="rId1"/>
          <a:stretch/>
        </p:blipFill>
        <p:spPr>
          <a:xfrm>
            <a:off x="2895480" y="2895480"/>
            <a:ext cx="333396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Limes2.jpg"/>
          <p:cNvPicPr/>
          <p:nvPr/>
        </p:nvPicPr>
        <p:blipFill>
          <a:blip r:embed="rId2"/>
          <a:stretch/>
        </p:blipFill>
        <p:spPr>
          <a:xfrm>
            <a:off x="5867280" y="990720"/>
            <a:ext cx="2675160" cy="237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33680" y="0"/>
            <a:ext cx="786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rds With i_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The letter “i” can stand for the long “i” sound in the middl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ords vine, dime, and l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rape-vine_1_lg.gif"/>
          <p:cNvPicPr/>
          <p:nvPr/>
        </p:nvPicPr>
        <p:blipFill>
          <a:blip r:embed="rId3"/>
          <a:stretch/>
        </p:blipFill>
        <p:spPr>
          <a:xfrm>
            <a:off x="380880" y="1143000"/>
            <a:ext cx="35467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452600" y="3048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48080" y="6248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634080" y="3581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781680" y="61722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  /i/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178640" y="0"/>
            <a:ext cx="707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/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many stories, characters have problems which need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sten to this selection from “Cloudy With a Chance of Meatbal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one feared for their lives.  They couldn’t go outside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ti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 a decision was made to abandon the town of Chewandswall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What was the problem that the townspeople h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How did they solve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3657600"/>
          <a:ext cx="6095880" cy="2759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ree P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 bad wolf kept blowing down hou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s went in the strongest house, the brick 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, the 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 was mis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ildren found Flake when they got their snack 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6828480" y="152280"/>
            <a:ext cx="2309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probl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lution of a sto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mworsham</cp:lastModifiedBy>
  <dcterms:modified xsi:type="dcterms:W3CDTF">2010-02-28T23:19:20Z</dcterms:modified>
  <cp:revision>182</cp:revision>
  <dc:subject/>
  <dc:title>Slide 1</dc:title>
</cp:coreProperties>
</file>