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FF64-7B05-4ACB-9A5F-994D7962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847-688B-4F09-AB9F-5C35745B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F21-1893-437B-89A7-09A83D43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BEB6-EEEF-48FE-8688-33009A77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C793-B103-4F04-84C3-582EC790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EF9-1D8A-4FB9-8B76-A4A00CC24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A06D-83FF-4C35-8859-6DDF610F9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F25-76B4-4FA0-8B6A-50C2DE44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75FA-3764-41C1-8901-A0964EE7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2D19-2462-4499-AE66-411EF42D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818A-70E9-4B4B-B02E-1935AEF9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FD67-F851-4DBE-AA5A-8EA2267F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1926-BD61-4D8A-BCE1-09199BA3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30B0-DB2D-4B80-8C3E-90813EA1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855-17C4-4A8B-AFB4-F388A164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A70-09D4-470D-8427-896F7795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2D6B-C538-41CD-A751-F75A6D9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6119-0ACB-40F2-BC8D-96884A7A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232E-BBAF-41D5-8786-4D246576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D9E6-6F9E-4AA7-9753-7F3B2319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0A8F-7584-44A1-A23B-D7E316911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861-B5A5-4076-8F04-B90669FC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CC7-E9B0-4C0F-8800-FD2C92EE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334-4577-482D-99E0-EB27F23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2F4-5DFC-4EBE-8027-E6A7F32B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CA8-F203-4595-8AD7-7AB8EB72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C26-608D-4C56-8D34-F52ABCBD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3C1-A46A-4F6B-8A18-6AB579B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B78-F5A9-41EC-B558-1846AC33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A42-5D39-4FAE-8C6F-AABD3BE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8DA-0B12-4E3C-B4DB-587E9794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F43-1719-4522-9DB2-8C696D80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9A7-5EC1-4B68-AB50-89295B7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822-FE53-4F52-A3C4-B3B7929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DCDF-4E74-457F-8C3F-7B18162F7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bruary 22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4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be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sh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wi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854640" y="9907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655160" y="76212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Stor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cid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62560" y="1066680"/>
            <a:ext cx="81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On my signal, answer these questions in one voice with “yes” or “no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sleeping in your bed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falling out of your bed in the middle of the night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0960" y="297180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answer in one voice with “tell” or “forget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a funny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ncide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appened at your house, w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tell someone about it or just forge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gradual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radual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65880" y="990720"/>
            <a:ext cx="776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hould I use a water hose or a little cup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to put water in the 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 turn and talk to your partn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 would use a _____________ to put water in the bucket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7621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p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30000" y="838080"/>
            <a:ext cx="79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you rather be caugh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flowers or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pinec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answer in one v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“flowers” or “pinecone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2640" y="2133720"/>
            <a:ext cx="794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 hear a song that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’m all alone in a dark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think about _______, I feel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go to _________ I feel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990000" y="914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Describing Words: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like to have a pic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would you choose this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a picnic at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it her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762120"/>
          <a:ext cx="8229600" cy="603540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sentence that tells about a memo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sentence that tells how you fel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sentence.  What kind of end mark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ne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else can we say about this 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choice is very important.  It help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a clear picture of the memory.  Can 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more words to the last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read this description of a mem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09680" y="15238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 page 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184480"/>
            <a:ext cx="3581640" cy="3249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5722560" y="54864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page T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966840" y="464832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4656240" y="4724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   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4956840" y="46483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mad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near my n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k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  It’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and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n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feet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can make it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may tak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Mom came to see the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tim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o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-267480" y="990720"/>
            <a:ext cx="85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You will read the red words.  I will read the blu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ime_front_40207_md.gif"/>
          <p:cNvPicPr/>
          <p:nvPr/>
        </p:nvPicPr>
        <p:blipFill>
          <a:blip r:embed="rId1"/>
          <a:stretch/>
        </p:blipFill>
        <p:spPr>
          <a:xfrm>
            <a:off x="2895480" y="2895480"/>
            <a:ext cx="333396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Limes2.jpg"/>
          <p:cNvPicPr/>
          <p:nvPr/>
        </p:nvPicPr>
        <p:blipFill>
          <a:blip r:embed="rId2"/>
          <a:stretch/>
        </p:blipFill>
        <p:spPr>
          <a:xfrm>
            <a:off x="5867280" y="990720"/>
            <a:ext cx="2675160" cy="237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33680" y="0"/>
            <a:ext cx="786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rds With i_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The letter “i” can stand for the long “i” sound in the middl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ords vine, dime, and l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rape-vine_1_lg.gif"/>
          <p:cNvPicPr/>
          <p:nvPr/>
        </p:nvPicPr>
        <p:blipFill>
          <a:blip r:embed="rId3"/>
          <a:stretch/>
        </p:blipFill>
        <p:spPr>
          <a:xfrm>
            <a:off x="380880" y="1143000"/>
            <a:ext cx="35467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452600" y="3048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48080" y="6248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634080" y="3581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781680" y="61722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  /i/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178640" y="0"/>
            <a:ext cx="707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/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many stories, characters have problems which need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sten to this selection from “Cloudy With a Chance of Meatbal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one feared for their lives.  They couldn’t go outside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ti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 a decision was made to abandon the town of Chewandswall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What was the problem that the townspeople h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How did they solve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3657600"/>
          <a:ext cx="6095880" cy="2759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ree P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 bad wolf kept blowing down hou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s went in the strongest house, the brick 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, the 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 was mis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ildren found Flake when they got their snack 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6828480" y="152280"/>
            <a:ext cx="2309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probl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lution of a sto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mworsham</cp:lastModifiedBy>
  <dcterms:modified xsi:type="dcterms:W3CDTF">2010-02-28T23:19:20Z</dcterms:modified>
  <cp:revision>182</cp:revision>
  <dc:subject/>
  <dc:title>Slide 1</dc:title>
</cp:coreProperties>
</file>