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C81F-B515-4F9C-A4CC-CDB9441D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61BF-77C4-4196-9CE3-75102E893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0879-0FD6-453F-B6DD-7F89FDD1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5516-632C-4298-8AA4-D30A8EA96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8CF0-17F1-499D-8F3B-451A00F12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03B6-A954-44D8-9FAC-6F904F882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5EA0-45F5-4C6C-83CD-E93DE59A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544F-7594-421D-B33E-DBCF6ECF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2798-AD79-4ED9-BE0D-6EEA33D56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8DE7-A7E0-4A30-A241-462783B9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2A5A-076C-4552-A3CA-39FF3FED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84B1-5451-4ED0-9BC3-AEF9E310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1A4A-8302-463D-94D7-DFF9E4F46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CC42-631D-461B-8DE5-FF9173692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753-B906-4CAF-A343-69D9EB444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9195-EB05-4AEA-8329-80BAA4BF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F6B0-5D17-45AD-9851-E8C94A1D8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E713-12B2-4F89-A4DB-BBA1A8A4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7F8-6408-4020-8D93-448A25F9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CDC-65CD-4973-A24B-6B1EE036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1A0-6621-461F-8AA1-7EE965E6D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B9F-83AB-4DE9-843C-27EE658D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CBA-0E05-4B2B-A44F-01D75CA8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750-B7DC-4450-BD97-8C37C6CF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9A7-46F0-41BF-9FC0-B2437609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674-3980-4132-B0D8-6EA721F8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2D4-D2A6-4A21-9358-DD3EC33F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9FD-D3E1-4927-9A0A-8F85A12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D07-A81E-4EB2-983D-C223EFFF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3B5-1D14-4778-9AE9-335C66A6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0678-1A76-4292-8A16-A60446E82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halk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219320" y="990720"/>
            <a:ext cx="79246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esson 22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Day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e’re Going on a Picnic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ad with a partner a page from “We’re Going on a Picnic” with expres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ency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162920" y="228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ith fluency in a manner that sounds like natural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MPj04394930000[1]"/>
          <p:cNvPicPr/>
          <p:nvPr/>
        </p:nvPicPr>
        <p:blipFill>
          <a:blip r:embed="rId1"/>
          <a:stretch/>
        </p:blipFill>
        <p:spPr>
          <a:xfrm>
            <a:off x="2438280" y="3352680"/>
            <a:ext cx="41911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ff"/>
                </a:solidFill>
                <a:latin typeface="Arial"/>
              </a:rPr>
              <a:t>Most stories have a problem and solu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urn and talk with your partner abou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oblem in “We’re Going on a Picnic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The problem was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urn and talk with your partner abou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olution in “We’re Going on a Picnic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The solution wa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572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Problem/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324480" y="3049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problem and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ci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eek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you seek something, you look for or try to find i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PogDiggingDogBayardFeb06"/>
          <p:cNvPicPr/>
          <p:nvPr/>
        </p:nvPicPr>
        <p:blipFill>
          <a:blip r:embed="rId1"/>
          <a:stretch/>
        </p:blipFill>
        <p:spPr>
          <a:xfrm>
            <a:off x="228600" y="20574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304920" y="6172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 the bone that he had bur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1143000"/>
            <a:ext cx="82296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In one voice, answer this question with “pencil” or “to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uring a game of hide-and-seek, players hide and one person seeks them. At school do you usually seek a pencil or a favorite to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to complete this 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When I get ready for school, I seek 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blivi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oblivious to something, you do not see it or realize it is happening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457200" y="5638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v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her friend fell down on the 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8" descr="C:\Documents and Settings\pawley\My Documents\My Pictures\oblivious.jpg"/>
          <p:cNvPicPr/>
          <p:nvPr/>
        </p:nvPicPr>
        <p:blipFill>
          <a:blip r:embed="rId1"/>
          <a:stretch/>
        </p:blipFill>
        <p:spPr>
          <a:xfrm>
            <a:off x="533520" y="2286000"/>
            <a:ext cx="4876560" cy="3260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04920" y="914400"/>
            <a:ext cx="84582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n one voice, answer with “ant” or “frog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If someone took my keys from my pocket and I did not notice, I would be oblivious to what happened. Would you be oblivious if you did not see an ant on your shirt or a frog on your shi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to your partner and show how you would act if you were oblivious to a gor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indecisive, you cannot make up your mind about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decis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533520" y="50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deci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ut what to 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8" descr="C:\Documents and Settings\pawley\My Documents\My Pictures\indecisive.jpg"/>
          <p:cNvPicPr/>
          <p:nvPr/>
        </p:nvPicPr>
        <p:blipFill>
          <a:blip r:embed="rId1"/>
          <a:stretch/>
        </p:blipFill>
        <p:spPr>
          <a:xfrm>
            <a:off x="838080" y="2286000"/>
            <a:ext cx="399600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52280" y="990720"/>
            <a:ext cx="8763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In one voice, answer with “restaurant” or “pencil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hen I cannot decide what to eat for lunch, I am being indecisive. Would you be indecisive about what to choose at a restaurant or about which pencil to us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Turn to your partner and show how you could pretend to be indecisive about which toy to bu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62120" y="762120"/>
            <a:ext cx="76197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uppet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very excited to see a pup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. We felt okay when the pup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tarted. the puppet show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gly Duckling.” we felt sa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uckling was all alone. We fel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duckling grew into a swan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1"/>
          <p:cNvSpPr/>
          <p:nvPr/>
        </p:nvSpPr>
        <p:spPr>
          <a:xfrm>
            <a:off x="152280" y="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do at a picnic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like to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like to do this because 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90720" y="13716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I got a cute, little puppy when I was 3 years old.  I felt so happy! The puppy was little, brown, and fuzzy. He kept licking my hands.  I named him Brownie. He was so n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33520" y="1522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ription of a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323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 A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71800" y="1828800"/>
            <a:ext cx="32004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733920" y="21337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1981080" y="1219320"/>
            <a:ext cx="518184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553080" y="5105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6477120" y="762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1295280" y="52578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 flipV="1">
            <a:off x="838080" y="1219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to poetry read alo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Pic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MPj04392920000[1]"/>
          <p:cNvPicPr/>
          <p:nvPr/>
        </p:nvPicPr>
        <p:blipFill>
          <a:blip r:embed="rId1"/>
          <a:stretch/>
        </p:blipFill>
        <p:spPr>
          <a:xfrm>
            <a:off x="1219320" y="191448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C:\Documents and Settings\pawley\My Documents\My Pictures\sheep.jpg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57200" y="0"/>
            <a:ext cx="7315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Long vowel /i/ i-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990720" y="1066680"/>
            <a:ext cx="71625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ha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ite b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dog runs by hi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ke ri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9"/>
          <p:cNvSpPr/>
          <p:nvPr/>
        </p:nvSpPr>
        <p:spPr>
          <a:xfrm>
            <a:off x="3124080" y="12952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3581280" y="129528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3809880" y="12952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2"/>
          <p:cNvSpPr/>
          <p:nvPr/>
        </p:nvSpPr>
        <p:spPr>
          <a:xfrm>
            <a:off x="3276720" y="2362320"/>
            <a:ext cx="54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3"/>
          <p:cNvSpPr/>
          <p:nvPr/>
        </p:nvSpPr>
        <p:spPr>
          <a:xfrm>
            <a:off x="3581280" y="23623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3809880" y="2362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3200400" y="342900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6"/>
          <p:cNvSpPr/>
          <p:nvPr/>
        </p:nvSpPr>
        <p:spPr>
          <a:xfrm>
            <a:off x="3505320" y="34290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7"/>
          <p:cNvSpPr/>
          <p:nvPr/>
        </p:nvSpPr>
        <p:spPr>
          <a:xfrm>
            <a:off x="3886200" y="3429000"/>
            <a:ext cx="53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8"/>
          <p:cNvSpPr/>
          <p:nvPr/>
        </p:nvSpPr>
        <p:spPr>
          <a:xfrm>
            <a:off x="3200400" y="44197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"/>
          <p:cNvSpPr/>
          <p:nvPr/>
        </p:nvSpPr>
        <p:spPr>
          <a:xfrm>
            <a:off x="3505320" y="44197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3809880" y="4419720"/>
            <a:ext cx="68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w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c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g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n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eca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r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ho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walk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3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3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3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3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3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28T23:20:53Z</dcterms:modified>
  <cp:revision>147</cp:revision>
  <dc:subject/>
  <dc:title>Slide 1</dc:title>
</cp:coreProperties>
</file>