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C54E-F8C4-4C85-9273-09F35A5EB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56AC-AEB4-4CC3-80C5-111972919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198F-54F4-4268-8782-9FB4887A2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09B1-401D-4E61-9FFC-ED07AABA4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B5D9-A81F-46BC-B746-D6F84A4EB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2C0E-F316-463E-8E47-68B5F49FA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6E94-16AD-44F3-A344-4E2963726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044A-3367-483C-A580-8554776B7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24BD-13C4-4D23-B1F7-2C3297401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1D1A-0840-4E81-BD0B-AB2B3C93A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05B6-C918-42CD-A1E6-AB4ABD89A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65D2-07B1-42F7-A33D-880311FCC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1129-643B-441C-A66E-C74DA1C9C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E527-3AAD-4D71-BAE0-8595EFE61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669A-E060-4CBA-A415-403187E85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FF2E-3A96-44CF-A96D-C98F37149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D6E2-B255-480A-BF9F-57B0D08B3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1C46-6095-4F86-AA69-BA74C4D83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C10A-525C-4D7A-A41A-9D22ED83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C75-ACB9-48AE-BC35-CCB7032B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8E4-AD4C-4E3C-B668-7DED4A73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E38F-49FB-4004-B479-4C5CE41E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1130-B7D6-41B6-B6C8-384840B0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9E2-52F6-47C9-9AAE-2CC80388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58D-F8BB-485E-95D3-840CA96B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B2D-36FD-4E54-A5AA-FCC8F808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DBC-46A8-43F6-A1A6-64E6258F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C033-54A1-4C08-B21F-7A5168B1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AF70-439E-48DF-88A9-5330949B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782E-653A-4E02-A020-324AD310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CB8B-33F4-47DB-A626-5622FC3CC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halkbo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1219320" y="990720"/>
            <a:ext cx="79246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esson 22,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Day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We’re Going on a Picnic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ad with a partner a page from “We’re Going on a Picnic” with expres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uency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7162920" y="228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with fluency in a manner that sounds like natural spe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MPj04394930000[1]"/>
          <p:cNvPicPr/>
          <p:nvPr/>
        </p:nvPicPr>
        <p:blipFill>
          <a:blip r:embed="rId1"/>
          <a:stretch/>
        </p:blipFill>
        <p:spPr>
          <a:xfrm>
            <a:off x="2438280" y="3352680"/>
            <a:ext cx="41911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ff"/>
                </a:solidFill>
                <a:latin typeface="Arial"/>
              </a:rPr>
              <a:t>Most stories have a problem and solu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urn and talk with your partner abou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roblem in “We’re Going on a Picnic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The problem was 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Turn and talk with your partner abou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olution in “We’re Going on a Picnic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The solution was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57200" y="228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Problem/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324480" y="30492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problem and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v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ci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eek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you seek something, you look for or try to find it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PogDiggingDogBayardFeb06"/>
          <p:cNvPicPr/>
          <p:nvPr/>
        </p:nvPicPr>
        <p:blipFill>
          <a:blip r:embed="rId1"/>
          <a:stretch/>
        </p:blipFill>
        <p:spPr>
          <a:xfrm>
            <a:off x="228600" y="20574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1"/>
          <p:cNvSpPr/>
          <p:nvPr/>
        </p:nvSpPr>
        <p:spPr>
          <a:xfrm>
            <a:off x="304920" y="6172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 w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 the bone that he had bur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04920" y="1143000"/>
            <a:ext cx="822960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In one voice, answer this question with “pencil” or “toy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uring a game of hide-and-seek, players hide and one person seeks them. At school do you usually seek a pencil or a favorite to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Turn and talk with your partner to complete this st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When I get ready for school, I seek __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obliviou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re oblivious to something, you do not see it or realize it is happening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457200" y="5638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livi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her friend fell down on the gr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8" descr="C:\Documents and Settings\pawley\My Documents\My Pictures\oblivious.jpg"/>
          <p:cNvPicPr/>
          <p:nvPr/>
        </p:nvPicPr>
        <p:blipFill>
          <a:blip r:embed="rId1"/>
          <a:stretch/>
        </p:blipFill>
        <p:spPr>
          <a:xfrm>
            <a:off x="533520" y="2286000"/>
            <a:ext cx="4876560" cy="3260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04920" y="914400"/>
            <a:ext cx="84582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In one voice, answer with “ant” or “frog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If someone took my keys from my pocket and I did not notice, I would be oblivious to what happened. Would you be oblivious if you did not see an ant on your shirt or a frog on your shir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urn to your partner and show how you would act if you were oblivious to a gori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you are indecisive, you cannot make up your mind about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indecisiv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533520" y="5029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deci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out what to 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8" descr="C:\Documents and Settings\pawley\My Documents\My Pictures\indecisive.jpg"/>
          <p:cNvPicPr/>
          <p:nvPr/>
        </p:nvPicPr>
        <p:blipFill>
          <a:blip r:embed="rId1"/>
          <a:stretch/>
        </p:blipFill>
        <p:spPr>
          <a:xfrm>
            <a:off x="838080" y="2286000"/>
            <a:ext cx="399600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52280" y="990720"/>
            <a:ext cx="876312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In one voice, answer with “restaurant” or “pencil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When I cannot decide what to eat for lunch, I am being indecisive. Would you be indecisive about what to choose at a restaurant or about which pencil to us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Turn to your partner and show how you could pretend to be indecisive about which toy to bu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fo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762120" y="762120"/>
            <a:ext cx="761976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Puppet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ere very excited to see a pup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. We felt okay when the pup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started. the puppet show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gly Duckling.” we felt sad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uckling was all alone. We fel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duckling grew into a swan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11"/>
          <p:cNvSpPr/>
          <p:nvPr/>
        </p:nvSpPr>
        <p:spPr>
          <a:xfrm>
            <a:off x="152280" y="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would you do at a picnic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like to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like to do this because 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990720" y="137160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I got a cute, little puppy when I was 3 years old.  I felt so happy! The puppy was little, brown, and fuzzy. He kept licking my hands.  I named him Brownie. He was so ni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553080" y="0"/>
            <a:ext cx="259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33520" y="15228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cription of a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323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Make A We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971800" y="1828800"/>
            <a:ext cx="320040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733920" y="213372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 a 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1981080" y="1219320"/>
            <a:ext cx="5181840" cy="472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553080" y="510552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6477120" y="762120"/>
            <a:ext cx="9903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1295280" y="5257800"/>
            <a:ext cx="1447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H="1" flipV="1">
            <a:off x="838080" y="1219320"/>
            <a:ext cx="1371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listen to poetry read alo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09680" y="22860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The Pic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MPj04392920000[1]"/>
          <p:cNvPicPr/>
          <p:nvPr/>
        </p:nvPicPr>
        <p:blipFill>
          <a:blip r:embed="rId1"/>
          <a:stretch/>
        </p:blipFill>
        <p:spPr>
          <a:xfrm>
            <a:off x="1219320" y="191448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v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ar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blend phonemes to say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di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6" descr="C:\Documents and Settings\pawley\My Documents\My Pictures\sheep.jpg"/>
          <p:cNvPicPr/>
          <p:nvPr/>
        </p:nvPicPr>
        <p:blipFill>
          <a:blip r:embed="rId1"/>
          <a:stretch/>
        </p:blipFill>
        <p:spPr>
          <a:xfrm>
            <a:off x="4648320" y="23623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57200" y="0"/>
            <a:ext cx="7315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Long vowel /i/ i-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6"/>
          <p:cNvSpPr/>
          <p:nvPr/>
        </p:nvSpPr>
        <p:spPr>
          <a:xfrm>
            <a:off x="990720" y="1066680"/>
            <a:ext cx="716256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k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has 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ite bik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k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id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t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qui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e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dog runs by his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ke rid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7"/>
          <p:cNvSpPr/>
          <p:nvPr/>
        </p:nvSpPr>
        <p:spPr>
          <a:xfrm>
            <a:off x="0" y="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9"/>
          <p:cNvSpPr/>
          <p:nvPr/>
        </p:nvSpPr>
        <p:spPr>
          <a:xfrm>
            <a:off x="3124080" y="1295280"/>
            <a:ext cx="70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0"/>
          <p:cNvSpPr/>
          <p:nvPr/>
        </p:nvSpPr>
        <p:spPr>
          <a:xfrm>
            <a:off x="3581280" y="129528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1"/>
          <p:cNvSpPr/>
          <p:nvPr/>
        </p:nvSpPr>
        <p:spPr>
          <a:xfrm>
            <a:off x="3809880" y="12952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2"/>
          <p:cNvSpPr/>
          <p:nvPr/>
        </p:nvSpPr>
        <p:spPr>
          <a:xfrm>
            <a:off x="3276720" y="2362320"/>
            <a:ext cx="54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3"/>
          <p:cNvSpPr/>
          <p:nvPr/>
        </p:nvSpPr>
        <p:spPr>
          <a:xfrm>
            <a:off x="3581280" y="236232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4"/>
          <p:cNvSpPr/>
          <p:nvPr/>
        </p:nvSpPr>
        <p:spPr>
          <a:xfrm>
            <a:off x="3809880" y="23623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5"/>
          <p:cNvSpPr/>
          <p:nvPr/>
        </p:nvSpPr>
        <p:spPr>
          <a:xfrm>
            <a:off x="3200400" y="3429000"/>
            <a:ext cx="70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6"/>
          <p:cNvSpPr/>
          <p:nvPr/>
        </p:nvSpPr>
        <p:spPr>
          <a:xfrm>
            <a:off x="3505320" y="34290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7"/>
          <p:cNvSpPr/>
          <p:nvPr/>
        </p:nvSpPr>
        <p:spPr>
          <a:xfrm>
            <a:off x="3886200" y="3429000"/>
            <a:ext cx="53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8"/>
          <p:cNvSpPr/>
          <p:nvPr/>
        </p:nvSpPr>
        <p:spPr>
          <a:xfrm>
            <a:off x="3200400" y="44197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9"/>
          <p:cNvSpPr/>
          <p:nvPr/>
        </p:nvSpPr>
        <p:spPr>
          <a:xfrm>
            <a:off x="3505320" y="441972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0"/>
          <p:cNvSpPr/>
          <p:nvPr/>
        </p:nvSpPr>
        <p:spPr>
          <a:xfrm>
            <a:off x="3809880" y="4419720"/>
            <a:ext cx="68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7"/>
          <p:cNvSpPr/>
          <p:nvPr/>
        </p:nvSpPr>
        <p:spPr>
          <a:xfrm>
            <a:off x="6858000" y="2286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8"/>
          <p:cNvSpPr/>
          <p:nvPr/>
        </p:nvSpPr>
        <p:spPr>
          <a:xfrm>
            <a:off x="838080" y="1219320"/>
            <a:ext cx="3429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l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n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w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9"/>
          <p:cNvSpPr/>
          <p:nvPr/>
        </p:nvSpPr>
        <p:spPr>
          <a:xfrm>
            <a:off x="3809880" y="1371600"/>
            <a:ext cx="327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7. t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8. c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9. g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0. n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beca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l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r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thos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walk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gh-Frequency Word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3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3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3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3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3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28T23:20:53Z</dcterms:modified>
  <cp:revision>147</cp:revision>
  <dc:subject/>
  <dc:title>Slide 1</dc:title>
</cp:coreProperties>
</file>