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5643-E999-49D7-9458-9A2DA847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1BE6-8BEC-45DA-ADF6-E7D3B649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3D90-755B-42D2-B96D-A42E861CB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1CC-CC00-4FDD-B1D9-46E94F25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F4A-0844-470E-AF56-E32908E43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F83E-D688-4BED-8B3F-F8B8F888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A8D0-22A5-48E2-95A1-7F12D6C4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8FF-468F-46DE-9856-2DD98A66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7125-54FD-4DE3-B8AF-1DF1E5A3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02D4-F7F3-4B22-8D56-7735C83B6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ACAC-A53C-4F99-B864-7B9F6EA53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2D1E-D855-4BEA-B2F9-DEA8A71D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768-DE53-4F10-A0A4-30D86CBA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A9B-30A1-46CD-9055-075E6BBD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5555-8C8B-4C4F-99F3-B4481BA8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FD07-DD3E-47EA-8527-F91D7E49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4808-1883-486D-9900-DCCCE098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D4A-5AD3-4C34-8D48-FC23712A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C14-B9EA-4339-BCF4-62E6AA4E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F7AD-B0BD-472B-BDFC-F0940B21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93B-4ADB-421B-858D-07EF3284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31B0-A029-4F6F-AB22-3FEC48E4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37A-736E-4FDF-AB26-1A87D259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B17-3523-4CFD-8B20-6792B3B1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9AF6-1FB8-4461-A40D-D811A2CD5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13F-7F40-4670-89FD-E7D1FAC2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6A9-AE70-440B-8127-48E5EE40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8DD-F307-4C1D-B365-664FF879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616-B03E-4F8D-93C7-65602E56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B1E-2430-4B51-BCEC-7002575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3FF-60DB-4617-9772-54F7516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FC8-7D24-44D7-939E-7F0417E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E0F-E056-4345-8040-7FC6F0B0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E62-EDC2-4A7B-A6E0-15D86E12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20A-CECC-4739-ABF3-CD09B21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AAC-F6B6-4DD5-A571-3B2BF81E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2BE-2C57-49C0-897D-087D8817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954F-67A7-4854-B755-2965D166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lou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Comic Sans MS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19816.jpg"/>
          <p:cNvPicPr/>
          <p:nvPr/>
        </p:nvPicPr>
        <p:blipFill>
          <a:blip r:embed="rId1"/>
          <a:stretch/>
        </p:blipFill>
        <p:spPr>
          <a:xfrm>
            <a:off x="1676520" y="36576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67160" y="228600"/>
            <a:ext cx="22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bl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of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mic Sans MS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africa_abroad.jpg"/>
          <p:cNvPicPr/>
          <p:nvPr/>
        </p:nvPicPr>
        <p:blipFill>
          <a:blip r:embed="rId2"/>
          <a:stretch/>
        </p:blipFill>
        <p:spPr>
          <a:xfrm>
            <a:off x="4645080" y="-6480"/>
            <a:ext cx="4297320" cy="4091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7242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V="1">
            <a:off x="5485320" y="2514240"/>
            <a:ext cx="754920" cy="8388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5867280" y="6248520"/>
            <a:ext cx="3124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build schema before reading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w exposure to stor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184400" y="152280"/>
            <a:ext cx="68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you will read a story called “On Saturday,” by Nina C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y is a nonfiction story.  Authors often use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information in nonfiction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is a little boy who meets people in his neighborhood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some activity.  As you read, be looking for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2590920"/>
          <a:ext cx="6096240" cy="3809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3"/>
          <p:cNvSpPr/>
          <p:nvPr/>
        </p:nvSpPr>
        <p:spPr>
          <a:xfrm>
            <a:off x="5547240" y="6427800"/>
            <a:ext cx="358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genre:  nonfiction; to answ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stions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IMG_1132"/>
          <p:cNvPicPr/>
          <p:nvPr/>
        </p:nvPicPr>
        <p:blipFill>
          <a:blip r:embed="rId1"/>
          <a:stretch/>
        </p:blipFill>
        <p:spPr>
          <a:xfrm>
            <a:off x="1905120" y="3772080"/>
            <a:ext cx="571500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On Satur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,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609480"/>
          <a:ext cx="6095880" cy="3810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5"/>
          <p:cNvSpPr/>
          <p:nvPr/>
        </p:nvSpPr>
        <p:spPr>
          <a:xfrm>
            <a:off x="2462760" y="15228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are ready to complete the ch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559160" y="4419720"/>
            <a:ext cx="62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can you tell about the people in Jack’s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helped you draw this conc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6324480" y="61722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nswer questions to improve comprehension; To use dra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clusions as a comprehension too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sser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omething, you said in a strong way what you belie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e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28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e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s belief to his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0" descr="d18_large"/>
          <p:cNvPicPr/>
          <p:nvPr/>
        </p:nvPicPr>
        <p:blipFill>
          <a:blip r:embed="rId1"/>
          <a:stretch/>
        </p:blipFill>
        <p:spPr>
          <a:xfrm>
            <a:off x="838080" y="1752480"/>
            <a:ext cx="323388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295280" y="838080"/>
            <a:ext cx="6705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On my signal turn and talk to your partner to discuss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You want to make your bedtime 10 minutes later.  How woul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rt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that this is a good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I think I should be able to stay up 10 minutes later because 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039000" y="304920"/>
            <a:ext cx="277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ffen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feel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hurt or upset by something someone did or said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ff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nasty sm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9" descr="smell-bad-holding-nose"/>
          <p:cNvPicPr/>
          <p:nvPr/>
        </p:nvPicPr>
        <p:blipFill>
          <a:blip r:embed="rId1"/>
          <a:stretch/>
        </p:blipFill>
        <p:spPr>
          <a:xfrm>
            <a:off x="304920" y="2133720"/>
            <a:ext cx="441000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11496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685800" y="8380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n one voice, answer this question with “yes” or “no: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f I gave you a reward for good behavior, would you feel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objects can you kick and ro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kick and roll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answered in an angry way to something someone else s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to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33520" y="594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o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nger when his friend accused him of playing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9" descr="14685319_rocked-IPL_6_500x375"/>
          <p:cNvPicPr/>
          <p:nvPr/>
        </p:nvPicPr>
        <p:blipFill>
          <a:blip r:embed="rId1"/>
          <a:stretch/>
        </p:blipFill>
        <p:spPr>
          <a:xfrm>
            <a:off x="53352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10065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turn and talk with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ner to discuss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 friend just said he is go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t you at your favorite ga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ould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635148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words with –er, -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152280" y="380880"/>
            <a:ext cx="8991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ladybug is sm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flea is sm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hill is t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mountain is t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Rain and snow are co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ice is the col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d a dinosaur by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s surely the old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788840" y="480060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escribing words.  Remember that –er compare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nd –est compares more than two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772400" y="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select  a topic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a descriptive po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62120" y="76212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Let’s use the ideas from 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to choose a topic for a descri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po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840240" y="3505320"/>
            <a:ext cx="74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Let’s also start a collectio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rhyming words that we could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MCj04124860000[1]"/>
          <p:cNvPicPr/>
          <p:nvPr/>
        </p:nvPicPr>
        <p:blipFill>
          <a:blip r:embed="rId1"/>
          <a:stretch/>
        </p:blipFill>
        <p:spPr>
          <a:xfrm>
            <a:off x="4952880" y="2131920"/>
            <a:ext cx="3587760" cy="3489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100200" y="5638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I am going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Comic Sans MS"/>
              </a:rPr>
              <a:t>home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 at 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h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Jane can play.  We can jump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r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e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rode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our bikes to the park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oday we can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omic Sans MS"/>
              </a:rPr>
              <a:t>close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is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There is Kate.  She is smelling a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Comic Sans MS"/>
              </a:rPr>
              <a:t>rose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d0d0d"/>
                </a:solidFill>
                <a:uFillTx/>
                <a:latin typeface="Comic Sans MS"/>
              </a:rPr>
              <a:t>Those</a:t>
            </a: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 two are my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73280" y="2743200"/>
            <a:ext cx="766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ese passages from “The Red and Blue Coat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y could both see clearly that the coat was blue on the left and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on the rig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 two friends stared for a moment and then screamed at h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rickster!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464080" y="46483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100_8995.JPG"/>
          <p:cNvPicPr/>
          <p:nvPr/>
        </p:nvPicPr>
        <p:blipFill>
          <a:blip r:embed="rId1"/>
          <a:stretch/>
        </p:blipFill>
        <p:spPr>
          <a:xfrm>
            <a:off x="457200" y="457200"/>
            <a:ext cx="4532400" cy="6043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5257800" y="685800"/>
            <a:ext cx="35053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46360" y="4800600"/>
            <a:ext cx="308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Is it a swimming pa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a birthday p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9-02-24T03:58:06Z</dcterms:modified>
  <cp:revision>187</cp:revision>
  <dc:subject/>
  <dc:title>Slide 1</dc:title>
</cp:coreProperties>
</file>