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2918-50D9-4F24-82C2-719F5E79F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2F70-F8DC-457E-A086-4AF5CF39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7A88-1459-4B91-8787-4093DB73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0A92-9736-46CB-9F21-AF30F40C9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1B88-CF79-49EF-8C48-1A6EC1FB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C7F8-42FB-4292-9BE7-F47E7CC7B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6566-AF43-44AA-92CD-2BB0859A0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4D6E-91C2-4B17-8162-8B83760B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25B4-934C-49B3-B64F-79753CF6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72D9-E824-4303-A070-9810E5B1C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A1FF-58EC-4819-89B8-0B2B1958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6F52-3C72-4B70-A68B-A5F2D452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699B-D787-4404-8BCA-30EA8D22A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679C-759A-4B52-9B49-50465A71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9767-3B4F-472E-888F-47413511B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F9F3-05EA-480B-AF70-6DD2A29C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B391-C663-4382-9665-EE1A48EC1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77EF-1EED-42C0-A086-A937B3983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262B-E2DC-4351-A437-554ED2AB3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91D5-E9CE-4D5E-B0C3-07DF7C2E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CDCA-2DD2-4C93-A7A3-9538AD0C0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8F42-6380-4F89-A109-1B703345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C37E-F8F9-41F2-954F-C244191E2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E701-413C-46B4-8714-60EF404A0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2092-C6ED-43C5-9879-83B01C756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B68-5D57-43DA-9969-F66824D6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4E4-136B-44A1-B5C8-E2DF623C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0CA-711D-42D0-A60F-D43E86B7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732-2B69-41BC-88D8-D51DD26C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1AB-2238-430A-8D1D-0A4D8BD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43D-7722-4771-8150-AD9D4E3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3C3-B9ED-4314-99F5-5B85B2F0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2E9-9990-4FA3-BB28-5E7184E5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396-354D-4F47-BFAA-8709FA13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C70-FF81-474B-B503-2BDACB9E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5087-C817-44AF-A4CA-9255211C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5EC-4EFE-4BAC-94D1-637FCF90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C8B1-CFA2-46DF-B4D9-7E8075207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2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3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omic Sans MS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omic Sans MS"/>
              </a:rPr>
              <a:t>loud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Comic Sans MS"/>
              </a:rPr>
              <a:t>br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ull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19816.jpg"/>
          <p:cNvPicPr/>
          <p:nvPr/>
        </p:nvPicPr>
        <p:blipFill>
          <a:blip r:embed="rId1"/>
          <a:stretch/>
        </p:blipFill>
        <p:spPr>
          <a:xfrm>
            <a:off x="1676520" y="36576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767160" y="228600"/>
            <a:ext cx="221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bl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of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mic Sans MS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africa_abroad.jpg"/>
          <p:cNvPicPr/>
          <p:nvPr/>
        </p:nvPicPr>
        <p:blipFill>
          <a:blip r:embed="rId2"/>
          <a:stretch/>
        </p:blipFill>
        <p:spPr>
          <a:xfrm>
            <a:off x="4645080" y="-6480"/>
            <a:ext cx="4297320" cy="4091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4724280" y="3200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V="1">
            <a:off x="5485320" y="2514240"/>
            <a:ext cx="754920" cy="8388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7"/>
          <p:cNvSpPr/>
          <p:nvPr/>
        </p:nvSpPr>
        <p:spPr>
          <a:xfrm>
            <a:off x="5867280" y="6248520"/>
            <a:ext cx="3124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build schema before reading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low exposure to story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184400" y="152280"/>
            <a:ext cx="68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you will read a story called “On Saturday,” by Nina Cr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ry is a nonfiction story.  Authors often use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ive information in nonfiction s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is a little boy who meets people in his neighborhood and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s in some activity.  As you read, be looking for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lete this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2590920"/>
          <a:ext cx="6096240" cy="38098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Jack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Jack 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3"/>
          <p:cNvSpPr/>
          <p:nvPr/>
        </p:nvSpPr>
        <p:spPr>
          <a:xfrm>
            <a:off x="5547240" y="6427800"/>
            <a:ext cx="3589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genre:  nonfiction; to answ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stions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7" descr="IMG_1132"/>
          <p:cNvPicPr/>
          <p:nvPr/>
        </p:nvPicPr>
        <p:blipFill>
          <a:blip r:embed="rId1"/>
          <a:stretch/>
        </p:blipFill>
        <p:spPr>
          <a:xfrm>
            <a:off x="1905120" y="3772080"/>
            <a:ext cx="5715000" cy="308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922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On Saturda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,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4d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4d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00200" y="609480"/>
          <a:ext cx="6095880" cy="3810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Jack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Jack 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5"/>
          <p:cNvSpPr/>
          <p:nvPr/>
        </p:nvSpPr>
        <p:spPr>
          <a:xfrm>
            <a:off x="2462760" y="152280"/>
            <a:ext cx="42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are ready to complete the cha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559160" y="4419720"/>
            <a:ext cx="62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030a0"/>
                </a:solidFill>
                <a:uFillTx/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hat can you tell about the people in Jack’s neighborh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hat helped you draw this conclu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6324480" y="6172200"/>
            <a:ext cx="2819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answer questions to improve comprehension; To use dra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clusions as a comprehension too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e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o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2520" y="1599840"/>
            <a:ext cx="3886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ssert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something, you said in a strong way what you belie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ser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2286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er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s belief to his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0" descr="d18_large"/>
          <p:cNvPicPr/>
          <p:nvPr/>
        </p:nvPicPr>
        <p:blipFill>
          <a:blip r:embed="rId1"/>
          <a:stretch/>
        </p:blipFill>
        <p:spPr>
          <a:xfrm>
            <a:off x="838080" y="1752480"/>
            <a:ext cx="3233880" cy="403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295280" y="838080"/>
            <a:ext cx="6705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On my signal turn and talk to your partner to discuss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You want to make your bedtime 10 minutes later.  How would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sert</a:t>
            </a: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 that this is a good i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I think I should be able to stay up 10 minutes later because 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039000" y="304920"/>
            <a:ext cx="277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review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rough discussing ide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ffend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feel </a:t>
            </a: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offend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you feel hurt or upset by something someone did or said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0" y="6095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ff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nasty sm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9" descr="smell-bad-holding-nose"/>
          <p:cNvPicPr/>
          <p:nvPr/>
        </p:nvPicPr>
        <p:blipFill>
          <a:blip r:embed="rId1"/>
          <a:stretch/>
        </p:blipFill>
        <p:spPr>
          <a:xfrm>
            <a:off x="304920" y="2133720"/>
            <a:ext cx="441000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114960" y="152280"/>
            <a:ext cx="2773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review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rough discussing ide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685800" y="838080"/>
            <a:ext cx="7924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n one voice, answer this question with “yes” or “no: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f I gave you a reward for good behavior, would you feel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ffended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objects can you kick and ro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an kick and roll a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retort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answered in an angry way to something someone else s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tor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533520" y="5943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tor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nger when his friend accused him of playing g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9" descr="14685319_rocked-IPL_6_500x375"/>
          <p:cNvPicPr/>
          <p:nvPr/>
        </p:nvPicPr>
        <p:blipFill>
          <a:blip r:embed="rId1"/>
          <a:stretch/>
        </p:blipFill>
        <p:spPr>
          <a:xfrm>
            <a:off x="533520" y="2286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10065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my signal, turn and talk with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ner to discuss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r friend just said he is go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at you at your favorite ga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ould you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retor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6351480" y="152280"/>
            <a:ext cx="2773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review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rough discussing ide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are things using words with –er, -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152280" y="380880"/>
            <a:ext cx="8991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 ladybug is sm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But a flea is sm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 hill is t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But a mountain is t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Rain and snow are co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But ice is the cold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nd a dinosaur by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is surely the old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1788840" y="4800600"/>
            <a:ext cx="64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describing words.  Remember that –er compares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nd –est compares more than two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descriptive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des"/>
          <p:cNvPicPr/>
          <p:nvPr/>
        </p:nvPicPr>
        <p:blipFill>
          <a:blip r:embed="rId1"/>
          <a:stretch/>
        </p:blipFill>
        <p:spPr>
          <a:xfrm>
            <a:off x="228600" y="1308240"/>
            <a:ext cx="8915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7772400" y="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select  a topic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a descriptive po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62120" y="762120"/>
            <a:ext cx="8076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Let’s use the ideas from yeste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to choose a topic for a descrip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po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840240" y="3505320"/>
            <a:ext cx="745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Let’s also start a collection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rhyming words that we could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Guess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MPj04064900000[1]"/>
          <p:cNvPicPr/>
          <p:nvPr/>
        </p:nvPicPr>
        <p:blipFill>
          <a:blip r:embed="rId1"/>
          <a:stretch/>
        </p:blipFill>
        <p:spPr>
          <a:xfrm>
            <a:off x="1828800" y="1752480"/>
            <a:ext cx="5861160" cy="4395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755100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ght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MCj04124860000[1]"/>
          <p:cNvPicPr/>
          <p:nvPr/>
        </p:nvPicPr>
        <p:blipFill>
          <a:blip r:embed="rId1"/>
          <a:stretch/>
        </p:blipFill>
        <p:spPr>
          <a:xfrm>
            <a:off x="4952880" y="2131920"/>
            <a:ext cx="3587760" cy="3489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6100200" y="5638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:  T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0532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352680" y="12193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9880" y="182880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505320" y="18288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419720" y="12193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276720" y="251460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26708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038480" y="25146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449568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3505320" y="3124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3886200" y="3124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4267080" y="31240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3505320" y="3733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4114800" y="37339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4572000" y="3733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4"/>
          <p:cNvSpPr/>
          <p:nvPr/>
        </p:nvSpPr>
        <p:spPr>
          <a:xfrm>
            <a:off x="4572000" y="1905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I am going 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Comic Sans MS"/>
              </a:rPr>
              <a:t>home</a:t>
            </a: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 at n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hop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Jane can play.  We can jump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rop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We </a:t>
            </a:r>
            <a:r>
              <a:rPr b="0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rode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our bikes to the park on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Today we can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Comic Sans MS"/>
              </a:rPr>
              <a:t>close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 this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There is Kate.  She is smelling a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Comic Sans MS"/>
              </a:rPr>
              <a:t>rose</a:t>
            </a: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d0d0d"/>
                </a:solidFill>
                <a:uFillTx/>
                <a:latin typeface="Comic Sans MS"/>
              </a:rPr>
              <a:t>Those</a:t>
            </a: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 two are my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Draw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Sometimes an author won’t give every detail in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n author can use clues in the story to help the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draw conclusions and fill in missing piec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773280" y="2743200"/>
            <a:ext cx="766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Remember these passages from “The Red and Blue Coat: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They could both see clearly that the coat was blue on the left and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on the righ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The two friends stared for a moment and then screamed at h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Trickster!’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464080" y="464832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hink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375240" y="0"/>
            <a:ext cx="2757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3" descr="100_8995.JPG"/>
          <p:cNvPicPr/>
          <p:nvPr/>
        </p:nvPicPr>
        <p:blipFill>
          <a:blip r:embed="rId1"/>
          <a:stretch/>
        </p:blipFill>
        <p:spPr>
          <a:xfrm>
            <a:off x="457200" y="457200"/>
            <a:ext cx="4532400" cy="6043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5257800" y="685800"/>
            <a:ext cx="35053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Look at the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What  conclusions can you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What clues helpe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346360" y="4800600"/>
            <a:ext cx="308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  <a:ea typeface="Courier New"/>
              </a:rPr>
              <a:t>Is it a swimming par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  <a:ea typeface="Courier New"/>
              </a:rPr>
              <a:t>or a birthday par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  <a:ea typeface="Courier New"/>
              </a:rPr>
              <a:t>or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6183000" y="228600"/>
            <a:ext cx="275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9-02-24T03:58:06Z</dcterms:modified>
  <cp:revision>187</cp:revision>
  <dc:subject/>
  <dc:title>Slide 1</dc:title>
</cp:coreProperties>
</file>