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997-74A7-4799-BB0E-2E62B109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02A-7E1B-40F2-8777-979C1488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879-6614-46A2-BD3C-184FB094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3C6-1351-47C0-879D-40B67E0E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29E-E11B-4C75-8123-DB8BF930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FDF-D879-478A-B3DA-458E23F0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061-3B90-4C6E-A07B-E18446C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C61-CA3F-42C6-8657-71A9B373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E08-92B5-4509-B35F-322656D6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3B0-71E3-4F50-A21A-C05A9F6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FA5-0156-4D48-ACE5-8232B82A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6B8-B8E8-4B9C-ACDC-8715044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82A-4DDB-4FA2-96CE-EA21556B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ebruary 25</a:t>
            </a:r>
            <a:r>
              <a:rPr b="1" lang="en-US" sz="5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3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n Saturday” (Page 1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d with a partner the second page from “On Saturday” (Page 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ency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8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fluency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191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You can use information in a selectio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your own personal experiences to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conclusio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aturday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Use equity sti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at season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re the neighbors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Does the author and photographer, Nina Crews, like her neighborh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492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raw conclusions as a strategy for monitoring comprehe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The River Ci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flamingo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737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n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ngenial person is very nice and frien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eni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ighbors are friendly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e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genial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143000"/>
            <a:ext cx="87631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n one voice, answer this question with “yes” or “no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uld you be congenial to your friends if you shared your toys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uld you be congenial to your friends if you told them that you didn’t want to talk to the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show your partner how a congenial person would act if someone accidentally bumped into him or her.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reg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people congregate at a place, they gather there and spend time there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re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farmer’s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gregate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8952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914400"/>
            <a:ext cx="84582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n one voice, answer with “yes” or “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Do you and your friends congregate on the play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Do you and your friends congregate at the doctor’s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places where children like to congreg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9933"/>
                </a:solidFill>
                <a:latin typeface="Arial"/>
              </a:rPr>
              <a:t>Children like to congregate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happy and smiling, people say you are chee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eer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rmer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er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he says, “See you next Saturday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armer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989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90720"/>
            <a:ext cx="87631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n one voice, answer with “yes” or “no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cheerful if you laughed a l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cheerful if you frowned all of th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to your partner and show what a cheerful face looks li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Now turn to your partner and show what a grumpy face looks li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kinds of sports do you like to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play 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are things using –er and –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762120"/>
            <a:ext cx="761976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ega T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ga Truck is a very good truck.  It is fast__ than a Peep Truck.  It rides smooth__ than a Peep Truck, too. the mega Truck is the big___ truck of all! buy on today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–er,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724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ct th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uess Wh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words did the poet use to describe the soccer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phrases helped you form a picture in your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35268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ntinue working on your poem from yesterday. Draw a picture to go with your po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Make sure your poem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Words that r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ing words with –er and -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Guess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MPj04064900000[1]"/>
          <p:cNvPicPr/>
          <p:nvPr/>
        </p:nvPicPr>
        <p:blipFill>
          <a:blip r:embed="rId1"/>
          <a:stretch/>
        </p:blipFill>
        <p:spPr>
          <a:xfrm>
            <a:off x="1828800" y="1752480"/>
            <a:ext cx="5861160" cy="439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755100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Phoneme Addi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9907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190512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905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905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8954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895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733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572000"/>
            <a:ext cx="85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54100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o/ o-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85800"/>
            <a:ext cx="71625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ok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up at six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went to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Stone Co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un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shon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ll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dug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sa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n mom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o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u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told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jok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ca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p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we go back again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h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r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oud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u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2-25T03:16:25Z</dcterms:modified>
  <cp:revision>147</cp:revision>
  <dc:subject/>
  <dc:title>Slide 1</dc:title>
</cp:coreProperties>
</file>