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2817-A9E6-4B53-AB98-FEF318AC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7661-B75F-428B-A56F-AEBFFC34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02FB-7C22-438F-9EAC-394D5328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9D3F-C4DC-4922-ABAA-C9DC3B03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C1BA-BFFF-4D0B-A64A-B5F1695D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0FF6-037F-4FDF-A2E7-B8F85A04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40C7-FC46-417C-9FCE-A0AFFDA9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DD24-DD99-44BE-97C7-D48FADE8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CFC5-BA03-4A81-A59F-CE35FE21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25FB-2D3D-47D4-9CD0-D7B82DE8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6751-7D5B-4475-8244-833DF69A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19AF-7E21-4076-A1B4-A2061129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F3D2-A1B4-401F-8119-111E3CD1F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bruary 17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2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09680" y="990720"/>
            <a:ext cx="5943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February 25</a:t>
            </a:r>
            <a:r>
              <a:rPr b="1" lang="en-US" sz="5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Lesson 23, Day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On Saturday” (Page 19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ad with a partner the second page from “On Saturday” (Page 2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uency-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unc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162920" y="2286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with fluency in a manner that sounds like natural spe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38280" y="3352680"/>
            <a:ext cx="419112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ff"/>
                </a:solidFill>
                <a:latin typeface="Arial"/>
              </a:rPr>
              <a:t>You can use information in a selection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ff"/>
                </a:solidFill>
                <a:latin typeface="Arial"/>
              </a:rPr>
              <a:t>your own personal experiences to dr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ff"/>
                </a:solidFill>
                <a:latin typeface="Arial"/>
              </a:rPr>
              <a:t>conclusions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aturday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(Use equity stic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at season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How can you t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Are the neighbors friend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How can you tel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Does the author and photographer, Nina Crews, like her neighborho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How can you tel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28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Draw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0492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raw conclusions as a strategy for monitoring comprehen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62520" y="1143000"/>
            <a:ext cx="49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“The River City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en to teacher read aloud and answer questions for compreh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flamingo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407376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en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reg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erf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257800" y="1523520"/>
            <a:ext cx="3733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congenial person is very nice and friendl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ngenia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ighbors are friendly an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gen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congenial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4876920" cy="2738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280" y="1143000"/>
            <a:ext cx="876312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In one voice, answer this question with “yes” or “no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Would you be congenial to your friends if you shared your toys with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Would you be congenial to your friends if you told them that you didn’t want to talk to the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Turn and show your partner how a congenial person would act if someone accidentally bumped into him or her.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ngregat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When people congregate at a place, they gather there and spend time there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56386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greg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the farmer’s mar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congregate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4889520" cy="3899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914400"/>
            <a:ext cx="845820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99"/>
                </a:solidFill>
                <a:latin typeface="Arial"/>
              </a:rPr>
              <a:t>In one voice, answer with “yes” or “no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Do you and your friends congregate on the playgr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Do you and your friends congregate at the doctor’s off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Turn and talk with your partner about places where children like to congreg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9933"/>
                </a:solidFill>
                <a:latin typeface="Arial"/>
              </a:rPr>
              <a:t>Children like to congregate 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you are happy and smiling, people say you are cheerfu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heerfu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6019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armer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eerf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n he says, “See you next Saturday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farmer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298944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990720"/>
            <a:ext cx="876312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00"/>
                </a:solidFill>
                <a:latin typeface="Arial"/>
              </a:rPr>
              <a:t>In one voice, answer with “yes” or “no”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Would you be cheerful if you laughed a lo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Would you be cheerful if you frowned all of the tim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66"/>
                </a:solidFill>
                <a:latin typeface="Arial"/>
              </a:rPr>
              <a:t>Turn to your partner and show what a cheerful face looks lik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66"/>
                </a:solidFill>
                <a:latin typeface="Arial"/>
              </a:rPr>
              <a:t>Now turn to your partner and show what a grumpy face looks lik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kinds of sports do you like to pl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to play 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are things using –er and –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762120"/>
            <a:ext cx="7619760" cy="34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Mega Tr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ga Truck is a very good truck.  It is fast__ than a Peep Truck.  It rides smooth__ than a Peep Truck, too. the mega Truck is the big___ truck of all! buy on today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- Using –er, -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472428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rrect the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7"/>
          <p:cNvSpPr/>
          <p:nvPr/>
        </p:nvSpPr>
        <p:spPr>
          <a:xfrm>
            <a:off x="8001000" y="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 topics for a descriptive p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8" descr="des"/>
          <p:cNvPicPr/>
          <p:nvPr/>
        </p:nvPicPr>
        <p:blipFill>
          <a:blip r:embed="rId1"/>
          <a:stretch/>
        </p:blipFill>
        <p:spPr>
          <a:xfrm>
            <a:off x="228600" y="1308240"/>
            <a:ext cx="89154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ve P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295280"/>
            <a:ext cx="8229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Guess Wha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What words did the poet use to describe the soccer b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What phrases helped you form a picture in your mi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352680"/>
            <a:ext cx="84582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ontinue working on your poem from yesterday. Draw a picture to go with your po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Make sure your poem h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Describing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Words that rh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Describing words with –er and -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7086600" y="0"/>
            <a:ext cx="205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209680" y="22860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Guess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9" descr="MPj04064900000[1]"/>
          <p:cNvPicPr/>
          <p:nvPr/>
        </p:nvPicPr>
        <p:blipFill>
          <a:blip r:embed="rId1"/>
          <a:stretch/>
        </p:blipFill>
        <p:spPr>
          <a:xfrm>
            <a:off x="1828800" y="1752480"/>
            <a:ext cx="5861160" cy="439596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7551000" y="9144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RP: 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l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ar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blend phonemes to say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66ff"/>
                </a:solidFill>
                <a:uFillTx/>
                <a:latin typeface="Arial"/>
              </a:rPr>
              <a:t>Phonemic Awar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Phoneme Additio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i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990720"/>
            <a:ext cx="70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990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9907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1905120"/>
            <a:ext cx="54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1905120"/>
            <a:ext cx="22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19051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2895480"/>
            <a:ext cx="70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2895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8954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37339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373392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37339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4572000"/>
            <a:ext cx="85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4572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45720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5410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541008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54100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common vowel spelling patterns to read wo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Long vowel /o/ o-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685800"/>
            <a:ext cx="71625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wok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up at six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 went to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Stone Cov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sun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shon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all da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 dug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hole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n the san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n mom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drov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us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hom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 told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joke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n the ca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hop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we go back again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read the word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22860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common vowel spelling patterns to read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1219320"/>
            <a:ext cx="3429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h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th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1371600"/>
            <a:ext cx="3276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7. l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8. n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9. r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10. wa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brow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c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hel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loudly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lo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pull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67480" y="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-frequency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igh-Frequency Word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Federated Group</cp:lastModifiedBy>
  <dcterms:modified xsi:type="dcterms:W3CDTF">2009-02-25T03:16:25Z</dcterms:modified>
  <cp:revision>147</cp:revision>
  <dc:subject/>
  <dc:title>Slide 1</dc:title>
</cp:coreProperties>
</file>