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6988-9785-4BFE-A697-05A9A956D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669C-1300-4275-9337-B14E3EAC3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9BCE-966F-45AE-BE0C-88FC495B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53F-9379-4C2F-B1B5-297D99CE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C1F9-735A-4260-9B43-6D1D4A3B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CEF-554E-42AE-8E50-36B9FF68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0BC6-2C8C-4E51-8C23-E278246E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F92-F4E9-4544-B204-7835870E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8BC4-6518-4497-BFEE-1FBF4D13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9EA-6D23-42FE-9B67-CC471832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522-6282-490E-8C7F-ECB7A396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B57F-CC83-4658-842B-02412820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F86E-0E5F-4F95-B66B-78A16557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7F85-09DC-4F02-B730-E9937C49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F27D-0526-4DBE-8C5B-DE1DA0BBA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380880"/>
            <a:ext cx="8381880" cy="617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urs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ebruary 26, 2009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23 Day 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05320" y="1219320"/>
            <a:ext cx="838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o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352680" y="1219320"/>
            <a:ext cx="2819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09880" y="1828800"/>
            <a:ext cx="2210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505320" y="182880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419720" y="121932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3276720" y="2514600"/>
            <a:ext cx="1218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4267080" y="18288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4038480" y="251460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4495680" y="25146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2"/>
          <p:cNvSpPr/>
          <p:nvPr/>
        </p:nvSpPr>
        <p:spPr>
          <a:xfrm>
            <a:off x="3505320" y="3124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3"/>
          <p:cNvSpPr/>
          <p:nvPr/>
        </p:nvSpPr>
        <p:spPr>
          <a:xfrm>
            <a:off x="3886200" y="312408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4"/>
          <p:cNvSpPr/>
          <p:nvPr/>
        </p:nvSpPr>
        <p:spPr>
          <a:xfrm>
            <a:off x="4267080" y="312408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5"/>
          <p:cNvSpPr/>
          <p:nvPr/>
        </p:nvSpPr>
        <p:spPr>
          <a:xfrm>
            <a:off x="3505320" y="37339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7"/>
          <p:cNvSpPr/>
          <p:nvPr/>
        </p:nvSpPr>
        <p:spPr>
          <a:xfrm>
            <a:off x="4114800" y="373392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8"/>
          <p:cNvSpPr/>
          <p:nvPr/>
        </p:nvSpPr>
        <p:spPr>
          <a:xfrm>
            <a:off x="4572000" y="3733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4"/>
          <p:cNvSpPr/>
          <p:nvPr/>
        </p:nvSpPr>
        <p:spPr>
          <a:xfrm>
            <a:off x="4572000" y="19051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i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990720"/>
            <a:ext cx="70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990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990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1905120"/>
            <a:ext cx="54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190512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19051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2895480"/>
            <a:ext cx="70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2895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28954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37339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73392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37339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572000"/>
            <a:ext cx="85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4572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45720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5410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541008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54100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33520" y="30492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990720"/>
            <a:ext cx="83059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4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1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80880" y="609480"/>
            <a:ext cx="8458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igh Frequency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522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447920"/>
            <a:ext cx="83822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r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e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oud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ul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6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3049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draw conclusions about characters and events in a s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720" y="1143000"/>
            <a:ext cx="723888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awing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clus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9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t’s remember that the author does not always list every detail of a story.  He leaves some questions unanswered so we can draw conclusions of our own.  Let’s revisit the story “Bear Wants Mor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t’s draw conclusions about the answers to thes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How do you know that Bear and Mouse are frie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What makes you think that Bear’s friends did not get enough to 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77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77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1" dur="77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en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e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erf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congenial person is very nice and friendl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ngenia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5105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ighbors are friendly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gen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4876920" cy="2738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78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If I say something that you think a congenial person would say then I want you to say “You are so congenial!”  If not say nothing at 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ou are such a big help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 do not like anyone 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 am so glad I got to meet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ke the best piece of cake.  I’ll have the other pie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ngregat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n people congregate at a place, they gather there and spend time there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56386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greg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the farmer’s mar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889520" cy="3899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80880" y="533520"/>
            <a:ext cx="807732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estion of the D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listen attentively and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73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I want you to say “People congregate there” if I say a place that is a good place for people to gather.  If not say nothing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a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lay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ed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9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you are happy and smiling, people say you are cheerfu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heerfu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019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armer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eerf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he says, “See you next Saturday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298944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I want you to say “I feel cheerful” if I say something that would make you happy. If not say nothing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oday is your birth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 have a lot of work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 are going on a field t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 broke your favorite t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 have brand new sh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 get to go to the f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5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5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9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8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96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describe animals using words that end in –er and -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380880"/>
            <a:ext cx="868680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t’s see if we can find what is wrong with the following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rabbit’s ears are the biggest than a dog’s ea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 one voice tell me the word that needs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 chan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seal is small than an eleph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 one voice tell me the word that needs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 chan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giraffe is the taller of all the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 one voice tell me the word that needs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 chan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4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7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 topics for a descriptive p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8" descr="des"/>
          <p:cNvPicPr/>
          <p:nvPr/>
        </p:nvPicPr>
        <p:blipFill>
          <a:blip r:embed="rId1"/>
          <a:stretch/>
        </p:blipFill>
        <p:spPr>
          <a:xfrm>
            <a:off x="228600" y="1308240"/>
            <a:ext cx="89154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533520"/>
            <a:ext cx="80010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Arial"/>
              </a:rPr>
              <a:t>Green tree, green tre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Arial"/>
              </a:rPr>
              <a:t>Stretching high above 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Arial"/>
              </a:rPr>
              <a:t>Like a tower very t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Arial"/>
              </a:rPr>
              <a:t>Your leaves flutte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Arial"/>
              </a:rPr>
              <a:t>As they fa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4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4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4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4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Who are some people who live on your stree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99"/>
                </a:solidFill>
                <a:latin typeface="Arial"/>
              </a:rPr>
              <a:t>On my signal, turn and talk with your partner to complete this 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_______ and _____ live on my stre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2286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Objective: To appreciate the rhythm and rhyme of a po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838080"/>
            <a:ext cx="8001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day we are going to read a poem called “All the People on our Street.”  I want you to listen to see if this poem is anything like the story we read yesterday, “On Saturday.”  As we read the poem I want you to see if you can pick out any words that are rhyming wor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0"/>
            <a:ext cx="8001000" cy="65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ll the People on our Str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ll the people on our str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re the people that I like to me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 take a walk and say he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o all the people that I kn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8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80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914400"/>
            <a:ext cx="8686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362320"/>
            <a:ext cx="769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752480"/>
            <a:ext cx="69339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oud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pe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ul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jective: To add phonemes to make new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19320" y="838080"/>
            <a:ext cx="693396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honeme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ddit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304920"/>
            <a:ext cx="8458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Objective: To discriminate between words with different spelling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To use common letter patterns to build and rea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143000"/>
            <a:ext cx="8686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et’s add –ose and –oke to some words to make new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2514600"/>
          <a:ext cx="6096240" cy="41068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l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-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r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p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sp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w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sm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28600"/>
            <a:ext cx="8077320" cy="73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Look at that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ose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Put your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se close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 to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It smells g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Look at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ose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 thorns o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Don’t let them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oke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ose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 thi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ose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roke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 it off to take h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9:09:14Z</dcterms:created>
  <dc:creator>Valued Gateway Client</dc:creator>
  <dc:description/>
  <dc:language>en-US</dc:language>
  <cp:lastModifiedBy> </cp:lastModifiedBy>
  <dcterms:modified xsi:type="dcterms:W3CDTF">2009-02-26T04:19:14Z</dcterms:modified>
  <cp:revision>4</cp:revision>
  <dc:subject/>
  <dc:title>Slide 1</dc:title>
</cp:coreProperties>
</file>