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2F8-B580-4CBE-BF5F-F91714F4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E172-113D-4FD1-91D0-8F627CA6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4C4-438C-4FCE-BF40-3244D024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E2B-21EE-4B17-A627-FC371EF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997-4F30-428A-BF8F-E625CFF8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AA1-D252-40C3-BE7D-98D67BCA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A04-ABCF-4845-9C8F-396249C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351-22EE-419C-9245-951F936B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617-D1A4-45B0-AFEB-E6463C5D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F28-F034-4D7F-8333-41611096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68B-CA96-458F-BD52-DEA10E6A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7AB-1BED-4F39-9D9A-06E993D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2AE-293D-427C-B93F-E7B22F49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519-7B82-4E2A-B42B-98DB2C38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CE05-BFB4-4E2A-B6A5-618736DF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880"/>
            <a:ext cx="83818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bruary 26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3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0532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12193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76720" y="25146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26708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038480" y="2514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49568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3505320" y="3124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388620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267080" y="3124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05320" y="3733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114800" y="37339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45720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4572000" y="1905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9907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90512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1905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905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8954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895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733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572000"/>
            <a:ext cx="85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4100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304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8305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60948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7920"/>
            <a:ext cx="8382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u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draw conclusions about characters and events in a 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143000"/>
            <a:ext cx="7238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aw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lus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9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remember that the author does not always list every detail of a story.  He leaves some questions unanswered so we can draw conclusions of our own.  Let’s revisit the story “Bear Wants Mo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’s draw conclusions about the answers to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How do you know that Bear and Mouse are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What makes you think that Bear’s friends did not get enough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n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ngenial person is very nice and frien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eni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05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ighbors are friendly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e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If I say something that you think a congenial person would say then I want you to say “You are so congenial!”  If not say nothing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ou are such a big 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do not like anyone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so glad I got to meet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ke the best piece of cake.  I’ll have the other pie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reg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people congregate at a place, they gather there and spend time there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re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farmer’s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8952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533520"/>
            <a:ext cx="80773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I want you to say “People congregate there” if I say a place that is a good place for people to gather.  If not say nothing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happy and smiling, people say you are chee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eer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rmer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er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he says, “See you next Saturday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989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I want you to say “I feel cheerful” if I say something that would make you happy. If not say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day is your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have a lot of work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are going on a field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broke your favorit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have brand new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get to go to the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describe animals using words that end in –er and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80880"/>
            <a:ext cx="86868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’s see if we can find what is wrong with the following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rabbit’s ears are the biggest than a dog’s e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seal is small than an elep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giraffe is the taller of all th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001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Green tree, green t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Stretching high above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Like a tower very 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Your leaves flut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As they f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Who are some people who live on your stre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On my signal, turn and talk with your partner to complete this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_______ and _____ live on my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Objective: To appreciate the rhythm and rhyme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83808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day we are going to read a poem called “All the People on our Street.”  I want you to listen to see if this poem is anything like the story we read yesterday, “On Saturday.”  As we read the poem I want you to see if you can pick out any words that are rhyming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001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ll the People on our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ll the people on our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e the people that I like to m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 take a walk and say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 all the people that I k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914400"/>
            <a:ext cx="868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3623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69339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838080"/>
            <a:ext cx="6933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onem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ddi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Objective: To discriminate between words with different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To use common letter patterns to build and rea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14300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t’s add –ose and –oke to some words to make new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2514600"/>
          <a:ext cx="6096240" cy="4106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-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r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p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p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w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m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28600"/>
            <a:ext cx="807732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Look at tha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Put you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se cl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o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t smells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Look a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orns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Don’t let them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k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k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it off to take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09:14Z</dcterms:created>
  <dc:creator>Valued Gateway Client</dc:creator>
  <dc:description/>
  <dc:language>en-US</dc:language>
  <cp:lastModifiedBy> </cp:lastModifiedBy>
  <dcterms:modified xsi:type="dcterms:W3CDTF">2009-02-26T04:19:14Z</dcterms:modified>
  <cp:revision>4</cp:revision>
  <dc:subject/>
  <dc:title>Slide 1</dc:title>
</cp:coreProperties>
</file>