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1AFAE-1FE4-46FD-AD49-85B9D26F0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9494B-D127-44C2-9571-76348F70E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41072-AF17-4883-8294-F477C811C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8D22D-B582-4FB7-A749-70CD505B7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621C8-104F-4E86-9D2F-5146FEB72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E6AAE-BB6C-4D92-8958-4FAAEE1E6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72042-2505-4DF1-904A-FF4872244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BE5C3-C174-46F6-8A33-14600D6FC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A2EA8-C3DD-461A-9900-192FFAD3E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F4574-2FFB-4A95-BA46-DABD995AD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5BF95-EBC2-497D-A954-D272DBC8D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1A566-1091-4286-9306-AA26F335B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65417-8929-402B-80CB-C710A796FF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8305560" cy="65689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2209680" y="380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ri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ebruary 27</a:t>
            </a:r>
            <a:r>
              <a:rPr b="0" lang="en-US" sz="36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esson 23, Day 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38088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000000"/>
                </a:solidFill>
                <a:uFillTx/>
                <a:latin typeface="Arial"/>
              </a:rPr>
              <a:t>Words to Know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620120" y="0"/>
            <a:ext cx="152388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read high-frequency words.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57200" y="1295280"/>
            <a:ext cx="198108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ook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row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l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ead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ell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362320" y="1295280"/>
            <a:ext cx="259056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udl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eo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ull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ar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952880" y="16765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648320" y="1219320"/>
            <a:ext cx="4114800" cy="524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What is the first letter in hea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Which other word begins with the same lett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Which words are plurals formed by adding 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Which word rhymes with sol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Which word begins with the same letter as wa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Problem/Solu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391520" y="0"/>
            <a:ext cx="1752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draw conclusio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228600" y="990720"/>
          <a:ext cx="8534520" cy="5562360"/>
        </p:xfrm>
        <a:graphic>
          <a:graphicData uri="http://schemas.openxmlformats.org/drawingml/2006/table">
            <a:tbl>
              <a:tblPr/>
              <a:tblGrid>
                <a:gridCol w="2185920"/>
                <a:gridCol w="3330720"/>
                <a:gridCol w="3017880"/>
              </a:tblGrid>
              <a:tr h="837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itl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onclusio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lues/What I Know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he Red and Blue Coa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n Saturda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5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ear Wants Mo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0" y="1066320"/>
            <a:ext cx="91440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a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ongeni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erson usually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heerfu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r mean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n one voice answer this question with a 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or no answ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7696080" y="0"/>
            <a:ext cx="14479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review robust vocabular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57200" y="304920"/>
            <a:ext cx="7238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 Rounded MT Bold"/>
              </a:rPr>
              <a:t>Robust Vocabula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762120" y="3048120"/>
            <a:ext cx="7772400" cy="32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0" y="1218960"/>
            <a:ext cx="5029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me a place where you woul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ongrega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ith your friends after school.  Where might yo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ongreg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a warm summer da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When I give you the signal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turn and talk with your partner using the stem below to answer this ques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would congregate at 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title"/>
          </p:nvPr>
        </p:nvSpPr>
        <p:spPr>
          <a:xfrm>
            <a:off x="7696080" y="0"/>
            <a:ext cx="14479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review robust vocabular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57200" y="304920"/>
            <a:ext cx="7238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 Rounded MT Bold"/>
              </a:rPr>
              <a:t>Robust Vocabula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5356080" y="1523880"/>
            <a:ext cx="36370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-360" y="1218960"/>
            <a:ext cx="53341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 just 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asserted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that vanilla ice cream tastes the best.  How would 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retor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nstantia"/>
              </a:rPr>
              <a:t>When I give you the signal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nstantia"/>
              </a:rPr>
              <a:t>turn and talk with your partner us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nstantia"/>
              </a:rPr>
              <a:t>the stem below to answer this ques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 would retort by saying _________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title"/>
          </p:nvPr>
        </p:nvSpPr>
        <p:spPr>
          <a:xfrm>
            <a:off x="7696080" y="0"/>
            <a:ext cx="14479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review robust vocabular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304920"/>
            <a:ext cx="7238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 Rounded MT Bold"/>
              </a:rPr>
              <a:t>Robust Vocabula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5537160" y="1219320"/>
            <a:ext cx="3203640" cy="529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crayon is smaller than the book.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stapler is bigger than the crayon.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book is the biggest of all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rainstorm a list of describing words…</a:t>
            </a: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009920" y="-360"/>
            <a:ext cx="2133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listen and respond appropriately to oral communication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6104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onstantia"/>
              </a:rPr>
              <a:t>Question of the Day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nstantia"/>
              </a:rPr>
              <a:t>If you could go anywhere on a Saturday, where would you go?  Tell wh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When I give you the signal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turn and talk with your partner using the stem belo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nstantia"/>
              </a:rPr>
              <a:t>I would go to ______ because 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086240" y="0"/>
            <a:ext cx="2057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Objective: To identify word pictures in a poe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52280" y="0"/>
            <a:ext cx="8991720" cy="406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000000"/>
                </a:solidFill>
                <a:uFillTx/>
                <a:latin typeface="Constantia"/>
              </a:rPr>
              <a:t>Read Aloud</a:t>
            </a:r>
            <a:r>
              <a:rPr b="1" lang="en-US" sz="4400" spc="-1" strike="noStrike">
                <a:solidFill>
                  <a:srgbClr val="000000"/>
                </a:solidFill>
                <a:latin typeface="Constantia"/>
              </a:rPr>
              <a:t>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nstantia"/>
              </a:rPr>
              <a:t> “</a:t>
            </a:r>
            <a:r>
              <a:rPr b="1" lang="en-US" sz="4400" spc="-1" strike="noStrike">
                <a:solidFill>
                  <a:srgbClr val="000000"/>
                </a:solidFill>
                <a:latin typeface="Constantia"/>
              </a:rPr>
              <a:t>All the People on Our Street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295280" y="2057400"/>
            <a:ext cx="6705720" cy="447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467120" y="-360"/>
            <a:ext cx="16765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 - To read high frequency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3520" y="228240"/>
            <a:ext cx="861048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Word Wall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r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el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ud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ul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nt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rou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f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n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1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" dur="1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" dur="10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" dur="10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" dur="10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" dur="100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7" dur="1000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" dur="1000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7" dur="1000"/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2" dur="1000"/>
                                        <p:tgtEl>
                                          <p:spTgt spid="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7" dur="1000"/>
                                        <p:tgtEl>
                                          <p:spTgt spid="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2" dur="1000"/>
                                        <p:tgtEl>
                                          <p:spTgt spid="4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7" dur="1000"/>
                                        <p:tgtEl>
                                          <p:spTgt spid="4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2" dur="1000"/>
                                        <p:tgtEl>
                                          <p:spTgt spid="4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7" dur="1000"/>
                                        <p:tgtEl>
                                          <p:spTgt spid="4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98" dur="20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"/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400" fill="hold"/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400" fill="hold"/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0" fill="hold"/>
                                        <p:tgtEl>
                                          <p:spTgt spid="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0" fill="hold"/>
                                        <p:tgtEl>
                                          <p:spTgt spid="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4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4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4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0" dur="80"/>
                                        <p:tgtEl>
                                          <p:spTgt spid="4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1" dur="80"/>
                                        <p:tgtEl>
                                          <p:spTgt spid="4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2" dur="80"/>
                                        <p:tgtEl>
                                          <p:spTgt spid="4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5" dur="500"/>
                                        <p:tgtEl>
                                          <p:spTgt spid="4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86240" y="152280"/>
            <a:ext cx="2057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Objective: To add phonemes to make new word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-360" y="0"/>
            <a:ext cx="4267080" cy="731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Phonemic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Awarenes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honem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ddi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191120" y="2286000"/>
            <a:ext cx="4952880" cy="33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Phonograms –one, -ole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620120" y="0"/>
            <a:ext cx="1676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Arial"/>
              </a:rPr>
              <a:t>Objective: To read words with phonograms –one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333399"/>
                </a:solidFill>
                <a:latin typeface="Arial"/>
              </a:rPr>
              <a:t>-o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276720" y="1219320"/>
            <a:ext cx="29718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-on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62520" y="2133720"/>
            <a:ext cx="3581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on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038480" y="3200400"/>
            <a:ext cx="327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on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4267080"/>
            <a:ext cx="327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zon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2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7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2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7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620120" y="0"/>
            <a:ext cx="16761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read words with phonograms –ail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-a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76720" y="1219320"/>
            <a:ext cx="29718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-ol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962520" y="2133720"/>
            <a:ext cx="3581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pol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038480" y="3200400"/>
            <a:ext cx="327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rol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962520" y="4267080"/>
            <a:ext cx="327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hol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610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onograms –one, -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4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9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4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9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304920" y="1219320"/>
          <a:ext cx="8458200" cy="5257800"/>
        </p:xfrm>
        <a:graphic>
          <a:graphicData uri="http://schemas.openxmlformats.org/drawingml/2006/table">
            <a:tbl>
              <a:tblPr/>
              <a:tblGrid>
                <a:gridCol w="4228920"/>
                <a:gridCol w="4229280"/>
              </a:tblGrid>
              <a:tr h="133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9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-one</a:t>
                      </a:r>
                      <a:endParaRPr b="0" lang="en-US" sz="4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9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-ole</a:t>
                      </a:r>
                      <a:endParaRPr b="0" lang="en-US" sz="4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3927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o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6" name=""/>
          <p:cNvSpPr/>
          <p:nvPr/>
        </p:nvSpPr>
        <p:spPr>
          <a:xfrm>
            <a:off x="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Phonograms –one, -ole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38088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Arial"/>
              </a:rPr>
              <a:t>It’s time to take our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Arial"/>
              </a:rPr>
              <a:t>spelling test!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467480" y="0"/>
            <a:ext cx="16765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spell spelling words and high frequency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990720" y="304920"/>
            <a:ext cx="67053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Spelling Words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3T01:35:05Z</dcterms:created>
  <dc:creator>Carey Dailey</dc:creator>
  <dc:description/>
  <dc:language>en-US</dc:language>
  <cp:lastModifiedBy> </cp:lastModifiedBy>
  <dcterms:modified xsi:type="dcterms:W3CDTF">2009-02-27T05:00:19Z</dcterms:modified>
  <cp:revision>135</cp:revision>
  <dc:subject/>
  <dc:title>Slide 1</dc:title>
</cp:coreProperties>
</file>