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257-C158-49B6-B2E7-2EDE7F28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116-363F-45BA-B7F7-0D1CAF5E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F61-DF24-4262-8F24-455C969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D06-A693-48B8-9EDC-2DC2B279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D78-542E-4725-9692-72BA30BB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7C5-F4F1-45E9-8277-83A2B68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492-FFE2-4623-9693-EC71647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C94-D614-4707-B159-9CEE40E8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39E-A392-482F-8A30-6596F05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E62-CFDA-460C-A50C-5B4C588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CDF-2182-4B18-AEF5-5F68276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3E0-6593-4CF8-8409-3DE4C7A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3E1C-DBEA-4833-8F99-F6F703949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219320"/>
            <a:ext cx="4114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the first letter in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ther word begins with the same l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plurals formed by adding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rhymes with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begins with the same letter as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raw conclu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534520" cy="5562360"/>
        </p:xfrm>
        <a:graphic>
          <a:graphicData uri="http://schemas.openxmlformats.org/drawingml/2006/table">
            <a:tbl>
              <a:tblPr/>
              <a:tblGrid>
                <a:gridCol w="2185920"/>
                <a:gridCol w="3330720"/>
                <a:gridCol w="301788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lu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ues/What 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ed and Blue Co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 Satu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er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e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772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place where you w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friends after school.  Where might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warm summer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congregate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jus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sser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vanilla ice cream tastes the best.  How woul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t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ould retort by saying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37160" y="1219320"/>
            <a:ext cx="3203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ayon is smaller than the book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pler is bigger than the crayon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ok is the biggest of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a list of describing words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go anywhere on a Saturday, where would you go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0"/>
            <a:ext cx="8991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ll the People on Our Stree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2670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95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o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219320"/>
          <a:ext cx="8458200" cy="5257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n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l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27T05:00:19Z</dcterms:modified>
  <cp:revision>135</cp:revision>
  <dc:subject/>
  <dc:title>Slide 1</dc:title>
</cp:coreProperties>
</file>