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2087-665B-4D24-8197-1B2E8336A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2CFF-98E1-4304-B015-78355CCFB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F2B8-AE24-4224-9D96-193ED8329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CB0B-F3C0-459F-85C8-87482D724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084F-E150-4DEB-B48A-3D5FB3FC2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B27B-4711-4611-B5B0-E1E2641AD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8D99-502E-4DE5-B2C8-0AE198761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0753-8A08-4FEF-96D9-06C635FEB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8B84-BDBD-4BA9-9242-061503827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F757-6856-4D13-8661-C37DF0094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5F4F-DCA3-42C1-8CF4-2C667ACA0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3015-CB41-4442-982C-1C5AA28AA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A32B-38D9-4C58-8E76-26A6EED76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2238-E9A4-498A-B32E-4C35E3837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240B-C711-4EA6-AA1F-AE2A65276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0976-2D89-4E78-B594-A7BAB0D85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FC6A-B664-4482-8C9E-5D3403403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A120-0325-440D-97BC-815883BDD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e, busy, eyes, high, listen, remembered, talk, visitor, old, same, tell, following, show, also,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E225-A316-474A-86EB-756057951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832A-A9B6-4F75-A0B2-589A6CC9D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0397-9AAB-48BA-B140-FC9F791E1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020B-5A85-4A3F-B9B0-6B6CA609D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1947-8446-4193-89B3-C091391B6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CA1C-345B-4C1E-84C8-A3E09C559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D95C-49AE-40F3-8604-BB5F3E88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CE4D-BFD5-4775-A9F6-08705A96A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1AC2-3BAA-4759-846F-7307E555C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B4E4-60D1-47B0-8D48-63356F3B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4D54-B5CF-4B52-B85E-25BA69B5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13F8-02D6-4742-AA27-832D7D62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1D52-64D7-43AA-96AD-1B3003AB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34D8-B8C1-4A52-967B-3FDB484D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9D24-6D93-4FAF-9981-D350D671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C49C-5631-4124-94D1-D3FC0CA0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134C-C463-414A-A69A-0A24A7CD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428E-1EED-44C2-8AD1-10579C00D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ch 3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24, Da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Content Placeholder 3" descr="100_8995.JPG"/>
          <p:cNvPicPr/>
          <p:nvPr/>
        </p:nvPicPr>
        <p:blipFill>
          <a:blip r:embed="rId1"/>
          <a:stretch/>
        </p:blipFill>
        <p:spPr>
          <a:xfrm>
            <a:off x="380880" y="228600"/>
            <a:ext cx="5851800" cy="38908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1295280" y="4038480"/>
            <a:ext cx="7391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Look at the pictur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What  conclusions can you ma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What clues helped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6183000" y="228600"/>
            <a:ext cx="2757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To use drawing conclusions 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tool to improve comprehens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28600" y="761760"/>
            <a:ext cx="40384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from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s to complete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t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419720" y="837720"/>
            <a:ext cx="4038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haroni"/>
                <a:ea typeface="Aharoni"/>
              </a:rPr>
              <a:t>A seed will __________ a flower one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haroni"/>
                <a:ea typeface="Aharoni"/>
              </a:rPr>
              <a:t>They are _____ getting ready for the par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haroni"/>
                <a:ea typeface="Aharoni"/>
              </a:rPr>
              <a:t>Her _____ are br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haroni"/>
                <a:ea typeface="Aharoni"/>
              </a:rPr>
              <a:t>A tall building reaches ______ in they s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haroni"/>
                <a:ea typeface="Aharoni"/>
              </a:rPr>
              <a:t>Please ________ carefully to what I s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haroni"/>
                <a:ea typeface="Aharoni"/>
              </a:rPr>
              <a:t>I ______________ to bring my home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haroni"/>
                <a:ea typeface="Aharoni"/>
              </a:rPr>
              <a:t>Do you like to _______ on the pho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haroni"/>
                <a:ea typeface="Aharoni"/>
              </a:rPr>
              <a:t>A _________ is coming to our cl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8"/>
          <p:cNvSpPr/>
          <p:nvPr/>
        </p:nvSpPr>
        <p:spPr>
          <a:xfrm>
            <a:off x="1488600" y="2209680"/>
            <a:ext cx="2372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be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Comic Sans MS"/>
              </a:rPr>
              <a:t>bu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Comic Sans MS"/>
              </a:rPr>
              <a:t>e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li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omic Sans MS"/>
              </a:rPr>
              <a:t>rememb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ta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is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9"/>
          <p:cNvSpPr/>
          <p:nvPr/>
        </p:nvSpPr>
        <p:spPr>
          <a:xfrm>
            <a:off x="6477120" y="0"/>
            <a:ext cx="26668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apply word knowledge 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the reading of a tex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ystery of the Night S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371600" y="1600200"/>
          <a:ext cx="6705720" cy="5008680"/>
        </p:xfrm>
        <a:graphic>
          <a:graphicData uri="http://schemas.openxmlformats.org/drawingml/2006/table">
            <a:tbl>
              <a:tblPr/>
              <a:tblGrid>
                <a:gridCol w="2019240"/>
                <a:gridCol w="46864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I Thi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e 1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3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e 2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15" name="TextBox 5"/>
          <p:cNvSpPr/>
          <p:nvPr/>
        </p:nvSpPr>
        <p:spPr>
          <a:xfrm>
            <a:off x="2085480" y="304920"/>
            <a:ext cx="56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return to this screen after stations to 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h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4788720" y="6595920"/>
            <a:ext cx="4199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make inferences as a strategy for comprehens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181120" y="914400"/>
            <a:ext cx="35816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Read “Mystery of the Night Song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alled go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first rot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0" descr="C:\Users\Janice\AppData\Local\Microsoft\Windows\Temporary Internet Files\Content.IE5\AETH7CGB\MPj04387000000[1].jpg"/>
          <p:cNvPicPr/>
          <p:nvPr/>
        </p:nvPicPr>
        <p:blipFill>
          <a:blip r:embed="rId1"/>
          <a:stretch/>
        </p:blipFill>
        <p:spPr>
          <a:xfrm>
            <a:off x="457200" y="1523880"/>
            <a:ext cx="4545000" cy="3033720"/>
          </a:xfrm>
          <a:prstGeom prst="rect">
            <a:avLst/>
          </a:prstGeom>
          <a:ln w="0">
            <a:noFill/>
          </a:ln>
        </p:spPr>
      </p:pic>
      <p:sp>
        <p:nvSpPr>
          <p:cNvPr id="121" name="TextBox 9"/>
          <p:cNvSpPr/>
          <p:nvPr/>
        </p:nvSpPr>
        <p:spPr>
          <a:xfrm>
            <a:off x="1161000" y="1676520"/>
            <a:ext cx="367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Mystery stories often begin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something unusual happe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Then characters follow c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to solve the myst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0"/>
          <p:cNvSpPr/>
          <p:nvPr/>
        </p:nvSpPr>
        <p:spPr>
          <a:xfrm>
            <a:off x="388080" y="5715000"/>
            <a:ext cx="2722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understand characteristic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f genre:  myster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2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7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2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7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2" dur="2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7" dur="20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ea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mme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2520" y="1599840"/>
            <a:ext cx="388620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n you are pleased with something, you are happy with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pleas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4"/>
          <p:cNvSpPr/>
          <p:nvPr/>
        </p:nvSpPr>
        <p:spPr>
          <a:xfrm>
            <a:off x="228600" y="579132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hoemaker was pleased with the shoes because they were so beautifully m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2" descr="shoemaker-repairing-shoes_~CB025100"/>
          <p:cNvPicPr/>
          <p:nvPr/>
        </p:nvPicPr>
        <p:blipFill>
          <a:blip r:embed="rId1"/>
          <a:stretch/>
        </p:blipFill>
        <p:spPr>
          <a:xfrm>
            <a:off x="457200" y="1828800"/>
            <a:ext cx="3786120" cy="4038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jo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When you feel joy, you feel very happy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2"/>
          <p:cNvSpPr/>
          <p:nvPr/>
        </p:nvSpPr>
        <p:spPr>
          <a:xfrm>
            <a:off x="0" y="60958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ook of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jo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pread across her 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3" descr="joy"/>
          <p:cNvPicPr/>
          <p:nvPr/>
        </p:nvPicPr>
        <p:blipFill>
          <a:blip r:embed="rId1"/>
          <a:stretch/>
        </p:blipFill>
        <p:spPr>
          <a:xfrm>
            <a:off x="990720" y="1600200"/>
            <a:ext cx="2981160" cy="4476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5867280" y="1981080"/>
            <a:ext cx="3033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I stammered, I had a hard time speaking.  I kept stopping and repeating the same sounds without even knowing i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stammer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1"/>
          <p:cNvSpPr/>
          <p:nvPr/>
        </p:nvSpPr>
        <p:spPr>
          <a:xfrm>
            <a:off x="0" y="594360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oma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amme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 she spoke to the man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1" descr="fluntering"/>
          <p:cNvPicPr/>
          <p:nvPr/>
        </p:nvPicPr>
        <p:blipFill>
          <a:blip r:embed="rId1"/>
          <a:stretch/>
        </p:blipFill>
        <p:spPr>
          <a:xfrm>
            <a:off x="838080" y="1676520"/>
            <a:ext cx="4149720" cy="4190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 Practice/A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my signal, tell your partner what woul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leas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more, something sour or something sw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my signal, answer in one voice with “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jo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” or “sadness.”  Would making a 100 on your test bring you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jo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sadn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I were nervous, I might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amm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On my signal, tell your partner what might make you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amm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6"/>
          <p:cNvSpPr/>
          <p:nvPr/>
        </p:nvSpPr>
        <p:spPr>
          <a:xfrm>
            <a:off x="4054680" y="6400800"/>
            <a:ext cx="4877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mmar:  Multiple-Meaning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I will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lant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 the s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Did you water th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lant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omic Sans MS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rake</a:t>
            </a:r>
            <a:r>
              <a:rPr b="0" lang="en-US" sz="3200" spc="-1" strike="noStrike">
                <a:solidFill>
                  <a:srgbClr val="663300"/>
                </a:solidFill>
                <a:latin typeface="Comic Sans MS"/>
              </a:rPr>
              <a:t> up the leav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omic Sans MS"/>
              </a:rPr>
              <a:t>Did you find Dad’s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rake</a:t>
            </a:r>
            <a:r>
              <a:rPr b="0" lang="en-US" sz="3200" spc="-1" strike="noStrike">
                <a:solidFill>
                  <a:srgbClr val="6633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Mom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eeds</a:t>
            </a: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 the ga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Thos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eeds</a:t>
            </a: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 look like flow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53316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is something special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like to do at your house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makes it speci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like to ______.  This is special to me because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7"/>
          <p:cNvSpPr/>
          <p:nvPr/>
        </p:nvSpPr>
        <p:spPr>
          <a:xfrm>
            <a:off x="8001000" y="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 topics for a rhyming p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"/>
          <p:cNvSpPr/>
          <p:nvPr/>
        </p:nvSpPr>
        <p:spPr>
          <a:xfrm>
            <a:off x="685800" y="380880"/>
            <a:ext cx="8001000" cy="64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Rhyming Poe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t has a tit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ome lines end with rhyming wor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t has a rhyth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t is enjoyable to read and listen t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8001000" y="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 topics for a rhyming p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228600" y="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ft a Rhyming Ve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559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 A Poem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st things that you would like to write a rhyming poem about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8001000" y="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list topics for a rhyming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1523880" y="304920"/>
            <a:ext cx="586764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Constantia"/>
              </a:rPr>
              <a:t>Something Spe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1" descr="MPj04387180000[1]"/>
          <p:cNvPicPr/>
          <p:nvPr/>
        </p:nvPicPr>
        <p:blipFill>
          <a:blip r:embed="rId1"/>
          <a:stretch/>
        </p:blipFill>
        <p:spPr>
          <a:xfrm>
            <a:off x="2386080" y="190512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7"/>
          <p:cNvSpPr/>
          <p:nvPr/>
        </p:nvSpPr>
        <p:spPr>
          <a:xfrm>
            <a:off x="312120" y="38088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RP: 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066320"/>
            <a:ext cx="373356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e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us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y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i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is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memb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visi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5589000" y="990720"/>
            <a:ext cx="26128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llow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2748960" y="380880"/>
            <a:ext cx="292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바탕"/>
                <a:ea typeface="바탕"/>
              </a:rPr>
              <a:t>Sight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segment words into phonem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228960" y="12189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gmentation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Addi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7" descr="MPj04385490000[1]"/>
          <p:cNvPicPr/>
          <p:nvPr/>
        </p:nvPicPr>
        <p:blipFill>
          <a:blip r:embed="rId1"/>
          <a:stretch/>
        </p:blipFill>
        <p:spPr>
          <a:xfrm>
            <a:off x="4343400" y="1981080"/>
            <a:ext cx="4572000" cy="3430800"/>
          </a:xfrm>
          <a:prstGeom prst="rect">
            <a:avLst/>
          </a:prstGeom>
          <a:ln w="0">
            <a:noFill/>
          </a:ln>
        </p:spPr>
      </p:pic>
      <p:sp>
        <p:nvSpPr>
          <p:cNvPr id="63" name="TextBox 6"/>
          <p:cNvSpPr/>
          <p:nvPr/>
        </p:nvSpPr>
        <p:spPr>
          <a:xfrm>
            <a:off x="995040" y="76212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:  T5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6"/>
          <p:cNvSpPr/>
          <p:nvPr/>
        </p:nvSpPr>
        <p:spPr>
          <a:xfrm>
            <a:off x="7696080" y="0"/>
            <a:ext cx="1447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and generat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ounds of /s/c; /j/g; 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0" y="228600"/>
            <a:ext cx="655308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onsonants /s/c; /j/g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2"/>
          <p:cNvSpPr/>
          <p:nvPr/>
        </p:nvSpPr>
        <p:spPr>
          <a:xfrm>
            <a:off x="2666880" y="18288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3"/>
          <p:cNvSpPr/>
          <p:nvPr/>
        </p:nvSpPr>
        <p:spPr>
          <a:xfrm>
            <a:off x="3124080" y="182880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a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4"/>
          <p:cNvSpPr/>
          <p:nvPr/>
        </p:nvSpPr>
        <p:spPr>
          <a:xfrm>
            <a:off x="3581280" y="182880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5"/>
          <p:cNvSpPr/>
          <p:nvPr/>
        </p:nvSpPr>
        <p:spPr>
          <a:xfrm>
            <a:off x="3124080" y="297180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6"/>
          <p:cNvSpPr/>
          <p:nvPr/>
        </p:nvSpPr>
        <p:spPr>
          <a:xfrm>
            <a:off x="2819520" y="29718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7"/>
          <p:cNvSpPr/>
          <p:nvPr/>
        </p:nvSpPr>
        <p:spPr>
          <a:xfrm>
            <a:off x="2514600" y="4267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8"/>
          <p:cNvSpPr/>
          <p:nvPr/>
        </p:nvSpPr>
        <p:spPr>
          <a:xfrm>
            <a:off x="2971800" y="4267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9"/>
          <p:cNvSpPr/>
          <p:nvPr/>
        </p:nvSpPr>
        <p:spPr>
          <a:xfrm>
            <a:off x="3352680" y="4267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0"/>
          <p:cNvSpPr/>
          <p:nvPr/>
        </p:nvSpPr>
        <p:spPr>
          <a:xfrm>
            <a:off x="3581280" y="4267080"/>
            <a:ext cx="1447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d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7"/>
          <p:cNvSpPr/>
          <p:nvPr/>
        </p:nvSpPr>
        <p:spPr>
          <a:xfrm>
            <a:off x="6369120" y="380880"/>
            <a:ext cx="127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86200" y="1219320"/>
            <a:ext cx="8380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s/ and /j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3809880" y="1219320"/>
            <a:ext cx="2133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4191120" y="19810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3962520" y="1981080"/>
            <a:ext cx="838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3657600" y="19810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7"/>
          <p:cNvSpPr/>
          <p:nvPr/>
        </p:nvSpPr>
        <p:spPr>
          <a:xfrm>
            <a:off x="3581280" y="27432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2"/>
          <p:cNvSpPr/>
          <p:nvPr/>
        </p:nvSpPr>
        <p:spPr>
          <a:xfrm>
            <a:off x="4114800" y="27432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3"/>
          <p:cNvSpPr/>
          <p:nvPr/>
        </p:nvSpPr>
        <p:spPr>
          <a:xfrm>
            <a:off x="4343400" y="2743200"/>
            <a:ext cx="243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4"/>
          <p:cNvSpPr/>
          <p:nvPr/>
        </p:nvSpPr>
        <p:spPr>
          <a:xfrm>
            <a:off x="3733920" y="3581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5"/>
          <p:cNvSpPr/>
          <p:nvPr/>
        </p:nvSpPr>
        <p:spPr>
          <a:xfrm>
            <a:off x="4191120" y="35812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6"/>
          <p:cNvSpPr/>
          <p:nvPr/>
        </p:nvSpPr>
        <p:spPr>
          <a:xfrm>
            <a:off x="4572000" y="358128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8"/>
          <p:cNvSpPr/>
          <p:nvPr/>
        </p:nvSpPr>
        <p:spPr>
          <a:xfrm>
            <a:off x="3657600" y="44956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5"/>
          <p:cNvSpPr/>
          <p:nvPr/>
        </p:nvSpPr>
        <p:spPr>
          <a:xfrm>
            <a:off x="4114800" y="4495680"/>
            <a:ext cx="266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6"/>
          <p:cNvSpPr/>
          <p:nvPr/>
        </p:nvSpPr>
        <p:spPr>
          <a:xfrm>
            <a:off x="3581280" y="54100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7"/>
          <p:cNvSpPr/>
          <p:nvPr/>
        </p:nvSpPr>
        <p:spPr>
          <a:xfrm>
            <a:off x="3733920" y="541008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8"/>
          <p:cNvSpPr/>
          <p:nvPr/>
        </p:nvSpPr>
        <p:spPr>
          <a:xfrm>
            <a:off x="4495680" y="541008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6094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omic Sans MS"/>
              </a:rPr>
              <a:t>Your home looks</a:t>
            </a:r>
            <a:r>
              <a:rPr b="0" lang="en-US" sz="4000" spc="-1" strike="noStrike">
                <a:solidFill>
                  <a:srgbClr val="99cc00"/>
                </a:solidFill>
                <a:latin typeface="Comic Sans MS"/>
              </a:rPr>
              <a:t>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nice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omic Sans MS"/>
              </a:rPr>
              <a:t>I have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ice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70c0"/>
                </a:solidFill>
                <a:latin typeface="Comic Sans MS"/>
              </a:rPr>
              <a:t>in my cu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omic Sans MS"/>
              </a:rPr>
              <a:t>We can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race</a:t>
            </a:r>
            <a:r>
              <a:rPr b="0" lang="en-US" sz="4000" spc="-1" strike="noStrike">
                <a:solidFill>
                  <a:srgbClr val="0070c0"/>
                </a:solidFill>
                <a:latin typeface="Comic Sans MS"/>
              </a:rPr>
              <a:t> to the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large</a:t>
            </a:r>
            <a:r>
              <a:rPr b="0" lang="en-US" sz="4000" spc="-1" strike="noStrike">
                <a:solidFill>
                  <a:srgbClr val="0070c0"/>
                </a:solidFill>
                <a:latin typeface="Comic Sans MS"/>
              </a:rPr>
              <a:t> tre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omic Sans MS"/>
              </a:rPr>
              <a:t>My friend has a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badge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omic Sans MS"/>
              </a:rPr>
              <a:t>I hold the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edg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70c0"/>
                </a:solidFill>
                <a:latin typeface="Comic Sans MS"/>
              </a:rPr>
              <a:t>of the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pag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70c0"/>
                </a:solidFill>
                <a:latin typeface="Comic Sans MS"/>
              </a:rPr>
              <a:t>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omic Sans MS"/>
              </a:rPr>
              <a:t>keep my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place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omic Sans MS"/>
              </a:rPr>
              <a:t>Add some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spice</a:t>
            </a:r>
            <a:r>
              <a:rPr b="0" lang="en-US" sz="40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70c0"/>
                </a:solidFill>
                <a:latin typeface="Comic Sans MS"/>
              </a:rPr>
              <a:t>to the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rice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00"/>
                </a:solidFill>
                <a:latin typeface="Constantia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390600" y="533520"/>
            <a:ext cx="162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ill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d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Comic Sans MS"/>
              </a:rPr>
              <a:t>Draw 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335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Comic Sans MS"/>
              </a:rPr>
              <a:t>Sometimes an author won’t give every detail in a 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Comic Sans MS"/>
              </a:rPr>
              <a:t>An author can use clues in the story to help the r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Comic Sans MS"/>
              </a:rPr>
              <a:t>draw conclusions and fill in missing piece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Comic Sans MS"/>
              </a:rPr>
              <a:t>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630000" y="2743200"/>
            <a:ext cx="706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omic Sans MS"/>
              </a:rPr>
              <a:t>Remember this passage from “The Shoemaker and the Elves: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00b050"/>
                </a:solidFill>
                <a:latin typeface="Comic Sans MS"/>
              </a:rPr>
              <a:t>A woman walked by and saw the shoes.  She came in and didn’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omic Sans MS"/>
              </a:rPr>
              <a:t>even ask the price.  She paid double the usual cost and lef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omic Sans MS"/>
              </a:rPr>
              <a:t>expressing her pleasure.’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5435280" y="4648320"/>
            <a:ext cx="28324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dwardian Script ITC"/>
              </a:rPr>
              <a:t>Think Alou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"/>
              </a:rPr>
              <a:t>TE:  T5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6375240" y="0"/>
            <a:ext cx="27579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To use drawing conclusions 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tool to improve comprehens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Janice Wagnon</dc:creator>
  <dc:description/>
  <dc:language>en-US</dc:language>
  <cp:lastModifiedBy>Janice Wagnon</cp:lastModifiedBy>
  <dcterms:modified xsi:type="dcterms:W3CDTF">2009-03-03T04:04:58Z</dcterms:modified>
  <cp:revision>189</cp:revision>
  <dc:subject/>
  <dc:title>Slide 1</dc:title>
</cp:coreProperties>
</file>