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901B-6443-4A47-8B4B-F851814C3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3EAF-AEE6-465B-99FE-191D2287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F0A1-1E5A-497D-A4B1-7D574BB6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990-C2A9-4BFA-95F4-662D7F57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9B80-A147-4560-96C8-DC89DC31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0526-8F94-48F2-A0F7-44314C5D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E64-5229-4249-826A-D38775C7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A79-C1A7-4AEA-A605-76845D4B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3918-A152-41CC-9602-73C42FBF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926E-09F1-45AA-A66B-65967C70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59AE-A32E-49E2-94F6-DEC87995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E03-8AF4-4659-A0A2-2A4AAB8E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AEC7-0E0E-4EC7-ABA4-56D5FBC8A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300D-2F52-445C-B891-2FBF0304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ACB-99D9-4FEE-995E-9B082612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3DB7-8156-4A52-8EA2-36B32DD3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F0E-2263-4683-9B5A-465DC213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16C-E415-4E51-BA45-B50066E3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, busy, eyes, high, listen, remembered, talk, visitor, old, same, tell, following, show, also,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5EE-3E61-4BAA-8892-FCBFAAA1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0BC3-E51B-4249-A076-BC17D764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4C55-9F24-4587-933A-39021C47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0A8D-9053-44F3-B4AF-99D1B299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F5E3-5C63-4A12-B38A-031D77DA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C57-B345-44C7-92F1-0E10F052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EC1-B91A-4EF7-90DF-8980B1A9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844-92DD-4C16-AF4A-616C4891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444-8B0E-4441-A083-B04BD8B8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313-F612-45EB-A150-84640AA4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72F-73A8-4841-B29C-3C34C34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3CB-F504-483C-88A1-C75801F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1A7-86C0-4F67-96C4-FA28AAE7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FDE-FE1E-4843-A2F0-CAD889B3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9B3-053D-4764-94D9-57A0A80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23E-E127-42C6-89BC-0FEEFF8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7C3-6CA0-472F-B1F2-44A92EA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3D2-2A4F-478A-9D68-2AC3B4513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100_8995.JPG"/>
          <p:cNvPicPr/>
          <p:nvPr/>
        </p:nvPicPr>
        <p:blipFill>
          <a:blip r:embed="rId1"/>
          <a:stretch/>
        </p:blipFill>
        <p:spPr>
          <a:xfrm>
            <a:off x="380880" y="228600"/>
            <a:ext cx="5851800" cy="3890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295280" y="4038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7617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rom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o complet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19720" y="8377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haroni"/>
                <a:ea typeface="Aharoni"/>
              </a:rPr>
              <a:t>A seed will __________ a flower on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y are _____ getting ready for the pa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Her _____ are b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A tall building reaches ______ in they s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Please ________ carefully to what I s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haroni"/>
                <a:ea typeface="Aharoni"/>
              </a:rPr>
              <a:t>I ______________ to bring my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haroni"/>
                <a:ea typeface="Aharoni"/>
              </a:rPr>
              <a:t>Do you like to _______ on the ph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haroni"/>
                <a:ea typeface="Aharoni"/>
              </a:rPr>
              <a:t>A _________ is coming to our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488600" y="2209680"/>
            <a:ext cx="23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reme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477120" y="0"/>
            <a:ext cx="2666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apply word knowledge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reading of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stery of the Night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1600" y="1600200"/>
          <a:ext cx="6705720" cy="5008680"/>
        </p:xfrm>
        <a:graphic>
          <a:graphicData uri="http://schemas.openxmlformats.org/drawingml/2006/table">
            <a:tbl>
              <a:tblPr/>
              <a:tblGrid>
                <a:gridCol w="2019240"/>
                <a:gridCol w="4686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5"/>
          <p:cNvSpPr/>
          <p:nvPr/>
        </p:nvSpPr>
        <p:spPr>
          <a:xfrm>
            <a:off x="2085480" y="304920"/>
            <a:ext cx="56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return to this screen after station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788720" y="6595920"/>
            <a:ext cx="419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make inference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1120" y="914400"/>
            <a:ext cx="3581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ystery of the Night S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C:\Users\Janice\AppData\Local\Microsoft\Windows\Temporary Internet Files\Content.IE5\AETH7CGB\MPj0438700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4545000" cy="3033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161000" y="1676520"/>
            <a:ext cx="36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ystery stories often begi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omething unusual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hen characters follow c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o solve the mys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88080" y="5715000"/>
            <a:ext cx="2722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characteri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genre:  myste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m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pleased with something, you are happy with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lea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228600" y="57913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emaker was pleased with the shoes because they were so beautifully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2" descr="shoemaker-repairing-shoes_~CB025100"/>
          <p:cNvPicPr/>
          <p:nvPr/>
        </p:nvPicPr>
        <p:blipFill>
          <a:blip r:embed="rId1"/>
          <a:stretch/>
        </p:blipFill>
        <p:spPr>
          <a:xfrm>
            <a:off x="457200" y="1828800"/>
            <a:ext cx="378612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feel joy, you feel very happy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k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ead across her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3" descr="joy"/>
          <p:cNvPicPr/>
          <p:nvPr/>
        </p:nvPicPr>
        <p:blipFill>
          <a:blip r:embed="rId1"/>
          <a:stretch/>
        </p:blipFill>
        <p:spPr>
          <a:xfrm>
            <a:off x="990720" y="1600200"/>
            <a:ext cx="2981160" cy="447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tammered, I had a hard time speaking.  I kept stopping and repeating the same sounds without even knowing 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amme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mm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she spoke to the m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1" descr="fluntering"/>
          <p:cNvPicPr/>
          <p:nvPr/>
        </p:nvPicPr>
        <p:blipFill>
          <a:blip r:embed="rId1"/>
          <a:stretch/>
        </p:blipFill>
        <p:spPr>
          <a:xfrm>
            <a:off x="838080" y="1676520"/>
            <a:ext cx="414972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tell your partner what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ea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ore, something sour or something sw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answer in one voice with 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or “sadness.”  Would making a 100 on your test bring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sad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were nervous, I migh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On my signal, tell your partner what might make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054680" y="6400800"/>
            <a:ext cx="487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Multiple-Mean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the s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water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 up the le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Did you find Dad’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M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hos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look like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something specia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like to do at your hou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.  This is special to m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85800" y="380880"/>
            <a:ext cx="800100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write a rhyming poem abou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3733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589000" y="990720"/>
            <a:ext cx="261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748960" y="38088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Sight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7" descr="MPj04385490000[1]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995040" y="762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7696080" y="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/s/c; /j/g; 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228600"/>
            <a:ext cx="6553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onants /s/c; /j/g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2666880" y="1828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3124080" y="18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581280" y="1828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3124080" y="2971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28195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25146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29718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335268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"/>
          <p:cNvSpPr/>
          <p:nvPr/>
        </p:nvSpPr>
        <p:spPr>
          <a:xfrm>
            <a:off x="3581280" y="4267080"/>
            <a:ext cx="144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6369120" y="38088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 and /j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809880" y="12193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191120" y="19810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9625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657600" y="19810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27432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11480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37339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41911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6"/>
          <p:cNvSpPr/>
          <p:nvPr/>
        </p:nvSpPr>
        <p:spPr>
          <a:xfrm>
            <a:off x="4572000" y="3581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3657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4114800" y="4495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35812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733920" y="54100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495680" y="5410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r home looks</a:t>
            </a: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av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n my c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We ca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ac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arg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My friend has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badg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old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ed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of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keep m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la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Add som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spice</a:t>
            </a: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90600" y="5335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630000" y="2743200"/>
            <a:ext cx="706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is passage from “The Shoemaker and the Elves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A woman walked by and saw the shoes.  She came in and did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ven ask the price.  She paid double the usual cost and le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xpressing her pleasure.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435280" y="4648320"/>
            <a:ext cx="2832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E:  T5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 Wagnon</cp:lastModifiedBy>
  <dcterms:modified xsi:type="dcterms:W3CDTF">2009-03-03T04:04:58Z</dcterms:modified>
  <cp:revision>189</cp:revision>
  <dc:subject/>
  <dc:title>Slide 1</dc:title>
</cp:coreProperties>
</file>