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304-128C-4D09-B29F-3B53A222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C8F-7F3B-456E-AE33-039B7902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8941-6009-498E-9BDE-0C9237B3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4B0-D180-49AF-AE8B-7881AB99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B1D-9266-4347-99B2-097676BA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0202-0217-4EAE-A055-0E77A01C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BCD4-45D9-4D70-A5CC-D223811D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D76-CEDC-4DDA-BF45-34F76E65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647-030C-49AE-B073-95042279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3AEB-9A71-447C-AE14-1B4B8A55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A90-A1CD-4BB4-BE36-14CFF585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5EA5-F557-48AE-A7BF-865E8133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AF9F-0A42-4387-B28A-DB9A74DCD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09680" y="9907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arch 4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esson 24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ff"/>
                </a:solidFill>
                <a:latin typeface="Arial"/>
              </a:rPr>
              <a:t>You can use clues in a story to figure out something or draw a conclu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The Shoemaker and the Elves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The shoemaker and his wife made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for the elves. What conclusion can you dr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from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Mystery of the Night So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Draw a conclusion about the neighbor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in the st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28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Draw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0492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raw conclusions about a 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62520" y="1143000"/>
            <a:ext cx="49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Make Some Music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teacher read aloud and answer questions for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instrument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39816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zz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rel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something is puzzling, it is hard to understand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uzzl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6019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g barrel in the street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zz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uzzling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354348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1143000"/>
            <a:ext cx="876312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I am always puzzling over what to wear. Do you puzzle over that, too? Why or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Turn and talk with your partner telling them something that puzzles you. Use the stem be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Something puzzling to me is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Turn and show your partner the face you would make if something were puzzling yo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rob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you are probing, you are searching for answers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54864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cher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b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r students for answ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robing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4724640" cy="3543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914400"/>
            <a:ext cx="84582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I’ll be probing for answers about dinosaurs. Would you probe for answers about today’s weather, or about space trav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urn and talk with your partner about how you would probe for answers about a missing backpack. Use the stem bel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I would probe for answers by 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you are unrelenting, you do not give up until you do what you wanted to d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relent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5105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nner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relen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rying to win the r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unrelenting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724640" cy="314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990720"/>
            <a:ext cx="87631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I was unrelenting in my search for my walle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Answer in one voi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Would you be unrelenting in your search for a lost puppy, or in your search for a paper cli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Suppose you are unrelenting when you beg to stay up late. Turn and tell your partner what you would say and how you would soun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5520" y="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at words can have multiple meanings. To use context to find the meaning of multiple-meaning 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981080"/>
            <a:ext cx="762012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THINGS WE DO A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turn o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we co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 word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w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re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learn Ab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ap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- Troublesome Words: Multiple- Meaning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9144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cut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  shapes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   swing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     play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    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is your favorite poem? Tell why you like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My favorite poem is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it because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95280" y="-141120"/>
            <a:ext cx="6324840" cy="70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hyming Po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ome lines end with rhyming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has a rhyth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is enjoyable to read and listen 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 topics for a rhyming p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 topics for a rhyming p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28600" y="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ft a Rhyming 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274680"/>
            <a:ext cx="807732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A Poem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things that you would like to learn how to do. Use these ideas to write your poem.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8001000" y="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 topics for a rhyming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086600" y="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1523880" y="304920"/>
            <a:ext cx="586764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Something Spe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1" descr="MPj04387180000[1]"/>
          <p:cNvPicPr/>
          <p:nvPr/>
        </p:nvPicPr>
        <p:blipFill>
          <a:blip r:embed="rId1"/>
          <a:stretch/>
        </p:blipFill>
        <p:spPr>
          <a:xfrm>
            <a:off x="2386080" y="190512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312120" y="380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RP: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762120" y="1066680"/>
            <a:ext cx="37335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s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memb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isi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586480" y="990720"/>
            <a:ext cx="2387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llo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152160" y="380880"/>
            <a:ext cx="277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바탕"/>
              </a:rPr>
              <a:t>Word W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76212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ff"/>
                </a:solidFill>
                <a:uFillTx/>
                <a:latin typeface="Arial"/>
              </a:rPr>
              <a:t>Phonemic Awar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Phoneme Segmen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and Add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goat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438800" cy="37465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7086600" y="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segment words into phonem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s/c; /j/ g,dg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914400"/>
            <a:ext cx="54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9144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7524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175248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27432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27432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36576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36576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36576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46483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464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64832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g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5638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5638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56386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g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96080" y="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words with /s/ c; /j/ g, 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onsonant /s/ c, /j/ g, 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143000"/>
            <a:ext cx="716256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ad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places ri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ca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i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like i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ra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to get it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ad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feeds 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ice twi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a da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ni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to her pet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2286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1219320"/>
            <a:ext cx="3429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n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la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1371600"/>
            <a:ext cx="327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7.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8. th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9. l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0. he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3124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e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u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memb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is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gh-Frequency Word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1523880"/>
            <a:ext cx="579132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like to ___________________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see with my ________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 _________ is coming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e _________ her birthda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e are so ___________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birds ____________ quiet at nigh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plane is _______ up in the sky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9-03-04T03:18:14Z</dcterms:modified>
  <cp:revision>148</cp:revision>
  <dc:subject/>
  <dc:title>Slide 1</dc:title>
</cp:coreProperties>
</file>