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863-F1B4-4934-92F9-1A2B0AEA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C35-2E5B-476A-8430-E9F5FCE5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2D6-7FB6-41A3-944C-AE2E22D6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862-A2FA-47FE-B470-C1F5288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78F-4E33-400C-A77B-FB58BCB0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B9F-094B-40F4-A0B7-C9B81F08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490-7690-4254-8D69-D97107E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0E1-AA53-4579-8A04-DFC9E5C3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3A4-7220-42C5-BC8F-4EC49251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E31-BCE7-4A31-A59E-D72FCE4C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D58-4D58-47BB-8B66-4A1F9DE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3C1-0CB5-456D-B9BC-68A7CA0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4C14-2027-460A-BEE0-90BAF3C5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rch 4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4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You can use clues in a story to figure out something or draw a conclu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e Shoemaker and the Elves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he shoemaker and his wife made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or the elves. What conclusion can you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rom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Mystery of the Night So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Draw a conclusion about the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bout a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ake Some Musi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nstrument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981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l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uzzling, it is hard to understand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uzz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barrel in the stree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zz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uzzling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 am always puzzling over what to wear. Do you puzzle over that, too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Turn and talk with your partner telling them something that puzzles you. Use the stem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thing puzzling to me is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the face you would make if something were puzzling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ob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are probing, you are searching for answers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4864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r students for answ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bing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’ll be probing for answers about dinosaurs. Would you probe for answers about today’s weather, or about space tra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would probe for answers about a missing backpack. Use the stem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probe for answers by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unrelenting, you do not give up until you do what you wanted to 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lent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nn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len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rying to win the r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unrelenting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 was unrelenting in my search for my wall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unrelenting in your search for a lost puppy, or in your search for a paper cli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uppose you are unrelenting when you beg to stay up late. Turn and tell your partner what you would say and how you would s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words can have multiple meanings. To use context to find the meaning of multiple-meaning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981080"/>
            <a:ext cx="762012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HINGS WE DO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urn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e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word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earn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Troublesome Words: Multiple- Mean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914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ut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shapes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swing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play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poem? Tell why you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vorite poe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it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95280" y="-141120"/>
            <a:ext cx="632484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learn how to do. Use these ideas to write your poem.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2120" y="1066680"/>
            <a:ext cx="37335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586480" y="990720"/>
            <a:ext cx="2387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152160" y="380880"/>
            <a:ext cx="27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바탕"/>
              </a:rPr>
              <a:t>Word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Seg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nd 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oat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38800" cy="3746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c; /j/ g,dg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914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7524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1752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743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6576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46483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6483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5638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sonant /s/ c, /j/ g, 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143000"/>
            <a:ext cx="716256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laces r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a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like 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ra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get i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feed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 tw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her pe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3124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523880"/>
            <a:ext cx="57913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like to ________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see with my 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_________ is comi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_________ her birthd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are so 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birds ____________ quiet at n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lane is _______ up in the sk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04T03:18:14Z</dcterms:modified>
  <cp:revision>148</cp:revision>
  <dc:subject/>
  <dc:title>Slide 1</dc:title>
</cp:coreProperties>
</file>