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CA8-950D-414B-ABD3-4FC4EB55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EA9-F0DA-4546-93A9-365FDDF4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FBD-3A31-4382-8ECF-D1408DD0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C91-1137-40B7-B985-42B61026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270-ED39-40CA-80C2-8C929DC7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EE9-DB30-4D32-BBF8-9DA538B4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2AE-49C7-42DB-90C1-5A07CD0B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16F-7A23-4152-B5BD-35865EF4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FBF-3541-41E4-A2DE-D99C6BAF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030-011D-4F3F-A9D1-B5BF4129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4F6-DDEB-4A53-BA6A-DFABAFB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02A-8ED6-4E94-B6DA-5DAF235F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B564-F40F-4348-B88F-A4D121AE9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Constantia"/>
              </a:rPr>
              <a:t>We all like playing with cute do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Duke’s Work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578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523880"/>
          <a:ext cx="8686800" cy="4800600"/>
        </p:xfrm>
        <a:graphic>
          <a:graphicData uri="http://schemas.openxmlformats.org/drawingml/2006/table">
            <a:tbl>
              <a:tblPr/>
              <a:tblGrid>
                <a:gridCol w="4419720"/>
                <a:gridCol w="4267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Do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It Help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Duke’s Work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set a purpose for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ne Meets David Greybeard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2578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4360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serve something, you have worked hard to ge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ser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5791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male chimpanzees think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er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ead the rest of the chi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usually do something, you almost always do it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095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e saw that chimp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ve in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41008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peaceful, it is calm and qu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eace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64911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a 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8005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of all the noises you hear outside.  Which sounds do you like?  Which sound don’t you lik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hear _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don’t like to hear ______ becaus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turn to your partner and tell them something that you deser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turn to your partner and tell them things that usually happened during thunderstor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838080"/>
            <a:ext cx="89917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e he mad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ar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other chim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metimes they 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howl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and 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beat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on their ches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Jane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learned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other surprising th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28600"/>
            <a:ext cx="693432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read at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dream at n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 skates f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pet plays with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 catches the 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using a verb from the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80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 of 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00100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and respond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It Is the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30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and add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dd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72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 of 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1447920"/>
            <a:ext cx="28191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 say a word that begins with /yoo/ or/oo/, hold up your hand and say the sound. When I say a word that does not begin with /yoo/ or /oo/, hold your hand behind your bac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the same with the middle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19320"/>
            <a:ext cx="51051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Uu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12193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981080"/>
            <a:ext cx="838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2193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743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581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35812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4495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49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54100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981080"/>
            <a:ext cx="838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743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5812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vf027655</cp:lastModifiedBy>
  <dcterms:modified xsi:type="dcterms:W3CDTF">2009-03-23T03:01:31Z</dcterms:modified>
  <cp:revision>158</cp:revision>
  <dc:subject/>
  <dc:title>Slide 1</dc:title>
</cp:coreProperties>
</file>