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1C5-6546-4FF0-8DA8-DC082FEB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422-1FF3-444B-969E-71981581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A9C-9762-4DFD-A032-46926BF7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370-7E86-4A96-B051-68C6C644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516-BAEF-4EFC-878D-8090C7CB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571-12B7-4142-BB31-F2F03E4F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112-E4ED-4E1B-9131-9D3B1D39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99F-F600-4E59-9AE9-5C08BE53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E39-28CF-4998-9470-EF91CC74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909-3AC5-44A7-9B30-6469D577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6BB-BF53-4D8D-81E9-A8FB7FC5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DEC-A8BF-434A-8A3D-44A07A52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0BFD-50BE-4A30-B41F-1FC9F6118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2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5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Constantia"/>
              </a:rPr>
              <a:t>We all like playing with cute dog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Duke’s Work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578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523880"/>
          <a:ext cx="8686800" cy="4800600"/>
        </p:xfrm>
        <a:graphic>
          <a:graphicData uri="http://schemas.openxmlformats.org/drawingml/2006/table">
            <a:tbl>
              <a:tblPr/>
              <a:tblGrid>
                <a:gridCol w="4419720"/>
                <a:gridCol w="42670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Do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It Help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Duke’s Work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set a purpose for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ne Meets David Greybeard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2578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4360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serve something, you have worked hard to ge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22860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ser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5791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male chimpanzees think the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er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lead the rest of the chi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usually do something, you almost always do it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095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e saw that chimp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ve in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410080" cy="3579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peaceful, it is calm and qui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eacefu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649116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a 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8005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nk of all the noises you hear outside.  Which sounds do you like?  Which sound don’t you lik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hear _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don’t like to hear ______ becaus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turn to your partner and tell them something that you deser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turn to your partner and tell them things that usually happened during thunderstor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838080"/>
            <a:ext cx="89917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e he mad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ar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other chim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ometimes they 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howl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and 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beat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on their ches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Jane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learned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other surprising th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28600"/>
            <a:ext cx="693432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read at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dream at n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 skates f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pet plays with 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 catches the 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using a verb from the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808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st of 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Research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research repor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first sentence tells the main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ther sentences tell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001000" y="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and respond to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It Is the 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30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and add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etion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dd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5720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 of 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1447920"/>
            <a:ext cx="28191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I say a word that begins with /yoo/ or/oo/, hold up your hand and say the sound. When I say a word that does not begin with /yoo/ or /oo/, hold your hand behind your bac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 the same with the middle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219320"/>
            <a:ext cx="510516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Uu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1219320"/>
            <a:ext cx="1676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1981080"/>
            <a:ext cx="838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2193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7432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35812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35812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581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4495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49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541008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2952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1981080"/>
            <a:ext cx="838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27432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581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5812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3581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vf027655</cp:lastModifiedBy>
  <dcterms:modified xsi:type="dcterms:W3CDTF">2009-03-23T03:01:31Z</dcterms:modified>
  <cp:revision>158</cp:revision>
  <dc:subject/>
  <dc:title>Slide 1</dc:title>
</cp:coreProperties>
</file>