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793-E786-48A5-A5B5-B768FB89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A5A-D637-47A8-9D4B-D3505EB4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8A03-A739-4BCC-BCA6-BD8B9F48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A3D-42D4-4249-9C84-B5CEA692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F3D-6CD3-4DEA-9FB7-D04FB59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A09-6F92-4316-980D-F6FB478F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AEF-C456-42FE-884A-3CA55D50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7F5-F0BF-4BA6-A391-BBC60CC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6AF-B73F-48D1-80FB-E94183D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E1C-C99D-40B1-BE43-9C9447C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509-10A3-42C6-9AE9-B73EF6B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F6F-3327-4FE7-9E03-2F2128C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991-A7B1-4E0F-9906-4266B8B84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t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followed by a consonant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n stand for the long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ound as in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long vowel /(y)oo/ sou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3244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rds with u-e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2771640" cy="221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2096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2647800" cy="1986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5638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sh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mbed 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see a long way when the sky is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t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name man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can carr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pillow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leave, say, “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! I am a polar bear. Look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i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t looks white, 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 walk in the snow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re cold! I eat all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. I hav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e best friend.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is Ice Bear.  Well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 to go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ood-by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mazing Animal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20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Turn and talk with your partner about what you might deserve if you cleaned your bedroom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I deserve _______________ for cleaning my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urn and talk with your partner about when you think you deserve a reward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 deserve a reward when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urn and talk with your partner about what a dog deserves if it does a trick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 dog deserves ________________________ for doing a tr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the names of some baby anim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aby ________are calle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urn and talk with your partner about what you usually do after school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 usually do  _______________ afte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rn and talk with your partner about what you usually eat for lunch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usually eat ______________________ for lun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Turn and talk with your partner about something that does NOT usually happen at school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__________________ does NOT usually happen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2860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urn and talk with your partner about what a peaceful picture would look like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A peaceful picture would look like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urn and talk with your partner about what a peaceful solution to a problem with two children arguing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peaceful solution to the arguing would be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Turn and talk with your partner about places that are NOT very peaceful to be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Places that are NOT peaceful are 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0"/>
            <a:ext cx="899172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it as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po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76312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verbs could you put in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 can _________ like a ________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urn and talk with your partner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mething you would like to lear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bou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some topics you would lik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uppy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n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look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at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ill hum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n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float on that larg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c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elts fast in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ime at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ase read eac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u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 this p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24T03:18:50Z</dcterms:modified>
  <cp:revision>159</cp:revision>
  <dc:subject/>
  <dc:title>Slide 1</dc:title>
</cp:coreProperties>
</file>