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384-99DD-494B-BB2C-AC3D04C8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802-F29E-4F06-B4D1-978B30B2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131-0CBA-4B46-9315-041E9ACA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C78-9B08-4D22-8D3D-558D4B2A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EA1-04F8-4B14-901C-3A69ACB6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9B1-953A-468A-8B61-4FC6372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23BC-FD12-4F7C-9B3D-3BD63EC9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FDF-1E74-4404-B5B0-2A28A077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E72-DF8E-46AB-9CE7-8E743253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2E3-2C85-46A6-A6E1-AC6C1EBF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4E2-E725-464C-80F8-5F158ACC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695-CE23-414A-8C7A-3DF4675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A514-3E1F-47D8-8C0C-B6AC02D7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t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followed by a consonant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n stand for the long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ound as in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ut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long vowel /(y)oo/ sou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304920"/>
            <a:ext cx="63244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rds with u-e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2771640" cy="221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2209680" cy="215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2647800" cy="1986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5638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Learning about alphabetical order will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you to do many things.</a:t>
            </a: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 (Think A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Let’s put the following books in 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343400"/>
            <a:ext cx="167652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343400"/>
            <a:ext cx="22860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343400"/>
            <a:ext cx="167652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4343400"/>
            <a:ext cx="22860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4343400"/>
            <a:ext cx="167616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343400"/>
            <a:ext cx="22860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572000"/>
            <a:ext cx="1066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64832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572000"/>
            <a:ext cx="1067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876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col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sh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mbed m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clear</a:t>
            </a: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see a long way when the sky is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t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ki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name man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can carr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pillow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good-by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leave, say, “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Good-b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! I am a polar bear. Look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m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i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t looks white, 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 walk in the snow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re cold! I eat all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. I hav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ne best friend.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is Ice Bear.  Well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 to go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ood-by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397160"/>
          <a:ext cx="8686800" cy="31492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8580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Amazing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791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To use a graphic organizer as a strategy for compreh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mazing Animal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20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397160"/>
          <a:ext cx="8686800" cy="31492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8580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Amazing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791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To use a graphic organizer as a strategy for compreh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94360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serve something, you have worked hard to ge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ser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male chimpanzees think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ad the rest of the chi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Turn and talk with your partner about what you might deserve if you cleaned your bedroom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I deserve _______________ for cleaning my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urn and talk with your partner about when you think you deserve a reward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 deserve a reward when 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urn and talk with your partner about what a dog deserves if it does a trick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 dog deserves ________________________ for doing a tr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the names of some baby anim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aby ________are calle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usually do something, you almost always do it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 saw that chimp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ve in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1008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urn and talk with your partner about what you usually do after school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 usually do  _______________ after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rn and talk with your partner about what you usually eat for lunch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usually eat ______________________ for lun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Turn and talk with your partner about something that does NOT usually happen at school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__________________ does NOT usually happen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eaceful, it is calm and qu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eace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6491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2860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urn and talk with your partner about what a peaceful picture would look like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A peaceful picture would look like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urn and talk with your partner about what a peaceful solution to a problem with two children arguing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peaceful solution to the arguing would be 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Turn and talk with your partner about places that are NOT very peaceful to be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Places that are NOT peaceful are 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0"/>
            <a:ext cx="899172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hop like a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leap like a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wim like a f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un like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ly like a b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climb like a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it as still as a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till 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2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nd the verbs in the po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76312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verbs could you put in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 can _________ like a ________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urn and talk with your partner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omething you would like to lear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bou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some topics you would lik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G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uppy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s have cal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k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s have cu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s have b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ns have cygne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ls have pupp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guppi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little gupp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0968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Gupp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233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change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1430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43800" y="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long vowel /(y) 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83808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n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look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at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ill hum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n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k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float on that larg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ic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elts fast in 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ime at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ase read eac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u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n this p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3-24T03:18:50Z</dcterms:modified>
  <cp:revision>159</cp:revision>
  <dc:subject/>
  <dc:title>Slide 1</dc:title>
</cp:coreProperties>
</file>