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36C5-D9C1-4C4C-AF21-C7F69AD7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A760-BB9B-4EA5-BDB3-9819D74CE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7E8A-C72B-40DF-9334-ACCF0E4C7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5A82-E10D-4532-B3F4-C284147A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7A6C-D672-48DE-B15A-2F6A1A761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BC89-871F-45E4-884A-36D5D3665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33B9-CD71-469D-A891-F01B5E28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D0D3-D802-45F8-ADB4-1C1184B27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C6ED-73AB-46EF-B3A0-CFDAD728B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C809-3452-4A7E-9525-9E62DC1E9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CE04-BC79-4F11-97BD-8C75EAB00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7BC5-002D-4A36-982E-87BDECF9A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628C-1D6C-4F83-88FD-B0C4A5150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DBD6-E524-4385-8720-CB645C12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52AD-4725-4F61-907E-4A6B15F79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9E20-A27B-4984-B99A-AAA9FB93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229F-1562-4A5D-A719-F6B597961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69C7-3EDC-4E32-8632-4EC4EA71F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A29F-BB8A-4EE3-A7FE-2FC74A466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A698-F1F0-4FA5-B0D8-2BBB6F37F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4188-1791-4906-A5E3-34139E21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6C70-CCE7-41B3-8AD0-2974E5B48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685D-8A63-4784-A08F-519D8B064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FCFB-CBC2-44DF-BEFB-9E99A5C3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256-C6E6-4145-ACCD-1D883920D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F1D3-5FA1-4B66-B142-D01466F90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AFEC-3A44-4696-BFA1-20894705C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BB8-1772-496D-991A-694C9B6A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220-EE2E-4A66-AC62-6231B251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6A6-3EE9-4370-8915-4AAA5824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1A2-4D3A-44B9-804A-9DF9435B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3DB-F84D-4D4F-8E05-8885AC1D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DCB-DF11-41FF-8B22-BC8C10A5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D47-7EC1-4908-9A37-C3832A9C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E3C-AE49-49E0-8D19-05CB0C50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B83-D0CF-4976-94CF-7E5848F9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16A-0EB9-44F9-AAC2-4634B10D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B68-8E96-49FB-8E03-CF92CA55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721-EDDE-4F5B-9A25-4A53B79F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169C-D806-4A8E-AAE6-2C256AD2D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-360"/>
            <a:ext cx="4038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Cl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H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On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omic Sans MS"/>
              </a:rPr>
              <a:t>Goodby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Col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Ki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omic Sans MS"/>
              </a:rPr>
              <a:t>T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1066680" y="533520"/>
            <a:ext cx="63248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495680" y="1752480"/>
            <a:ext cx="358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means the covering on your h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do you use when you leave someone’s ho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describes orange or yellow or bl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tells about something on your fe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rhymes with lo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no clouds in the sky, we say the sky is 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3908520" y="762120"/>
            <a:ext cx="474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GUESS MY WOR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Alphabet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nstantia"/>
              </a:rPr>
              <a:t>Learning about alphabetical order will help you to do many things.</a:t>
            </a: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 (Think Al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Let’s put the following books in alphabe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alphabetize familiar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066680" y="4343400"/>
            <a:ext cx="167652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838080" y="4343400"/>
            <a:ext cx="22860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581280" y="4343400"/>
            <a:ext cx="167652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352680" y="4343400"/>
            <a:ext cx="22860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6019920" y="4343400"/>
            <a:ext cx="167616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791320" y="4343400"/>
            <a:ext cx="22860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4572000"/>
            <a:ext cx="1066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657600" y="464832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6324480" y="4572000"/>
            <a:ext cx="1067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371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581280" y="4876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324480" y="4876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alphabetiz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52388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gh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6858000" y="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alphabetize familiar word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47680" y="1295280"/>
            <a:ext cx="339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tles….What We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make a list of things we al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about tur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70160" y="685800"/>
            <a:ext cx="86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we will read a poem about stories called, </a:t>
            </a:r>
            <a:r>
              <a:rPr b="0" i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The Little Tur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turtle.jpg"/>
          <p:cNvPicPr/>
          <p:nvPr/>
        </p:nvPicPr>
        <p:blipFill>
          <a:blip r:embed="rId1"/>
          <a:stretch/>
        </p:blipFill>
        <p:spPr>
          <a:xfrm>
            <a:off x="3962520" y="2438280"/>
            <a:ext cx="4816440" cy="3600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3893400" y="571500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to by Mrs. Wa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475920" y="0"/>
            <a:ext cx="4059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he Little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y Vachel Lind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here was a little tur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lived in a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wam in a pud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limbed on the r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napped at a mosq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napped at a f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napped at a min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And he snapped a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aught the mosq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aught the f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aught the min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ut he didn’t catch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ttl.jpg"/>
          <p:cNvPicPr/>
          <p:nvPr/>
        </p:nvPicPr>
        <p:blipFill>
          <a:blip r:embed="rId1"/>
          <a:stretch/>
        </p:blipFill>
        <p:spPr>
          <a:xfrm>
            <a:off x="4419720" y="152280"/>
            <a:ext cx="4562280" cy="34099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4426920" y="320040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e20"/>
                </a:solidFill>
                <a:latin typeface="Arial"/>
              </a:rPr>
              <a:t>Photo by Mrs. Wa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267080" y="3886200"/>
            <a:ext cx="4648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nch Script MT"/>
              </a:rPr>
              <a:t>Interpretation through mov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nch Script MT"/>
              </a:rPr>
              <a:t>Hand actions for the verbs…stay s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"/>
          <p:cNvPicPr/>
          <p:nvPr/>
        </p:nvPicPr>
        <p:blipFill>
          <a:blip r:embed="rId1"/>
          <a:stretch/>
        </p:blipFill>
        <p:spPr>
          <a:xfrm>
            <a:off x="0" y="914400"/>
            <a:ext cx="8097840" cy="5556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3360" y="914400"/>
            <a:ext cx="5105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called go to your first rot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9cdf"/>
                </a:solidFill>
                <a:latin typeface="Arial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9cdf"/>
                </a:solidFill>
                <a:latin typeface="Arial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9cdf"/>
                </a:solidFill>
                <a:latin typeface="Arial"/>
              </a:rPr>
              <a:t>Grou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d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28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re is a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variet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something, there are many different ki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0384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114800" y="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varie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305160" cy="4949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0"/>
          <p:cNvSpPr/>
          <p:nvPr/>
        </p:nvSpPr>
        <p:spPr>
          <a:xfrm>
            <a:off x="473040" y="5486400"/>
            <a:ext cx="32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ound a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ar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80880" y="3808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On my signal, answer in one voice with “</a:t>
            </a:r>
            <a:r>
              <a:rPr b="1" lang="en-US" sz="4400" spc="-1" strike="noStrike">
                <a:solidFill>
                  <a:srgbClr val="161645"/>
                </a:solidFill>
                <a:latin typeface="Arial"/>
              </a:rPr>
              <a:t>variety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” or “one.”  Would you rather have a </a:t>
            </a:r>
            <a:r>
              <a:rPr b="1" lang="en-US" sz="4400" spc="-1" strike="noStrike">
                <a:solidFill>
                  <a:srgbClr val="161645"/>
                </a:solidFill>
                <a:latin typeface="Arial"/>
              </a:rPr>
              <a:t>variety 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of books to choose from at partner reading, or just one 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6487560" y="6248520"/>
            <a:ext cx="24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38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it is so amazing that it’s hard to belie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152280" y="53341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ould truly b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cred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urf this close to a sh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5" descr="chimpanzees_wideweb__470x311,0"/>
          <p:cNvPicPr/>
          <p:nvPr/>
        </p:nvPicPr>
        <p:blipFill>
          <a:blip r:embed="rId1"/>
          <a:stretch/>
        </p:blipFill>
        <p:spPr>
          <a:xfrm>
            <a:off x="380880" y="1752480"/>
            <a:ext cx="541044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Name a baby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it like to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baby _______ likes to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80880" y="1143000"/>
            <a:ext cx="84582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On my signal, answer in one voice with “fly a plane” or “water a plant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Would it be more </a:t>
            </a:r>
            <a:r>
              <a:rPr b="1" lang="en-US" sz="4400" spc="-1" strike="noStrike">
                <a:solidFill>
                  <a:srgbClr val="161645"/>
                </a:solidFill>
                <a:latin typeface="Arial"/>
              </a:rPr>
              <a:t>incredible </a:t>
            </a: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for me to fly a plane or water a pl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6477840" y="152280"/>
            <a:ext cx="243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develop robust vocabu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ypic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it usually happens this w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Comic Sans MS"/>
              </a:rPr>
              <a:t>typic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533520" y="5105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typical for Keesha to brush her teeth before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3" descr="peaceful-morning"/>
          <p:cNvPicPr/>
          <p:nvPr/>
        </p:nvPicPr>
        <p:blipFill>
          <a:blip r:embed="rId1"/>
          <a:stretch/>
        </p:blipFill>
        <p:spPr>
          <a:xfrm>
            <a:off x="914400" y="1752480"/>
            <a:ext cx="38005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57200" y="579600"/>
            <a:ext cx="845820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On my signal, turn and talk with your partner about what would be</a:t>
            </a:r>
            <a:r>
              <a:rPr b="1" lang="en-US" sz="3600" spc="-1" strike="noStrike">
                <a:solidFill>
                  <a:srgbClr val="161645"/>
                </a:solidFill>
                <a:latin typeface="Arial"/>
              </a:rPr>
              <a:t> typical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othing for a day at the b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On my signal,  turn and talk with your partner about what WOULD NOT be </a:t>
            </a:r>
            <a:r>
              <a:rPr b="1" lang="en-US" sz="3600" spc="-1" strike="noStrike">
                <a:solidFill>
                  <a:srgbClr val="161645"/>
                </a:solidFill>
                <a:latin typeface="Arial"/>
              </a:rPr>
              <a:t>typical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othing for a day at the b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402600" y="152280"/>
            <a:ext cx="24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533520" y="380880"/>
            <a:ext cx="84582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were lots of contests on Fi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.  We climbed ropes.  We kic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ls.  Some people did races.  At noon, everyone ate a picnic lunch.  It wa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1"/>
          <p:cNvSpPr/>
          <p:nvPr/>
        </p:nvSpPr>
        <p:spPr>
          <a:xfrm>
            <a:off x="0" y="152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nd the verbs in the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2085120" y="3809880"/>
            <a:ext cx="569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your own story with ver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_____ to the ball.  She _______ the ball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across the room.  That cat _____ to 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es and then ______ the shoe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w, you will read the underlined verbs, and I will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rest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380880" y="3808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earch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et’s share yesterday’s KWL charts and make sure of these important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ake sure your questions are about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Cross out questions that don’t fit or make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d more questions that would fit and make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800100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Gu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C:\Documents and Settings\pawley\My Documents\My Pictures\guppy.jpg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s have cal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s have k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rs have cub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ts have b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ns have cygne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ls have pupp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guppies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little gupp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2209680" y="228600"/>
            <a:ext cx="480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Gupp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08660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6400800" y="1981080"/>
            <a:ext cx="2590920" cy="174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304920" y="1905120"/>
            <a:ext cx="236196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152280" y="47242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23338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-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change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7" descr="MPj04385490000[1]"/>
          <p:cNvPicPr/>
          <p:nvPr/>
        </p:nvPicPr>
        <p:blipFill>
          <a:blip r:embed="rId1"/>
          <a:stretch/>
        </p:blipFill>
        <p:spPr>
          <a:xfrm>
            <a:off x="4419720" y="1447920"/>
            <a:ext cx="43416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57600" y="1294920"/>
            <a:ext cx="2286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114800" y="121932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3581280" y="19810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37339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4419720" y="2743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4800600" y="27432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42900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4267080" y="35812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4648320" y="35812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36576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4267080" y="44956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480060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4955760" y="2743200"/>
            <a:ext cx="34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52680" y="213372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004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581280" y="38862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3962520" y="21337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352680" y="2895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733920" y="28954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191120" y="2895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3526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7339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4191120" y="38098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20040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543800" y="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long vowel /(y) 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685800" y="457200"/>
            <a:ext cx="2209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c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t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966040" y="2133720"/>
            <a:ext cx="256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n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h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ta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l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5619960" y="1143000"/>
            <a:ext cx="346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What do words one through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ave in comm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k at words eight and nin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word is something yo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your ears?   Which w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mething you do with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</cp:lastModifiedBy>
  <dcterms:modified xsi:type="dcterms:W3CDTF">2009-03-25T02:50:00Z</dcterms:modified>
  <cp:revision>222</cp:revision>
  <dc:subject/>
  <dc:title>Slide 1</dc:title>
</cp:coreProperties>
</file>