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7059D-299E-4100-A461-7AC42BEF9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E9B9D-D34C-4CB4-9DEB-244647ABA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EBA29-5D36-4D2E-BA15-A1607CDC26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CEA93-0EC0-499F-ACAC-F32A693EB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DA5C8-F549-4009-8C17-C2C4F96EB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CA8BC-74ED-4BE7-9EC3-ABF6974CB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C1B34-0D2F-4669-9A81-955AE066DD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D7F0E-97F2-494B-BA38-C255961E4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438EA-FEE3-4E9F-ACCC-AB0A79BE60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89E1F-09F0-49B8-BD09-79C34CF91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0F665-F9B3-4532-BCE4-27E3C190C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F8C4A-2676-496B-A963-4540CB780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8252B-FB0C-48C2-89B5-24FAD81365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5D020-EAAF-49B4-97BF-71BF705236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9E0D7-0B5D-4913-A287-BD5A2E966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53AF8-0B0D-41CA-8BFD-2A64D9A86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600A9-AC16-455B-9AC2-E1E9C3C86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8BE19-8AC7-40A2-9A28-0F97023B3E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3DFC9-AF72-4FB2-B5B0-3CBA11716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E5701-06CF-4945-A2D9-E33048CAE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5AB8D-600A-4F08-8CE6-93AE1CAE3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9FD22-15A5-462C-B2B3-1FE5A3CA1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F7BAA-CD0E-4093-8F6C-3E61961E82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14528-0DE4-421E-8F46-FFFA9A5C5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63401-64A0-4FD4-AE32-4760CE46DA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38557-5B34-4A24-A441-78A8D2A73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C5A69-3949-4479-AA24-39452BD9A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777D-9616-41FE-B7EC-7455F381D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3221-C7D7-4491-B195-52C40F126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3BC5-C5D0-44EF-B775-EA24A89C1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2D2C-9F07-455E-BC2F-1987DA07F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C467-03AF-4904-BF4C-93B778E9C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3A5F-0575-4882-9C93-8F511425A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1158-ECC3-4B5F-9C3F-BB015260C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6A3C-0E48-4043-AF5B-D1BFF7C70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6263-232C-4439-AC5A-BD5B4DDBD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919D-12FB-4CDE-A8AD-F826F8A3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C115-9632-4313-9CBE-D61AC6EDC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2FD0-4AB4-4006-A2D0-A2103397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52BE5-416B-4343-A972-606D6DAB99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MPj04394500000[1]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dnes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rch 25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25, Day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80520" y="-360"/>
            <a:ext cx="403884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Comic Sans MS"/>
              </a:rPr>
              <a:t>Cle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Comic Sans MS"/>
              </a:rPr>
              <a:t>Hai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cccc"/>
                </a:solidFill>
                <a:latin typeface="Comic Sans MS"/>
              </a:rPr>
              <a:t>Onl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0f0"/>
                </a:solidFill>
                <a:latin typeface="Comic Sans MS"/>
              </a:rPr>
              <a:t>Goodby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00"/>
                </a:solidFill>
                <a:latin typeface="Comic Sans MS"/>
              </a:rPr>
              <a:t>Col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Comic Sans MS"/>
              </a:rPr>
              <a:t>Kin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000"/>
                </a:solidFill>
                <a:latin typeface="Comic Sans MS"/>
              </a:rPr>
              <a:t>To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7467480" y="0"/>
            <a:ext cx="1676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a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High-frequency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WordArt 5"/>
          <p:cNvSpPr txBox="1"/>
          <p:nvPr/>
        </p:nvSpPr>
        <p:spPr>
          <a:xfrm>
            <a:off x="1066680" y="533520"/>
            <a:ext cx="6324840" cy="87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782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lang="en-US" sz="6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7" name="TextBox 12"/>
          <p:cNvSpPr/>
          <p:nvPr/>
        </p:nvSpPr>
        <p:spPr>
          <a:xfrm>
            <a:off x="4495680" y="1752480"/>
            <a:ext cx="358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word means the covering on your hea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word do you use when you leave someone’s hou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word describes orange or yellow or blu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word tells about something on your fee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word rhymes with lonel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re are no clouds in the sky, we say the sky is _______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3"/>
          <p:cNvSpPr/>
          <p:nvPr/>
        </p:nvSpPr>
        <p:spPr>
          <a:xfrm>
            <a:off x="3908520" y="762120"/>
            <a:ext cx="474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2d050"/>
                </a:solidFill>
                <a:latin typeface="Arial"/>
              </a:rPr>
              <a:t>GUESS MY WORD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nstantia"/>
              </a:rPr>
              <a:t>Alphabetiz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Constantia"/>
              </a:rPr>
              <a:t>Learning about alphabetical order will help you to do many things.</a:t>
            </a:r>
            <a:r>
              <a:rPr b="0" lang="en-US" sz="3200" spc="-1" strike="noStrike">
                <a:solidFill>
                  <a:srgbClr val="99cc00"/>
                </a:solidFill>
                <a:latin typeface="Constantia"/>
              </a:rPr>
              <a:t> (Think Alou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Constantia"/>
              </a:rPr>
              <a:t>Let’s put the following books in alphabet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Constantia"/>
              </a:rPr>
              <a:t>ord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7620120" y="0"/>
            <a:ext cx="152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alphabetize familiar wor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1066680" y="4343400"/>
            <a:ext cx="1676520" cy="2057400"/>
          </a:xfrm>
          <a:prstGeom prst="rect">
            <a:avLst/>
          </a:prstGeom>
          <a:solidFill>
            <a:srgbClr val="3399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838080" y="4343400"/>
            <a:ext cx="228600" cy="2057400"/>
          </a:xfrm>
          <a:prstGeom prst="rect">
            <a:avLst/>
          </a:prstGeom>
          <a:solidFill>
            <a:srgbClr val="3399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3581280" y="4343400"/>
            <a:ext cx="1676520" cy="205740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3352680" y="4343400"/>
            <a:ext cx="228600" cy="205740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6019920" y="4343400"/>
            <a:ext cx="1676160" cy="2057400"/>
          </a:xfrm>
          <a:prstGeom prst="rect">
            <a:avLst/>
          </a:prstGeom>
          <a:solidFill>
            <a:srgbClr val="33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5791320" y="4343400"/>
            <a:ext cx="228600" cy="2057400"/>
          </a:xfrm>
          <a:prstGeom prst="rect">
            <a:avLst/>
          </a:prstGeom>
          <a:solidFill>
            <a:srgbClr val="33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3"/>
          <p:cNvSpPr/>
          <p:nvPr/>
        </p:nvSpPr>
        <p:spPr>
          <a:xfrm>
            <a:off x="1371600" y="4572000"/>
            <a:ext cx="10666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3657600" y="4648320"/>
            <a:ext cx="15238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5"/>
          <p:cNvSpPr/>
          <p:nvPr/>
        </p:nvSpPr>
        <p:spPr>
          <a:xfrm>
            <a:off x="6324480" y="4572000"/>
            <a:ext cx="10670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6"/>
          <p:cNvSpPr/>
          <p:nvPr/>
        </p:nvSpPr>
        <p:spPr>
          <a:xfrm>
            <a:off x="1371600" y="4800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3581280" y="48769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6324480" y="48769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alphabetiz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66320" y="1523880"/>
            <a:ext cx="2971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ghe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t d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ag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scu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nc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6858000" y="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Objective: To alphabetize familiar word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4747680" y="1295280"/>
            <a:ext cx="33994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rtles….What We K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make a list of things we alrea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 about turt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470160" y="685800"/>
            <a:ext cx="864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day, we will read a poem about stories called, </a:t>
            </a:r>
            <a:r>
              <a:rPr b="0" i="1" lang="en-US" sz="4000" spc="-1" strike="noStrike">
                <a:solidFill>
                  <a:srgbClr val="000000"/>
                </a:solidFill>
                <a:latin typeface="Arabic Typesetting"/>
                <a:ea typeface="Arabic Typesetting"/>
              </a:rPr>
              <a:t>The Little Turt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turtle.jpg"/>
          <p:cNvPicPr/>
          <p:nvPr/>
        </p:nvPicPr>
        <p:blipFill>
          <a:blip r:embed="rId1"/>
          <a:stretch/>
        </p:blipFill>
        <p:spPr>
          <a:xfrm>
            <a:off x="3962520" y="2438280"/>
            <a:ext cx="4816440" cy="3600720"/>
          </a:xfrm>
          <a:prstGeom prst="rect">
            <a:avLst/>
          </a:prstGeom>
          <a:ln w="0">
            <a:noFill/>
          </a:ln>
        </p:spPr>
      </p:pic>
      <p:sp>
        <p:nvSpPr>
          <p:cNvPr id="132" name="TextBox 5"/>
          <p:cNvSpPr/>
          <p:nvPr/>
        </p:nvSpPr>
        <p:spPr>
          <a:xfrm>
            <a:off x="3893400" y="5715000"/>
            <a:ext cx="266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hoto by Mrs. Wagn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1"/>
          <p:cNvSpPr/>
          <p:nvPr/>
        </p:nvSpPr>
        <p:spPr>
          <a:xfrm>
            <a:off x="475920" y="0"/>
            <a:ext cx="40593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The Little Tur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y Vachel Linds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There was a little turt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He lived in a bo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He swam in a pudd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He climbed on the ro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He snapped at a mosqui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He snapped at a fl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He snapped at a minn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And he snapped at 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He caught the mosqui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He caught the fl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He caught the minn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ut he didn’t catch m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ttl.jpg"/>
          <p:cNvPicPr/>
          <p:nvPr/>
        </p:nvPicPr>
        <p:blipFill>
          <a:blip r:embed="rId1"/>
          <a:stretch/>
        </p:blipFill>
        <p:spPr>
          <a:xfrm>
            <a:off x="4419720" y="152280"/>
            <a:ext cx="4562280" cy="3409920"/>
          </a:xfrm>
          <a:prstGeom prst="rect">
            <a:avLst/>
          </a:prstGeom>
          <a:ln w="0">
            <a:noFill/>
          </a:ln>
        </p:spPr>
      </p:pic>
      <p:sp>
        <p:nvSpPr>
          <p:cNvPr id="135" name="TextBox 3"/>
          <p:cNvSpPr/>
          <p:nvPr/>
        </p:nvSpPr>
        <p:spPr>
          <a:xfrm>
            <a:off x="4426920" y="3200400"/>
            <a:ext cx="266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e1e20"/>
                </a:solidFill>
                <a:latin typeface="Arial"/>
              </a:rPr>
              <a:t>Photo by Mrs. Wagn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4"/>
          <p:cNvSpPr/>
          <p:nvPr/>
        </p:nvSpPr>
        <p:spPr>
          <a:xfrm>
            <a:off x="4267080" y="3886200"/>
            <a:ext cx="46483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ench Script MT"/>
              </a:rPr>
              <a:t>Interpretation through movemen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ench Script MT"/>
              </a:rPr>
              <a:t>Hand actions for the verbs…stay seate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1" descr=""/>
          <p:cNvPicPr/>
          <p:nvPr/>
        </p:nvPicPr>
        <p:blipFill>
          <a:blip r:embed="rId1"/>
          <a:stretch/>
        </p:blipFill>
        <p:spPr>
          <a:xfrm>
            <a:off x="0" y="914400"/>
            <a:ext cx="8097840" cy="555624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133360" y="914400"/>
            <a:ext cx="5105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 called go to your first rota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c9cdf"/>
                </a:solidFill>
                <a:latin typeface="Arial"/>
              </a:rPr>
              <a:t>Group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c9cdf"/>
                </a:solidFill>
                <a:latin typeface="Arial"/>
              </a:rPr>
              <a:t>Group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c9cdf"/>
                </a:solidFill>
                <a:latin typeface="Arial"/>
              </a:rPr>
              <a:t>Group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7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2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7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2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redi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ic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2880" y="1218960"/>
            <a:ext cx="320040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there is a </a:t>
            </a: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variety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of something, there are many different kind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3"/>
          <p:cNvSpPr/>
          <p:nvPr/>
        </p:nvSpPr>
        <p:spPr>
          <a:xfrm>
            <a:off x="4038480" y="0"/>
            <a:ext cx="510552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4114800" y="0"/>
            <a:ext cx="50292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ff3300"/>
                </a:solidFill>
                <a:latin typeface="Comic Sans MS"/>
              </a:rPr>
              <a:t>variety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5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3305160" cy="4949640"/>
          </a:xfrm>
          <a:prstGeom prst="rect">
            <a:avLst/>
          </a:prstGeom>
          <a:ln w="0">
            <a:noFill/>
          </a:ln>
        </p:spPr>
      </p:pic>
      <p:sp>
        <p:nvSpPr>
          <p:cNvPr id="147" name="TextBox 10"/>
          <p:cNvSpPr/>
          <p:nvPr/>
        </p:nvSpPr>
        <p:spPr>
          <a:xfrm>
            <a:off x="473040" y="5486400"/>
            <a:ext cx="322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found a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var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pe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mark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380880" y="380880"/>
            <a:ext cx="84582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Arial"/>
              </a:rPr>
              <a:t>On my signal, answer in one voice with “</a:t>
            </a:r>
            <a:r>
              <a:rPr b="1" lang="en-US" sz="4400" spc="-1" strike="noStrike">
                <a:solidFill>
                  <a:srgbClr val="161645"/>
                </a:solidFill>
                <a:latin typeface="Arial"/>
              </a:rPr>
              <a:t>variety</a:t>
            </a:r>
            <a:r>
              <a:rPr b="1" lang="en-US" sz="4400" spc="-1" strike="noStrike">
                <a:solidFill>
                  <a:srgbClr val="990099"/>
                </a:solidFill>
                <a:latin typeface="Arial"/>
              </a:rPr>
              <a:t>” or “one.”  Would you rather have a </a:t>
            </a:r>
            <a:r>
              <a:rPr b="1" lang="en-US" sz="4400" spc="-1" strike="noStrike">
                <a:solidFill>
                  <a:srgbClr val="161645"/>
                </a:solidFill>
                <a:latin typeface="Arial"/>
              </a:rPr>
              <a:t>variety </a:t>
            </a:r>
            <a:r>
              <a:rPr b="1" lang="en-US" sz="4400" spc="-1" strike="noStrike">
                <a:solidFill>
                  <a:srgbClr val="990099"/>
                </a:solidFill>
                <a:latin typeface="Arial"/>
              </a:rPr>
              <a:t>of books to choose from at partner reading, or just one boo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4"/>
          <p:cNvSpPr/>
          <p:nvPr/>
        </p:nvSpPr>
        <p:spPr>
          <a:xfrm>
            <a:off x="6487560" y="6248520"/>
            <a:ext cx="2472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Objective: To develop robust vocabular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by discussing ideas and situa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2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ff3300"/>
                </a:solidFill>
                <a:latin typeface="Comic Sans MS"/>
              </a:rPr>
              <a:t>incredibl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5638680" y="1981080"/>
            <a:ext cx="3256200" cy="42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f something is </a:t>
            </a:r>
            <a:r>
              <a:rPr b="0" lang="en-US" sz="3800" spc="-1" strike="noStrike">
                <a:solidFill>
                  <a:srgbClr val="ff3300"/>
                </a:solidFill>
                <a:latin typeface="Comic Sans MS"/>
              </a:rPr>
              <a:t>incredible</a:t>
            </a: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, it is so amazing that it’s hard to believe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2"/>
          <p:cNvSpPr/>
          <p:nvPr/>
        </p:nvSpPr>
        <p:spPr>
          <a:xfrm>
            <a:off x="152280" y="5334120"/>
            <a:ext cx="58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would truly be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credi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surf this close to a sha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35" descr="chimpanzees_wideweb__470x311,0"/>
          <p:cNvPicPr/>
          <p:nvPr/>
        </p:nvPicPr>
        <p:blipFill>
          <a:blip r:embed="rId1"/>
          <a:stretch/>
        </p:blipFill>
        <p:spPr>
          <a:xfrm>
            <a:off x="380880" y="1752480"/>
            <a:ext cx="5410440" cy="34671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Name a baby anim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hat does it like to do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rn and talk with your partner using the stem 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A baby _______ likes to 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380880" y="1143000"/>
            <a:ext cx="8458200" cy="54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00"/>
                </a:solidFill>
                <a:latin typeface="Arial"/>
              </a:rPr>
              <a:t>On my signal, answer in one voice with “fly a plane” or “water a plant.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00"/>
                </a:solidFill>
                <a:latin typeface="Arial"/>
              </a:rPr>
              <a:t>Would it be more </a:t>
            </a:r>
            <a:r>
              <a:rPr b="1" lang="en-US" sz="4400" spc="-1" strike="noStrike">
                <a:solidFill>
                  <a:srgbClr val="161645"/>
                </a:solidFill>
                <a:latin typeface="Arial"/>
              </a:rPr>
              <a:t>incredible </a:t>
            </a:r>
            <a:r>
              <a:rPr b="1" lang="en-US" sz="4400" spc="-1" strike="noStrike">
                <a:solidFill>
                  <a:srgbClr val="336600"/>
                </a:solidFill>
                <a:latin typeface="Arial"/>
              </a:rPr>
              <a:t>for me to fly a plane or water a pla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4"/>
          <p:cNvSpPr/>
          <p:nvPr/>
        </p:nvSpPr>
        <p:spPr>
          <a:xfrm>
            <a:off x="6477840" y="152280"/>
            <a:ext cx="2437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Objective: To develop robust vocabul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by discussing ideas and situa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5410080" y="1600200"/>
            <a:ext cx="34909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f something is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typical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it usually happens this wa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3"/>
          <p:cNvSpPr/>
          <p:nvPr/>
        </p:nvSpPr>
        <p:spPr>
          <a:xfrm>
            <a:off x="1600200" y="228600"/>
            <a:ext cx="617220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1828800" y="304920"/>
            <a:ext cx="57150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ff0000"/>
                </a:solidFill>
                <a:latin typeface="Comic Sans MS"/>
              </a:rPr>
              <a:t>typical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1"/>
          <p:cNvSpPr/>
          <p:nvPr/>
        </p:nvSpPr>
        <p:spPr>
          <a:xfrm>
            <a:off x="533520" y="510552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was typical for Keesha to brush her teeth before scho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33" descr="peaceful-morning"/>
          <p:cNvPicPr/>
          <p:nvPr/>
        </p:nvPicPr>
        <p:blipFill>
          <a:blip r:embed="rId1"/>
          <a:stretch/>
        </p:blipFill>
        <p:spPr>
          <a:xfrm>
            <a:off x="914400" y="1752480"/>
            <a:ext cx="3800520" cy="3313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457200" y="579600"/>
            <a:ext cx="8458200" cy="65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On my signal, turn and talk with your partner about what would be</a:t>
            </a:r>
            <a:r>
              <a:rPr b="1" lang="en-US" sz="3600" spc="-1" strike="noStrike">
                <a:solidFill>
                  <a:srgbClr val="161645"/>
                </a:solidFill>
                <a:latin typeface="Arial"/>
              </a:rPr>
              <a:t> typical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clothing for a day at the beac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On my signal,  turn and talk with your partner about what WOULD NOT be </a:t>
            </a:r>
            <a:r>
              <a:rPr b="1" lang="en-US" sz="3600" spc="-1" strike="noStrike">
                <a:solidFill>
                  <a:srgbClr val="161645"/>
                </a:solidFill>
                <a:latin typeface="Arial"/>
              </a:rPr>
              <a:t>typical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clothing for a day at the beac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6402600" y="152280"/>
            <a:ext cx="2472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Objective: To develop robust vocabular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by discussing ideas and situa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0" y="0"/>
            <a:ext cx="2286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define, identify, and write ver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9"/>
          <p:cNvSpPr/>
          <p:nvPr/>
        </p:nvSpPr>
        <p:spPr>
          <a:xfrm>
            <a:off x="533520" y="380880"/>
            <a:ext cx="8458200" cy="45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eld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re were lots of contests on Fiel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y.  We climbed ropes.  We kick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lls.  Some people did races.  At noon, everyone ate a picnic lunch.  It was 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n d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07"/>
          <p:cNvSpPr/>
          <p:nvPr/>
        </p:nvSpPr>
        <p:spPr>
          <a:xfrm>
            <a:off x="0" y="639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11"/>
          <p:cNvSpPr/>
          <p:nvPr/>
        </p:nvSpPr>
        <p:spPr>
          <a:xfrm>
            <a:off x="0" y="15228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Find the verbs in the s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7"/>
          <p:cNvSpPr/>
          <p:nvPr/>
        </p:nvSpPr>
        <p:spPr>
          <a:xfrm>
            <a:off x="2085120" y="3809880"/>
            <a:ext cx="5694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your own story with verb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at _____ to the ball.  She _______ the ball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across the room.  That cat _____ to 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es and then ______ the shoestrin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w, you will read the underlined verbs, and I will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he rest of the wo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6"/>
          <p:cNvSpPr/>
          <p:nvPr/>
        </p:nvSpPr>
        <p:spPr>
          <a:xfrm>
            <a:off x="8001000" y="0"/>
            <a:ext cx="1143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what a research report 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0" y="457200"/>
            <a:ext cx="9144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0000"/>
                </a:solidFill>
                <a:uFillTx/>
                <a:latin typeface="Arial"/>
              </a:rPr>
              <a:t>Research Repor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 research report has a tit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he first sentence tells the main ide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he other sentences tell fact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5"/>
          <p:cNvSpPr/>
          <p:nvPr/>
        </p:nvSpPr>
        <p:spPr>
          <a:xfrm>
            <a:off x="380880" y="380880"/>
            <a:ext cx="8382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search Repo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Let’s share yesterday’s KWL charts and make sure of these important poi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Make sure your questions are about your top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Cross out questions that don’t fit or make sen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Add more questions that would fit and make sen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8001000" y="0"/>
            <a:ext cx="1143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what a research report 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4"/>
          <p:cNvSpPr/>
          <p:nvPr/>
        </p:nvSpPr>
        <p:spPr>
          <a:xfrm>
            <a:off x="8001000" y="0"/>
            <a:ext cx="1143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nderstand what a research repor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W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457200" y="1600200"/>
          <a:ext cx="8229600" cy="43387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86240" y="228600"/>
            <a:ext cx="2057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spond to the poem through art in a way that reflects understanding and interpret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2209680" y="0"/>
            <a:ext cx="4800600" cy="37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1" i="1" lang="en-US" sz="4400" spc="-1" strike="noStrike">
                <a:solidFill>
                  <a:srgbClr val="000000"/>
                </a:solidFill>
                <a:latin typeface="Constantia"/>
              </a:rPr>
              <a:t>The Gupp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3" descr="C:\Documents and Settings\pawley\My Documents\My Pictures\guppy.jpg"/>
          <p:cNvPicPr/>
          <p:nvPr/>
        </p:nvPicPr>
        <p:blipFill>
          <a:blip r:embed="rId1"/>
          <a:stretch/>
        </p:blipFill>
        <p:spPr>
          <a:xfrm>
            <a:off x="1447920" y="1676520"/>
            <a:ext cx="64008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les have cal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ts have kitte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ars have cub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ts have bitte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wans have cygnet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als have puppi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t guppies ju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ve little guppie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4"/>
          <p:cNvSpPr txBox="1"/>
          <p:nvPr/>
        </p:nvSpPr>
        <p:spPr>
          <a:xfrm>
            <a:off x="2209680" y="228600"/>
            <a:ext cx="48006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he Guppy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7086600" y="228600"/>
            <a:ext cx="2057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spond to the poem through art in a way that reflects understanding and interpret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"/>
          <p:cNvPicPr/>
          <p:nvPr/>
        </p:nvPicPr>
        <p:blipFill>
          <a:blip r:embed="rId3"/>
          <a:stretch/>
        </p:blipFill>
        <p:spPr>
          <a:xfrm>
            <a:off x="6400800" y="1981080"/>
            <a:ext cx="2590920" cy="1741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"/>
          <p:cNvPicPr/>
          <p:nvPr/>
        </p:nvPicPr>
        <p:blipFill>
          <a:blip r:embed="rId4"/>
          <a:stretch/>
        </p:blipFill>
        <p:spPr>
          <a:xfrm>
            <a:off x="304920" y="1905120"/>
            <a:ext cx="2361960" cy="1573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"/>
          <p:cNvPicPr/>
          <p:nvPr/>
        </p:nvPicPr>
        <p:blipFill>
          <a:blip r:embed="rId5"/>
          <a:stretch/>
        </p:blipFill>
        <p:spPr>
          <a:xfrm>
            <a:off x="152280" y="4724280"/>
            <a:ext cx="2362320" cy="1573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"/>
          <p:cNvPicPr/>
          <p:nvPr/>
        </p:nvPicPr>
        <p:blipFill>
          <a:blip r:embed="rId6"/>
          <a:stretch/>
        </p:blipFill>
        <p:spPr>
          <a:xfrm>
            <a:off x="6553080" y="4648320"/>
            <a:ext cx="233388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ood-by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ind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n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isi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3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3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3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3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3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3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3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3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delete phonemes to change word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-228960" y="1218960"/>
            <a:ext cx="5181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eletion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7" descr="MPj04385490000[1]"/>
          <p:cNvPicPr/>
          <p:nvPr/>
        </p:nvPicPr>
        <p:blipFill>
          <a:blip r:embed="rId1"/>
          <a:stretch/>
        </p:blipFill>
        <p:spPr>
          <a:xfrm>
            <a:off x="4419720" y="1447920"/>
            <a:ext cx="4341600" cy="47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657600" y="1294920"/>
            <a:ext cx="2286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u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4114800" y="1219320"/>
            <a:ext cx="457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3962520" y="1981080"/>
            <a:ext cx="22096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9"/>
          <p:cNvSpPr/>
          <p:nvPr/>
        </p:nvSpPr>
        <p:spPr>
          <a:xfrm>
            <a:off x="3581280" y="1981080"/>
            <a:ext cx="914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7"/>
          <p:cNvSpPr/>
          <p:nvPr/>
        </p:nvSpPr>
        <p:spPr>
          <a:xfrm>
            <a:off x="4572000" y="19810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2"/>
          <p:cNvSpPr/>
          <p:nvPr/>
        </p:nvSpPr>
        <p:spPr>
          <a:xfrm>
            <a:off x="3733920" y="274320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3"/>
          <p:cNvSpPr/>
          <p:nvPr/>
        </p:nvSpPr>
        <p:spPr>
          <a:xfrm>
            <a:off x="4419720" y="2743200"/>
            <a:ext cx="236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4"/>
          <p:cNvSpPr/>
          <p:nvPr/>
        </p:nvSpPr>
        <p:spPr>
          <a:xfrm>
            <a:off x="4800600" y="2743200"/>
            <a:ext cx="236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5"/>
          <p:cNvSpPr/>
          <p:nvPr/>
        </p:nvSpPr>
        <p:spPr>
          <a:xfrm>
            <a:off x="3429000" y="35812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6"/>
          <p:cNvSpPr/>
          <p:nvPr/>
        </p:nvSpPr>
        <p:spPr>
          <a:xfrm>
            <a:off x="4267080" y="3581280"/>
            <a:ext cx="205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8"/>
          <p:cNvSpPr/>
          <p:nvPr/>
        </p:nvSpPr>
        <p:spPr>
          <a:xfrm>
            <a:off x="4648320" y="3581280"/>
            <a:ext cx="99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5"/>
          <p:cNvSpPr/>
          <p:nvPr/>
        </p:nvSpPr>
        <p:spPr>
          <a:xfrm>
            <a:off x="3657600" y="44956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6"/>
          <p:cNvSpPr/>
          <p:nvPr/>
        </p:nvSpPr>
        <p:spPr>
          <a:xfrm>
            <a:off x="4267080" y="4495680"/>
            <a:ext cx="2133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7"/>
          <p:cNvSpPr/>
          <p:nvPr/>
        </p:nvSpPr>
        <p:spPr>
          <a:xfrm>
            <a:off x="4800600" y="44956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4955760" y="2743200"/>
            <a:ext cx="34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uil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505320" y="1294920"/>
            <a:ext cx="22096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u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3962520" y="1295280"/>
            <a:ext cx="1218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3352680" y="2133720"/>
            <a:ext cx="22100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200400" y="2133720"/>
            <a:ext cx="838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3581280" y="38862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3962520" y="213372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3352680" y="28954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2"/>
          <p:cNvSpPr/>
          <p:nvPr/>
        </p:nvSpPr>
        <p:spPr>
          <a:xfrm>
            <a:off x="3733920" y="2895480"/>
            <a:ext cx="2438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3"/>
          <p:cNvSpPr/>
          <p:nvPr/>
        </p:nvSpPr>
        <p:spPr>
          <a:xfrm>
            <a:off x="4191120" y="28954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4"/>
          <p:cNvSpPr/>
          <p:nvPr/>
        </p:nvSpPr>
        <p:spPr>
          <a:xfrm>
            <a:off x="3352680" y="38098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3733920" y="3809880"/>
            <a:ext cx="1904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 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6"/>
          <p:cNvSpPr/>
          <p:nvPr/>
        </p:nvSpPr>
        <p:spPr>
          <a:xfrm>
            <a:off x="4191120" y="380988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4"/>
          <p:cNvSpPr/>
          <p:nvPr/>
        </p:nvSpPr>
        <p:spPr>
          <a:xfrm>
            <a:off x="3200400" y="12952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75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75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7543800" y="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long vowel /(y) o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wo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4"/>
          <p:cNvSpPr/>
          <p:nvPr/>
        </p:nvSpPr>
        <p:spPr>
          <a:xfrm>
            <a:off x="685800" y="457200"/>
            <a:ext cx="22096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2251"/>
              </a:spcBef>
              <a:buClr>
                <a:srgbClr val="3366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Comic Sans MS"/>
              </a:rPr>
              <a:t>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spcBef>
                <a:spcPts val="2251"/>
              </a:spcBef>
              <a:buClr>
                <a:srgbClr val="3366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Comic Sans MS"/>
              </a:rPr>
              <a:t>cu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spcBef>
                <a:spcPts val="2251"/>
              </a:spcBef>
              <a:buClr>
                <a:srgbClr val="3366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Comic Sans MS"/>
              </a:rPr>
              <a:t>cu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spcBef>
                <a:spcPts val="2251"/>
              </a:spcBef>
              <a:buClr>
                <a:srgbClr val="3366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Comic Sans MS"/>
              </a:rPr>
              <a:t>tu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spcBef>
                <a:spcPts val="2251"/>
              </a:spcBef>
              <a:buClr>
                <a:srgbClr val="3366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Comic Sans MS"/>
              </a:rPr>
              <a:t>tu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6"/>
          <p:cNvSpPr/>
          <p:nvPr/>
        </p:nvSpPr>
        <p:spPr>
          <a:xfrm>
            <a:off x="2966040" y="2133720"/>
            <a:ext cx="2564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buClr>
                <a:srgbClr val="cc3300"/>
              </a:buClr>
              <a:buFont typeface="Comic Sans MS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00"/>
                </a:solidFill>
                <a:latin typeface="Comic Sans MS"/>
              </a:rPr>
              <a:t>ru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cc3300"/>
              </a:buClr>
              <a:buFont typeface="Comic Sans MS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00"/>
                </a:solidFill>
                <a:latin typeface="Comic Sans MS"/>
              </a:rPr>
              <a:t>ni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cc3300"/>
              </a:buClr>
              <a:buFont typeface="Comic Sans MS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00"/>
                </a:solidFill>
                <a:latin typeface="Comic Sans MS"/>
              </a:rPr>
              <a:t>he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cc3300"/>
              </a:buClr>
              <a:buFont typeface="Comic Sans MS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00"/>
                </a:solidFill>
                <a:latin typeface="Comic Sans MS"/>
              </a:rPr>
              <a:t>tal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cc3300"/>
              </a:buClr>
              <a:buFont typeface="Comic Sans MS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00"/>
                </a:solidFill>
                <a:latin typeface="Comic Sans MS"/>
              </a:rPr>
              <a:t>lar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7"/>
          <p:cNvSpPr/>
          <p:nvPr/>
        </p:nvSpPr>
        <p:spPr>
          <a:xfrm>
            <a:off x="5619960" y="1143000"/>
            <a:ext cx="3465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What do words one through s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have in comm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ook at words eight and nine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hich word is something you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ith your ears?   Which word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omething you do with y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out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Janice Wagnon</dc:creator>
  <dc:description/>
  <dc:language>en-US</dc:language>
  <cp:lastModifiedBy>janice</cp:lastModifiedBy>
  <dcterms:modified xsi:type="dcterms:W3CDTF">2009-03-25T02:50:00Z</dcterms:modified>
  <cp:revision>222</cp:revision>
  <dc:subject/>
  <dc:title>Slide 1</dc:title>
</cp:coreProperties>
</file>